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4.png" ContentType="image/png"/>
  <Override PartName="/ppt/media/image22.png" ContentType="image/png"/>
  <Override PartName="/ppt/media/image29.png" ContentType="image/png"/>
  <Override PartName="/ppt/media/image6.png" ContentType="image/png"/>
  <Override PartName="/ppt/media/image7.png" ContentType="image/png"/>
  <Override PartName="/ppt/media/image32.png" ContentType="image/png"/>
  <Override PartName="/ppt/media/image12.png" ContentType="image/png"/>
  <Override PartName="/ppt/media/image8.png" ContentType="image/png"/>
  <Override PartName="/ppt/media/image14.jpeg" ContentType="image/jpeg"/>
  <Override PartName="/ppt/media/image33.png" ContentType="image/png"/>
  <Override PartName="/ppt/media/image9.png" ContentType="image/png"/>
  <Override PartName="/ppt/media/image11.png" ContentType="image/png"/>
  <Override PartName="/ppt/media/image23.png" ContentType="image/png"/>
  <Override PartName="/ppt/media/image13.jpeg" ContentType="image/jpeg"/>
  <Override PartName="/ppt/media/image30.jpeg" ContentType="image/jpeg"/>
  <Override PartName="/ppt/media/image3.jpeg" ContentType="image/jpeg"/>
  <Override PartName="/ppt/media/image15.png" ContentType="image/png"/>
  <Override PartName="/ppt/media/image4.jpeg" ContentType="image/jpeg"/>
  <Override PartName="/ppt/media/image25.png" ContentType="image/png"/>
  <Override PartName="/ppt/media/image1.jpeg" ContentType="image/jpeg"/>
  <Override PartName="/ppt/media/image10.png" ContentType="image/png"/>
  <Override PartName="/ppt/media/image5.png" ContentType="image/png"/>
  <Override PartName="/ppt/media/image31.wmf" ContentType="image/x-wmf"/>
  <Override PartName="/ppt/media/image28.png" ContentType="image/pn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media/image19.png" ContentType="image/png"/>
  <Override PartName="/ppt/media/image2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80"/>
                </a:solidFill>
                <a:latin typeface="Arial"/>
              </a:rPr>
              <a:t>Click to move the slide</a:t>
            </a:r>
            <a:endParaRPr b="0" lang="en-US" sz="3600" spc="-1" strike="noStrike">
              <a:solidFill>
                <a:srgbClr val="00008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104CC-D15F-41E6-9CFF-C6AC54C6B8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CTAPIV AT&amp;T poster located at &lt;http://www.ctap4.org/cybersafety/&g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ort from the Federal Trade Commission: </a:t>
            </a:r>
            <a:r>
              <a:rPr b="0" lang="en-US" sz="1200" spc="-1" strike="noStrike" u="sng">
                <a:solidFill>
                  <a:srgbClr val="009999"/>
                </a:solidFill>
                <a:uFillTx/>
                <a:latin typeface="Arial"/>
                <a:hlinkClick r:id="rId1" action="ppaction://hlinksldjump"/>
              </a:rPr>
              <a:t>"Peer-to-Peer File-Sharing Technology: Consumer Protection and Competition Issues"</a:t>
            </a:r>
            <a:r>
              <a:rPr b="0" lang="en-US" sz="1200" spc="-1" strike="noStrike">
                <a:solidFill>
                  <a:srgbClr val="000000"/>
                </a:solidFill>
                <a:latin typeface="Arial"/>
              </a:rPr>
              <a:t> can be downloaded at &lt;http://www.ftc.gov/reports/p2p05/050623p2prpt.pdf&gt;</a:t>
            </a:r>
            <a:endParaRPr b="0" lang="en-US" sz="1200" spc="-1" strike="noStrike">
              <a:solidFill>
                <a:srgbClr val="000000"/>
              </a:solidFill>
              <a:latin typeface="Arial"/>
            </a:endParaRPr>
          </a:p>
          <a:p>
            <a:pPr indent="0">
              <a:spcBef>
                <a:spcPts val="451"/>
              </a:spcBef>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read a summary of the report at &lt;http://www.netfamilynews.org/nl050701.html#1&gt;</a:t>
            </a:r>
            <a:endParaRPr b="0" lang="en-US" sz="1200" spc="-1" strike="noStrike">
              <a:solidFill>
                <a:srgbClr val="000000"/>
              </a:solidFill>
              <a:latin typeface="Arial"/>
            </a:endParaRPr>
          </a:p>
          <a:p>
            <a:pPr indent="0">
              <a:spcBef>
                <a:spcPts val="451"/>
              </a:spcBef>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descri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76cf9"/>
                </a:solidFill>
                <a:latin typeface="Arial"/>
              </a:rPr>
              <a:t>K-8 Copyright with Cyberbee - </a:t>
            </a:r>
            <a:r>
              <a:rPr b="0" lang="en-US" sz="1200" spc="-1" strike="noStrike">
                <a:solidFill>
                  <a:srgbClr val="376cf9"/>
                </a:solidFill>
                <a:latin typeface="Arial"/>
              </a:rPr>
              <a:t>Found under students, </a:t>
            </a:r>
            <a:r>
              <a:rPr b="0" lang="en-US" sz="1200" spc="-1" strike="noStrike">
                <a:solidFill>
                  <a:srgbClr val="000000"/>
                </a:solidFill>
                <a:latin typeface="Arial"/>
              </a:rPr>
              <a:t>click to view the interactive copyright questions and answers for an interactive primer on copyright. Resources and lesson ideas for teachers regarding the use of copyright material are also found on the site.</a:t>
            </a:r>
            <a:r>
              <a:rPr b="1" lang="en-US" sz="1200" spc="-1" strike="noStrike">
                <a:solidFill>
                  <a:srgbClr val="bb3711"/>
                </a:solidFill>
                <a:latin typeface="Arial"/>
              </a:rPr>
              <a:t> </a:t>
            </a:r>
            <a:r>
              <a:rPr b="0" lang="en-US" sz="1200" spc="-1" strike="noStrike">
                <a:solidFill>
                  <a:srgbClr val="000000"/>
                </a:solidFill>
                <a:latin typeface="Arial"/>
              </a:rPr>
              <a:t>&lt;http://www.cyberbee.com/copyrt.html&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76cf9"/>
                </a:solidFill>
                <a:latin typeface="Arial"/>
              </a:rPr>
              <a:t>9-12 Plagiarism</a:t>
            </a:r>
            <a:r>
              <a:rPr b="1" lang="en-US" sz="1200" spc="-1" strike="noStrike">
                <a:solidFill>
                  <a:srgbClr val="000000"/>
                </a:solidFill>
                <a:latin typeface="Arial"/>
              </a:rPr>
              <a:t> Site</a:t>
            </a:r>
            <a:r>
              <a:rPr b="0" lang="en-US" sz="1200" spc="-1" strike="noStrike">
                <a:solidFill>
                  <a:srgbClr val="000000"/>
                </a:solidFill>
                <a:latin typeface="Arial"/>
              </a:rPr>
              <a:t> </a:t>
            </a:r>
            <a:r>
              <a:rPr b="1" lang="en-US" sz="1200" spc="-1" strike="noStrike">
                <a:solidFill>
                  <a:srgbClr val="000000"/>
                </a:solidFill>
                <a:latin typeface="Arial"/>
              </a:rPr>
              <a:t>Flash Tutorial</a:t>
            </a:r>
            <a:r>
              <a:rPr b="0" lang="en-US" sz="1200" spc="-1" strike="noStrike">
                <a:solidFill>
                  <a:srgbClr val="000000"/>
                </a:solidFill>
                <a:latin typeface="Arial"/>
              </a:rPr>
              <a:t> - Found under students, a self-paced, illustrated tutorial from Acadia University. Designed to educate students about researching "ethically.” Great for high school and beyond. &lt;http://library.acadiau.ca/tutorials/plagiarism/&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76cf9"/>
                </a:solidFill>
                <a:latin typeface="Arial"/>
              </a:rPr>
              <a:t>Online-Safety Resources for the Home: File-sharing realities for families - </a:t>
            </a:r>
            <a:r>
              <a:rPr b="0" lang="en-US" sz="1200" spc="-1" strike="noStrike">
                <a:solidFill>
                  <a:srgbClr val="376cf9"/>
                </a:solidFill>
                <a:latin typeface="Arial"/>
              </a:rPr>
              <a:t>Found under parents</a:t>
            </a:r>
            <a:r>
              <a:rPr b="1" lang="en-US" sz="1200" spc="-1" strike="noStrike">
                <a:solidFill>
                  <a:srgbClr val="376cf9"/>
                </a:solidFill>
                <a:latin typeface="Arial"/>
              </a:rPr>
              <a:t>, </a:t>
            </a:r>
            <a:r>
              <a:rPr b="0" lang="en-US" sz="1200" spc="-1" strike="noStrike">
                <a:solidFill>
                  <a:srgbClr val="000000"/>
                </a:solidFill>
                <a:latin typeface="Arial"/>
              </a:rPr>
              <a:t>this article from Netfamilynews is a great resource to get the details on what parents should know about the legal risks of kids file sharing on their home computers. &lt;http://www.netfamilynews.org/resourcesP2P05.htm&g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CTAPIV AT&amp;T poster located at &lt;http://www.ctap4.org/cybersafety/&g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08d47"/>
                </a:solidFill>
                <a:latin typeface="Arial"/>
              </a:rPr>
              <a:t>Resource descriptions: </a:t>
            </a:r>
            <a:r>
              <a:rPr b="0" lang="en-US" sz="1200" spc="-1" strike="noStrike">
                <a:solidFill>
                  <a:srgbClr val="000000"/>
                </a:solidFill>
                <a:latin typeface="Arial"/>
              </a:rPr>
              <a:t>http://www.ctap4.org/cybersafety/cb.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our student resources, </a:t>
            </a:r>
            <a:r>
              <a:rPr b="0" lang="en-US" sz="1200" spc="-1" strike="noStrike">
                <a:solidFill>
                  <a:srgbClr val="f08d47"/>
                </a:solidFill>
                <a:latin typeface="Arial"/>
              </a:rPr>
              <a:t>Netsmartz offers EXCELLENT</a:t>
            </a:r>
            <a:r>
              <a:rPr b="0" lang="en-US" sz="1200" spc="-1" strike="noStrike" u="sng">
                <a:solidFill>
                  <a:srgbClr val="f08d47"/>
                </a:solidFill>
                <a:uFillTx/>
                <a:latin typeface="Arial"/>
              </a:rPr>
              <a:t> </a:t>
            </a:r>
            <a:r>
              <a:rPr b="1" lang="en-US" sz="1200" spc="-1" strike="noStrike">
                <a:solidFill>
                  <a:srgbClr val="f08d47"/>
                </a:solidFill>
                <a:latin typeface="Arial"/>
              </a:rPr>
              <a:t>Real-Life Stories</a:t>
            </a:r>
            <a:r>
              <a:rPr b="0" lang="en-US" sz="1200" spc="-1" strike="noStrike">
                <a:solidFill>
                  <a:srgbClr val="f08d47"/>
                </a:solidFill>
                <a:latin typeface="Arial"/>
              </a:rPr>
              <a:t> as video vignettes about cyberbullying</a:t>
            </a:r>
            <a:r>
              <a:rPr b="0" lang="en-US" sz="1200" spc="-1" strike="noStrike" u="sng">
                <a:solidFill>
                  <a:srgbClr val="f08d47"/>
                </a:solidFill>
                <a:uFillTx/>
                <a:latin typeface="Arial"/>
              </a:rPr>
              <a:t>. </a:t>
            </a:r>
            <a:r>
              <a:rPr b="0" lang="en-US" sz="1200" spc="-1" strike="noStrike">
                <a:solidFill>
                  <a:srgbClr val="f08d47"/>
                </a:solidFill>
                <a:latin typeface="Arial"/>
              </a:rPr>
              <a:t>In, “You Can't Take It Back"</a:t>
            </a:r>
            <a:r>
              <a:rPr b="0" lang="en-US" sz="1200" spc="-1" strike="noStrike" u="sng">
                <a:solidFill>
                  <a:srgbClr val="f08d47"/>
                </a:solidFill>
                <a:uFillTx/>
                <a:latin typeface="Arial"/>
              </a:rPr>
              <a:t> </a:t>
            </a:r>
            <a:r>
              <a:rPr b="0" lang="en-US" sz="1200" spc="-1" strike="noStrike">
                <a:solidFill>
                  <a:srgbClr val="517ca9"/>
                </a:solidFill>
                <a:latin typeface="Arial"/>
              </a:rPr>
              <a:t>(Part 2 of 3, 1 1/2 minute video), a teen regrets his participation on a web site created to rate others at his school. </a:t>
            </a:r>
            <a:r>
              <a:rPr b="0" lang="en-US" sz="1200" spc="-1" strike="noStrike">
                <a:solidFill>
                  <a:srgbClr val="000000"/>
                </a:solidFill>
                <a:latin typeface="Arial"/>
              </a:rPr>
              <a:t>http://www.netsmartz.org/resources/reallife.htm  </a:t>
            </a:r>
            <a:r>
              <a:rPr b="0" lang="en-US" sz="1200" spc="-1" strike="noStrike">
                <a:solidFill>
                  <a:srgbClr val="517ca9"/>
                </a:solidFill>
                <a:latin typeface="Arial"/>
              </a:rPr>
              <a:t>In "Cyberbullying: Broken Friendship" (Part 3 of 3, 1 minute, 40 second video), a friendship is broken when a teen gives her best friend's password to some other girls at school.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yber Bullying is considered a form of harassment in most states (including CA) and can be punishable by law as a misdemeanor - and in some cases a felony - if there is a reasonable threat to a person’s personal safety. For more information on the law and establishing school “nexus,” see </a:t>
            </a:r>
            <a:r>
              <a:rPr b="1" lang="en-US" sz="1200" spc="-1" strike="noStrike">
                <a:solidFill>
                  <a:srgbClr val="376cf9"/>
                </a:solidFill>
                <a:latin typeface="Arial"/>
              </a:rPr>
              <a:t>The Educator’s Guide to Cyberbullying</a:t>
            </a:r>
            <a:r>
              <a:rPr b="0" lang="en-US" sz="1200" spc="-1" strike="noStrike">
                <a:solidFill>
                  <a:srgbClr val="000000"/>
                </a:solidFill>
                <a:latin typeface="Arial"/>
              </a:rPr>
              <a:t> (.pdf download) from The Center for Safe and Responsible Internet Use under our teacher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arch is sited from Bullying Myth and Facts on &lt;www.bullying.org&gt; The research s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ying stops in less than 10 seconds, 57% of the time when peers intervene on behalf of the victim. -(Pepler et al., 199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educators, in </a:t>
            </a:r>
            <a:r>
              <a:rPr b="1" lang="en-US" sz="1200" spc="-1" strike="noStrike">
                <a:solidFill>
                  <a:srgbClr val="000000"/>
                </a:solidFill>
                <a:latin typeface="Arial"/>
              </a:rPr>
              <a:t>Dealing with Online Bullies</a:t>
            </a:r>
            <a:r>
              <a:rPr b="0" lang="en-US" sz="1200" spc="-1" strike="noStrike">
                <a:solidFill>
                  <a:srgbClr val="000000"/>
                </a:solidFill>
                <a:latin typeface="Arial"/>
              </a:rPr>
              <a:t>, a lesson plan from CyberSmartCurriculum.org, students reflect on the rewards of cyberspace and then consider bullying scenarios in which they examine their personal comfort levels. They learn to recognize such feelings and responsibly handle the unacceptable behavior of others. &lt;http://www.cybersmartcurriculum.org/lesson_plans/68_04.asp&g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CTAPIV AT&amp;T poster located at &lt;http://www.ctap4.org/cybersafety/&g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our website under educator resources: StaySafeOnline.org’s “Social Networking Sites: Today’s Hippest Meeting Place: An educator, Parent, and Guardian Guide” provides guidelines for how to teach young people safe online practic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iendster.com was one of the original social-networking sites, started in 2003. Facebook, started by a Harvard student, is represented on every four-year college and university campus in the United States. MySpace was started about the same time as Friendster but was the turning point for social networking because it allowed the combining of profiles, friends, and media-rich self-express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Yearbook.com was started by high-school students on their spring break in 2005. Therefore it is not beholding to share holders and is more difficult to encourage responsible online behavior. </a:t>
            </a:r>
            <a:r>
              <a:rPr b="0" lang="en-US" sz="1200" spc="-1" strike="noStrike">
                <a:solidFill>
                  <a:srgbClr val="000000"/>
                </a:solidFill>
                <a:latin typeface="Arial"/>
                <a:ea typeface="Arial"/>
              </a:rPr>
              <a:t>News reports say it is growing at a faster rate than MySpace, which by the way is the second most visited site on the web. MyYearbook had no advertising when it started. Notice the reference to the ease of bullying on this site. Since this screenshot in the summer of ‘06, they removed that tagline and took on advertising. </a:t>
            </a:r>
            <a:r>
              <a:rPr b="0" lang="en-US" sz="1200" spc="-1" strike="noStrike">
                <a:solidFill>
                  <a:srgbClr val="000000"/>
                </a:solidFill>
                <a:latin typeface="Arial"/>
              </a:rPr>
              <a:t>Wikipedia lists more than 75 on their “Notable Social-networking Sites” and the list just keeps growing. &lt;http://en.wikipedia.org/wiki/List_of_social_networking_websites&g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filters the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rtainly no school can operate the internet without filters in place – and they can be a good idea in the home to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most filters block site content or site addresses. They do not block Internet communications such as instant messaging. And kids know how to get around them anyway. </a:t>
            </a:r>
            <a:r>
              <a:rPr b="0" lang="en-US" sz="1200" spc="-1" strike="noStrike">
                <a:solidFill>
                  <a:srgbClr val="000000"/>
                </a:solidFill>
                <a:latin typeface="Arial"/>
                <a:ea typeface="Arial"/>
              </a:rPr>
              <a:t>Tech savvy students have LOTS of options for beating school filters. One of the easiest ways is via proxy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oxy server acts like a money launderer would. You submit your request to the proxy server for an inappropriate page – the proxy server loads that page and then sends you the content. This type of filter bypass works on filters that employ website block or labels. The filter sees the proxy server as an OK website and permits material throug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 excerpted and modified from Walpole Beyond Awareness Part1 slideshow presented at NECC 2006.)</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ere, for example, is a middle school Literature teacher who has students prepare profile pages for the characters in Shakespeare's Richard III. This exercise offers students a rich opportunity to dig deeper into fictional characters and understand what makes them tick. You could of course do much the same thing in a written paper but let's face it -- the activity would not be nearly as engaging.” (Quoted from </a:t>
            </a:r>
            <a:r>
              <a:rPr b="0" lang="en-US" sz="1200" spc="-1" strike="noStrike">
                <a:solidFill>
                  <a:srgbClr val="bb3711"/>
                </a:solidFill>
                <a:latin typeface="Arial"/>
              </a:rPr>
              <a:t>MIT Prof. Henry Jenkins' blog &lt;</a:t>
            </a:r>
            <a:r>
              <a:rPr b="0" lang="en-US" sz="1200" spc="-1" strike="noStrike">
                <a:solidFill>
                  <a:srgbClr val="000000"/>
                </a:solidFill>
                <a:latin typeface="Arial"/>
              </a:rPr>
              <a:t>http://www.henryjenkins.org/2006/08/what_dopa_means_for_education_1.html&g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CTAPIV AT&amp;T poster located at &lt;http://www.ctap4.org/cybersafety/&g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Student Resources on our website:</a:t>
            </a:r>
            <a:r>
              <a:rPr b="1" lang="en-US" sz="1200" spc="-1" strike="noStrike">
                <a:solidFill>
                  <a:srgbClr val="000000"/>
                </a:solidFill>
                <a:latin typeface="Arial"/>
              </a:rPr>
              <a:t> Wired Safety Video Resources </a:t>
            </a:r>
            <a:r>
              <a:rPr b="0" lang="en-US" sz="1200" spc="-1" strike="noStrike">
                <a:solidFill>
                  <a:srgbClr val="000000"/>
                </a:solidFill>
                <a:latin typeface="Arial"/>
              </a:rPr>
              <a:t>have "You Never Know" PSA's to help kids learn to question the information they receive. &lt;http://www.wiredsafety.org/wiredlearning/videos/index.html&g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dditional tips and resources on this topic see &lt;http://www.ctap4.org/cybersafety/sn.htm&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deral policies created to protect our children include CIPA, COPPA and D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PA:</a:t>
            </a:r>
            <a:r>
              <a:rPr b="0" lang="en-US" sz="1200" spc="-1" strike="noStrike">
                <a:solidFill>
                  <a:srgbClr val="000000"/>
                </a:solidFill>
                <a:latin typeface="Arial"/>
              </a:rPr>
              <a:t> </a:t>
            </a:r>
            <a:r>
              <a:rPr b="0" lang="en-US" sz="1200" spc="-1" strike="noStrike">
                <a:solidFill>
                  <a:srgbClr val="000000"/>
                </a:solidFill>
                <a:latin typeface="Arial"/>
              </a:rPr>
              <a:t>The C</a:t>
            </a:r>
            <a:r>
              <a:rPr b="0" lang="en-US" sz="1200" spc="-1" strike="noStrike">
                <a:solidFill>
                  <a:srgbClr val="000000"/>
                </a:solidFill>
                <a:latin typeface="Arial"/>
              </a:rPr>
              <a:t>hildren</a:t>
            </a:r>
            <a:r>
              <a:rPr b="0" lang="en-US" sz="1200" spc="-1" strike="noStrike">
                <a:solidFill>
                  <a:srgbClr val="000000"/>
                </a:solidFill>
                <a:latin typeface="Arial"/>
              </a:rPr>
              <a:t>’s</a:t>
            </a:r>
            <a:r>
              <a:rPr b="0" lang="en-US" sz="1200" spc="-1" strike="noStrike">
                <a:solidFill>
                  <a:srgbClr val="000000"/>
                </a:solidFill>
                <a:latin typeface="Arial"/>
              </a:rPr>
              <a:t> Internet Protection Act affects schools and libraries that receive E-rate discounts for Internet access. CIPA requires that districts develop an Internet Safety Plan addressing: 1.Access to inappropriate content. 2.Safety and security when using electronic communications. 3.Unauthorized online access, "hacking” etc. 4.Unauthorized disclosure and use of pers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PA:</a:t>
            </a:r>
            <a:r>
              <a:rPr b="0" lang="en-US" sz="1200" spc="-1" strike="noStrike">
                <a:solidFill>
                  <a:srgbClr val="000000"/>
                </a:solidFill>
                <a:latin typeface="Arial"/>
              </a:rPr>
              <a:t> The Children's Online Privacy Protection Act, enforced by the Federal Trade Commission, requires commercial website operators to get parental consent before collecting any personal information from kids under 13. &lt;http://www.ftc.gov/bcp/conline/pubs/online/teachers.htm&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PA:</a:t>
            </a:r>
            <a:r>
              <a:rPr b="0" lang="en-US" sz="1200" spc="-1" strike="noStrike">
                <a:solidFill>
                  <a:srgbClr val="000000"/>
                </a:solidFill>
                <a:latin typeface="Arial"/>
              </a:rPr>
              <a:t> </a:t>
            </a:r>
            <a:r>
              <a:rPr b="0" lang="en-US" sz="1200" spc="-1" strike="noStrike">
                <a:solidFill>
                  <a:srgbClr val="111111"/>
                </a:solidFill>
                <a:latin typeface="Arial"/>
              </a:rPr>
              <a:t>Deleting Online Predators Act would effectively require most schools and libraries to render social networking sites inaccessible to minors. The concern by many over DOPA is that it would block a broad category of commercial Web sites that let users create public "Web pages or profiles" sweeping in a wide range of interactive Web sites, like blogs, that are effectively being used for education. </a:t>
            </a:r>
            <a:r>
              <a:rPr b="0" lang="en-US" sz="1200" spc="-1" strike="noStrike">
                <a:solidFill>
                  <a:srgbClr val="000000"/>
                </a:solidFill>
                <a:latin typeface="Arial"/>
              </a:rPr>
              <a:t> &lt;http://news.com.com/2100-1028_3-6071040.html&g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ts from: http://www.issues.org/20.2/thornburgh.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parent resources is a parent video from Wired Safety on </a:t>
            </a:r>
            <a:r>
              <a:rPr b="1" lang="en-US" sz="1200" spc="-1" strike="noStrike">
                <a:solidFill>
                  <a:srgbClr val="376cf9"/>
                </a:solidFill>
                <a:latin typeface="Arial"/>
              </a:rPr>
              <a:t>Parental Controls for Preventing Exposure to Pornography Online</a:t>
            </a:r>
            <a:r>
              <a:rPr b="1" lang="en-US" sz="1200" spc="-1" strike="noStrike" u="sng">
                <a:solidFill>
                  <a:srgbClr val="376cf9"/>
                </a:solidFill>
                <a:uFillTx/>
                <a:latin typeface="Arial"/>
              </a:rPr>
              <a:t> </a:t>
            </a:r>
            <a:r>
              <a:rPr b="0" lang="en-US" sz="1200" spc="-1" strike="noStrike">
                <a:solidFill>
                  <a:srgbClr val="000000"/>
                </a:solidFill>
                <a:latin typeface="Arial"/>
              </a:rPr>
              <a:t>&lt;http://www.wiredsafety.org/wiredlearning/videos/index.html&gt;</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can also be educated to understand what is appropriate and what is not, in an age-appropriate way. Make sure your kids know what is suitable for children and what is not. If your child comes to you with a question about an inappropriate web site, be sure to thank them for asking you.</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talk a minute about your online life -- how do you use the Internet? What are you favorite web sites ? And Why?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the parent resources, </a:t>
            </a:r>
            <a:r>
              <a:rPr b="1" lang="en-US" sz="1200" spc="-1" strike="noStrike">
                <a:solidFill>
                  <a:srgbClr val="000000"/>
                </a:solidFill>
                <a:latin typeface="Arial"/>
              </a:rPr>
              <a:t>Internet Safety and Cyber Predator Awareness</a:t>
            </a:r>
            <a:r>
              <a:rPr b="0" lang="en-US" sz="1200" spc="-1" strike="noStrike">
                <a:solidFill>
                  <a:srgbClr val="000000"/>
                </a:solidFill>
                <a:latin typeface="Arial"/>
              </a:rPr>
              <a:t> is a resource from the State of Ohio's Attorney General's Office to educate you on Cyber Predators. &lt;http://www.ag.state.oh.us/citizen/isafety/index.asp&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ncy Willard describes the need to educate kids in stranger literacy, the ability to  determine the relative safety and veracity of individuals with whom one is communicating online who are unknown in  person. &lt;</a:t>
            </a:r>
            <a:r>
              <a:rPr b="0" lang="en-US" sz="1200" spc="-1" strike="noStrike">
                <a:solidFill>
                  <a:srgbClr val="000000"/>
                </a:solidFill>
                <a:latin typeface="Arial"/>
              </a:rPr>
              <a:t>http://csriu.org/onlinedocs/pdf/srui/sruilisting.html&gt;</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BS News article from Larry Magid has some great tips for using teachable moments to educate on this topic as he talks abou the Senator Mark Foley scandal that took place October, 200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hildren should be reminded not to engage in online discussions of a sexual nature with anyone, especially adults or people they don</a:t>
            </a:r>
            <a:r>
              <a:rPr b="0" lang="en-US" sz="1200" spc="-1" strike="noStrike">
                <a:solidFill>
                  <a:srgbClr val="000000"/>
                </a:solidFill>
                <a:latin typeface="Arial"/>
              </a:rPr>
              <a:t>’t</a:t>
            </a:r>
            <a:r>
              <a:rPr b="0" lang="en-US" sz="1200" spc="-1" strike="noStrike">
                <a:solidFill>
                  <a:srgbClr val="000000"/>
                </a:solidFill>
                <a:latin typeface="Arial"/>
              </a:rPr>
              <a:t> know. Kids and parents should know the warning signs of a potential predator including excessive praise, questions about what they</a:t>
            </a:r>
            <a:r>
              <a:rPr b="0" lang="en-US" sz="1200" spc="-1" strike="noStrike">
                <a:solidFill>
                  <a:srgbClr val="000000"/>
                </a:solidFill>
                <a:latin typeface="Arial"/>
              </a:rPr>
              <a:t>’r</a:t>
            </a:r>
            <a:r>
              <a:rPr b="0" lang="en-US" sz="1200" spc="-1" strike="noStrike">
                <a:solidFill>
                  <a:srgbClr val="000000"/>
                </a:solidFill>
                <a:latin typeface="Arial"/>
              </a:rPr>
              <a:t>e wearing or what they</a:t>
            </a:r>
            <a:r>
              <a:rPr b="0" lang="en-US" sz="1200" spc="-1" strike="noStrike">
                <a:solidFill>
                  <a:srgbClr val="000000"/>
                </a:solidFill>
                <a:latin typeface="Arial"/>
              </a:rPr>
              <a:t>’r</a:t>
            </a:r>
            <a:r>
              <a:rPr b="0" lang="en-US" sz="1200" spc="-1" strike="noStrike">
                <a:solidFill>
                  <a:srgbClr val="000000"/>
                </a:solidFill>
                <a:latin typeface="Arial"/>
              </a:rPr>
              <a:t>e doing or questions designed to determine whether their parents are nearby including </a:t>
            </a:r>
            <a:r>
              <a:rPr b="0" lang="en-US" sz="1200" spc="-1" strike="noStrike">
                <a:solidFill>
                  <a:srgbClr val="000000"/>
                </a:solidFill>
                <a:latin typeface="Arial"/>
              </a:rPr>
              <a:t>w</a:t>
            </a:r>
            <a:r>
              <a:rPr b="0" lang="en-US" sz="1200" spc="-1" strike="noStrike">
                <a:solidFill>
                  <a:srgbClr val="000000"/>
                </a:solidFill>
                <a:latin typeface="Arial"/>
              </a:rPr>
              <a:t>here</a:t>
            </a:r>
            <a:r>
              <a:rPr b="0" lang="en-US" sz="1200" spc="-1" strike="noStrike">
                <a:solidFill>
                  <a:srgbClr val="000000"/>
                </a:solidFill>
                <a:latin typeface="Arial"/>
              </a:rPr>
              <a:t>’s</a:t>
            </a:r>
            <a:r>
              <a:rPr b="0" lang="en-US" sz="1200" spc="-1" strike="noStrike">
                <a:solidFill>
                  <a:srgbClr val="000000"/>
                </a:solidFill>
                <a:latin typeface="Arial"/>
              </a:rPr>
              <a:t> the computer in the house?” To read more from Larry Magid’s article, se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ttp://www.cbsnews.com/stories/2006/10/08/scitech/pcanswer/main2072464.shtml&gt;</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modified from COSN presentation, the Consortium for School Networking’s Safeguarding the Wired Schoolhouse pro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1cc6"/>
                </a:solidFill>
                <a:uFillTx/>
                <a:latin typeface="Arial"/>
              </a:rPr>
              <a:t>&lt;</a:t>
            </a:r>
            <a:r>
              <a:rPr b="0" lang="en-US" sz="1200" spc="-1" strike="noStrike">
                <a:solidFill>
                  <a:srgbClr val="000000"/>
                </a:solidFill>
                <a:latin typeface="Arial"/>
              </a:rPr>
              <a:t>http://safewiredschools.cosn.org/toolkit/files.cfm&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any child to give you some tips to be safe on the Internet – they know the tips, but that doesn’t necessarily mean they USE them. </a:t>
            </a:r>
            <a:r>
              <a:rPr b="0" lang="en-US" sz="1200" spc="-1" strike="noStrike">
                <a:solidFill>
                  <a:srgbClr val="ffffff"/>
                </a:solidFill>
                <a:latin typeface="Arial"/>
              </a:rPr>
              <a:t>Youth need the ability to internalize knowledge and set positive behavioral responses in order to…</a:t>
            </a:r>
            <a:r>
              <a:rPr b="0" lang="en-US" sz="1200" spc="-1" strike="noStrike">
                <a:solidFill>
                  <a:srgbClr val="000000"/>
                </a:solidFill>
                <a:latin typeface="Arial"/>
              </a:rPr>
              <a:t>recognize and avoid dangerous, destructive, or unlawful online behavior, and to respond appropriately. We need to utilize teachable moments and consider comprehensive K-12 curricul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rienne DeWolfe &lt;adewolfe@acoe.org&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m Freese &lt;jfreese@acoe.org&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da Uhrenholt &lt;lu2829@att.com&g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sites from our informal survey of kids in Walnut Creek, Ohio, etc. Why the kids like those site tends to be very different then our information driven adult purpose -- they say they are interactive and fun. There is a disconnect between adult users and kid users and digital natives and immigr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fear and hype arises in part because adults are used to using the web to “consume” information and the digital natives are now “producers” of information rather than simply consum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new producer-driven Web 2.0 is sometimes referred to as the Read/Write/Web because increasingly it’s about empowering users to create content and upload it for the world to view or at least share their opinion of content. Whether it’s sharing a blog, your bookmarks, your review of an online article, or your latest video, it’s all about the power of Internet users to influence each other.</a:t>
            </a:r>
            <a:r>
              <a:rPr b="0" lang="en-US"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research at Cheshire Academy in Connecticut. &lt;</a:t>
            </a:r>
            <a:r>
              <a:rPr b="0" lang="en-US" sz="1200" spc="-1" strike="noStrike">
                <a:solidFill>
                  <a:srgbClr val="000000"/>
                </a:solidFill>
                <a:latin typeface="Arial"/>
              </a:rPr>
              <a:t>http://www.cheshireacademy.pvt.k12.ct.us/&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 areas that will be covered in this presentation and the classroom poster, “The Internet is Virtual but the Dangers are Real.” Download a PDF of the AT&amp;T sponsored poster at our website: http://www.ctap4.org/cybersafet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details about yourself can provide clues toward divulging pers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by posting your picture it can be altered or broadcast in ways you might not be happy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for spamming and phishing from NetSmartz &lt;http://www.netsmartz.org/safety/definitions.htm&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am</a:t>
            </a:r>
            <a:r>
              <a:rPr b="0" lang="en-US" sz="1200" spc="-1" strike="noStrike">
                <a:solidFill>
                  <a:srgbClr val="000000"/>
                </a:solidFill>
                <a:latin typeface="Arial"/>
              </a:rPr>
              <a:t> - Unwanted e-mail from someone you don't know. It is usually trying to sell you some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ishing</a:t>
            </a:r>
            <a:r>
              <a:rPr b="0" lang="en-US" sz="1200" spc="-1" strike="noStrike">
                <a:solidFill>
                  <a:srgbClr val="000000"/>
                </a:solidFill>
                <a:latin typeface="Arial"/>
              </a:rPr>
              <a:t> - An online scam that uses e-mail to "fish" for users' private information by imitating legitimate companies. People are lured into sharing user names, passwords, account information or credit-card numbers. The phishing e-mail usually contains a link to an illegitimate site. Scammers copy the look of a web site to set up a nearly identical page, one that appears to be part of that company's sit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onsumer.gov/idthef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the Federal Trade Commission one should not give out personal information on the phone, through the mail, or on the Internet unless you've initiated the contact or are sure you know who you're dealing with. Identity thieves are clever, and have posed as representatives of banks, Internet service providers (ISPs), and even government agencies to get people to reveal their Social Security number, mother's maiden name, account numbers, and other identifying information. Before you share any personal information, confirm that you are dealing with a legitimate organization.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descri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K-6 Rap Lesson from Netsmartz</a:t>
            </a:r>
            <a:r>
              <a:rPr b="0" lang="en-US" sz="1200" spc="-1" strike="noStrike">
                <a:solidFill>
                  <a:srgbClr val="000000"/>
                </a:solidFill>
                <a:latin typeface="Arial"/>
              </a:rPr>
              <a:t> is listed under our student resources and is a great resource for grades K-6. It’s called, “The Boy Who Loved IM” and teaches a lesson about not giving out personal information: </a:t>
            </a:r>
            <a:r>
              <a:rPr b="0" lang="en-US" sz="1200" spc="-1" strike="noStrike">
                <a:solidFill>
                  <a:srgbClr val="0000ff"/>
                </a:solidFill>
                <a:latin typeface="Arial"/>
              </a:rPr>
              <a:t>http://www.netsmartzkids.org/uyn/boylovedim.htm  Accompanying activity cards for the classroom are available each grade K-6: </a:t>
            </a:r>
            <a:r>
              <a:rPr b="0" lang="en-US" sz="1200" spc="-1" strike="noStrike">
                <a:solidFill>
                  <a:srgbClr val="000000"/>
                </a:solidFill>
                <a:latin typeface="Arial"/>
              </a:rPr>
              <a:t>http://www.netsmartz.org/resources/activitycards.htm#k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iddle and high school, the Netsmartz video,</a:t>
            </a:r>
            <a:r>
              <a:rPr b="1" lang="en-US" sz="1200" spc="-1" strike="noStrike">
                <a:solidFill>
                  <a:srgbClr val="000000"/>
                </a:solidFill>
                <a:latin typeface="Arial"/>
              </a:rPr>
              <a:t> Tracking Teresa</a:t>
            </a:r>
            <a:r>
              <a:rPr b="0" lang="en-US" sz="1200" spc="-1" strike="noStrike">
                <a:solidFill>
                  <a:srgbClr val="000000"/>
                </a:solidFill>
                <a:latin typeface="Arial"/>
              </a:rPr>
              <a:t> is a great resource again posted with activity cards: </a:t>
            </a:r>
            <a:r>
              <a:rPr b="0" lang="en-US" sz="1200" spc="-1" strike="noStrike">
                <a:solidFill>
                  <a:srgbClr val="0000ff"/>
                </a:solidFill>
                <a:latin typeface="Arial"/>
              </a:rPr>
              <a:t>http://www.netsmartz.org/resources/reallife.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Finally, if you are presenting to a parent audience, you might want to show </a:t>
            </a:r>
            <a:r>
              <a:rPr b="0" lang="en-US" sz="1200" spc="-1" strike="noStrike">
                <a:solidFill>
                  <a:srgbClr val="000000"/>
                </a:solidFill>
                <a:latin typeface="Arial"/>
              </a:rPr>
              <a:t>this online flash video tutorial, </a:t>
            </a:r>
            <a:r>
              <a:rPr b="1" lang="en-US" sz="1200" spc="-1" strike="noStrike">
                <a:solidFill>
                  <a:srgbClr val="000000"/>
                </a:solidFill>
                <a:latin typeface="Arial"/>
              </a:rPr>
              <a:t>Protect Your Privacy, Your Family and Your PC,</a:t>
            </a:r>
            <a:r>
              <a:rPr b="0" lang="en-US" sz="1200" spc="-1" strike="noStrike">
                <a:solidFill>
                  <a:srgbClr val="000000"/>
                </a:solidFill>
                <a:latin typeface="Arial"/>
              </a:rPr>
              <a:t> developed by GetNetWise.org found under the parent links of our website: http://onguardonline.gov/tutorials/index.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810C9C-F0DA-40CA-A731-746A73D61D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18960" y="228240"/>
            <a:ext cx="7848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80"/>
              </a:solidFill>
              <a:latin typeface="Arial"/>
            </a:endParaRPr>
          </a:p>
        </p:txBody>
      </p:sp>
      <p:sp>
        <p:nvSpPr>
          <p:cNvPr id="28" name="PlaceHolder 2"/>
          <p:cNvSpPr>
            <a:spLocks noGrp="1"/>
          </p:cNvSpPr>
          <p:nvPr>
            <p:ph/>
          </p:nvPr>
        </p:nvSpPr>
        <p:spPr>
          <a:xfrm>
            <a:off x="685800" y="1371240"/>
            <a:ext cx="77724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C7E39D-AA6D-4E6A-9D2F-9E865442AD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8960" y="228240"/>
            <a:ext cx="7848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80"/>
              </a:solidFill>
              <a:latin typeface="Arial"/>
            </a:endParaRPr>
          </a:p>
        </p:txBody>
      </p:sp>
      <p:sp>
        <p:nvSpPr>
          <p:cNvPr id="31"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8BE7A8-679D-46D8-99C2-12C142284B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18960" y="228240"/>
            <a:ext cx="7848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80"/>
              </a:solidFill>
              <a:latin typeface="Arial"/>
            </a:endParaRPr>
          </a:p>
        </p:txBody>
      </p:sp>
      <p:sp>
        <p:nvSpPr>
          <p:cNvPr id="36" name="PlaceHolder 2"/>
          <p:cNvSpPr>
            <a:spLocks noGrp="1"/>
          </p:cNvSpPr>
          <p:nvPr>
            <p:ph/>
          </p:nvPr>
        </p:nvSpPr>
        <p:spPr>
          <a:xfrm>
            <a:off x="685800" y="13712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3712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3712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38390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38390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38390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8F0C8C-F356-44F9-AA4B-8418DEFAA9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18960" y="228240"/>
            <a:ext cx="7848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80"/>
              </a:solidFill>
              <a:latin typeface="Arial"/>
            </a:endParaRPr>
          </a:p>
        </p:txBody>
      </p:sp>
      <p:sp>
        <p:nvSpPr>
          <p:cNvPr id="7" name="PlaceHolder 2"/>
          <p:cNvSpPr>
            <a:spLocks noGrp="1"/>
          </p:cNvSpPr>
          <p:nvPr>
            <p:ph type="subTitle"/>
          </p:nvPr>
        </p:nvSpPr>
        <p:spPr>
          <a:xfrm>
            <a:off x="685800" y="1371240"/>
            <a:ext cx="77724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976904-8A8F-4550-B920-EFE7909C63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18960" y="228240"/>
            <a:ext cx="7848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80"/>
              </a:solidFill>
              <a:latin typeface="Arial"/>
            </a:endParaRPr>
          </a:p>
        </p:txBody>
      </p:sp>
      <p:sp>
        <p:nvSpPr>
          <p:cNvPr id="9"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F650FC-E5AB-4369-92C3-92975A5517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18960" y="228240"/>
            <a:ext cx="7848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80"/>
              </a:solidFill>
              <a:latin typeface="Arial"/>
            </a:endParaRPr>
          </a:p>
        </p:txBody>
      </p:sp>
      <p:sp>
        <p:nvSpPr>
          <p:cNvPr id="11"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54F0BE-9DF4-4FDA-A33E-53F8C7FDD8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18960" y="228240"/>
            <a:ext cx="7848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9DF3DA-7F0C-4A6A-9339-3D7000B39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18960" y="228240"/>
            <a:ext cx="784836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CEBF2D-BBB6-449D-8D78-7D77ACFC9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8960" y="228240"/>
            <a:ext cx="7848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80"/>
              </a:solidFill>
              <a:latin typeface="Arial"/>
            </a:endParaRPr>
          </a:p>
        </p:txBody>
      </p:sp>
      <p:sp>
        <p:nvSpPr>
          <p:cNvPr id="16"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BC6DB-6570-48A2-A60F-5F9ADA068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8960" y="228240"/>
            <a:ext cx="7848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80"/>
              </a:solidFill>
              <a:latin typeface="Arial"/>
            </a:endParaRPr>
          </a:p>
        </p:txBody>
      </p:sp>
      <p:sp>
        <p:nvSpPr>
          <p:cNvPr id="20"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309E8-BBBB-4B22-B066-EF0D1849B9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8960" y="228240"/>
            <a:ext cx="7848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80"/>
              </a:solidFill>
              <a:latin typeface="Arial"/>
            </a:endParaRPr>
          </a:p>
        </p:txBody>
      </p:sp>
      <p:sp>
        <p:nvSpPr>
          <p:cNvPr id="24"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C29BA-526A-4F79-8AA3-EFF723FB67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8960" y="228240"/>
            <a:ext cx="7848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80"/>
                </a:solidFill>
                <a:latin typeface="Arial"/>
              </a:rPr>
              <a:t>Click to edit the title text format</a:t>
            </a:r>
            <a:endParaRPr b="0" lang="en-US" sz="3600" spc="-1" strike="noStrike">
              <a:solidFill>
                <a:srgbClr val="000080"/>
              </a:solidFill>
              <a:latin typeface="Arial"/>
            </a:endParaRPr>
          </a:p>
        </p:txBody>
      </p:sp>
      <p:sp>
        <p:nvSpPr>
          <p:cNvPr id="1" name="PlaceHolder 2"/>
          <p:cNvSpPr>
            <a:spLocks noGrp="1"/>
          </p:cNvSpPr>
          <p:nvPr>
            <p:ph type="body"/>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538E8-7F1C-4A14-ABF8-559A0508F5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76320" y="76320"/>
            <a:ext cx="907920" cy="907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6.xm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www.cyberbee.com/copyrt.html" TargetMode="External"/><Relationship Id="rId3" Type="http://schemas.openxmlformats.org/officeDocument/2006/relationships/hyperlink" Target="http://library.acadiau.ca/tutorials/plagiarism/" TargetMode="External"/><Relationship Id="rId4" Type="http://schemas.openxmlformats.org/officeDocument/2006/relationships/hyperlink" Target="http://www.netfamilynews.org/resourcesP2P05.htm" TargetMode="External"/><Relationship Id="rId5" Type="http://schemas.openxmlformats.org/officeDocument/2006/relationships/slideLayout" Target="../slideLayouts/slideLayout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www.netsmartz.org/resources/reallife.htm" TargetMode="External"/><Relationship Id="rId3" Type="http://schemas.openxmlformats.org/officeDocument/2006/relationships/slide" Target="slide6.xml"/><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6.xml"/><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image" Target="../media/image21.png"/><Relationship Id="rId9" Type="http://schemas.openxmlformats.org/officeDocument/2006/relationships/image" Target="../media/image22.png"/><Relationship Id="rId10" Type="http://schemas.openxmlformats.org/officeDocument/2006/relationships/image" Target="../media/image23.png"/><Relationship Id="rId11" Type="http://schemas.openxmlformats.org/officeDocument/2006/relationships/image" Target="../media/image24.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7.png"/><Relationship Id="rId15" Type="http://schemas.openxmlformats.org/officeDocument/2006/relationships/image" Target="../media/image28.png"/><Relationship Id="rId16" Type="http://schemas.openxmlformats.org/officeDocument/2006/relationships/image" Target="../media/image29.png"/><Relationship Id="rId17" Type="http://schemas.openxmlformats.org/officeDocument/2006/relationships/image" Target="../media/image7.png"/><Relationship Id="rId18" Type="http://schemas.openxmlformats.org/officeDocument/2006/relationships/image" Target="../media/image30.jpeg"/><Relationship Id="rId19" Type="http://schemas.openxmlformats.org/officeDocument/2006/relationships/slideLayout" Target="../slideLayouts/slideLayout3.xml"/><Relationship Id="rId2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1.wmf"/><Relationship Id="rId3" Type="http://schemas.openxmlformats.org/officeDocument/2006/relationships/image" Target="../media/image7.png"/><Relationship Id="rId4" Type="http://schemas.openxmlformats.org/officeDocument/2006/relationships/slideLayout" Target="../slideLayouts/slideLayout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7.png"/><Relationship Id="rId3" Type="http://schemas.openxmlformats.org/officeDocument/2006/relationships/hyperlink" Target="http://www.wiredsafety.org/wiredlearning/videos/ynkvideos/YNK-S-girl.swf" TargetMode="External"/><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6.xml"/><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www.wiredsafety.org/wiredlearning/videos/index.html" TargetMode="External"/><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6.xml"/><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1.png"/><Relationship Id="rId3" Type="http://schemas.openxmlformats.org/officeDocument/2006/relationships/slide" Target="slide6.xml"/><Relationship Id="rId4" Type="http://schemas.openxmlformats.org/officeDocument/2006/relationships/slideLayout" Target="../slideLayouts/slideLayout3.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1.png"/><Relationship Id="rId3" Type="http://schemas.openxmlformats.org/officeDocument/2006/relationships/slide" Target="slide6.xml"/><Relationship Id="rId4" Type="http://schemas.openxmlformats.org/officeDocument/2006/relationships/slideLayout" Target="../slideLayouts/slideLayout3.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7.png"/><Relationship Id="rId3" Type="http://schemas.openxmlformats.org/officeDocument/2006/relationships/slide" Target=""/><Relationship Id="rId4" Type="http://schemas.openxmlformats.org/officeDocument/2006/relationships/image" Target="../media/image8.png"/><Relationship Id="rId5" Type="http://schemas.openxmlformats.org/officeDocument/2006/relationships/slide" Target=""/><Relationship Id="rId6" Type="http://schemas.openxmlformats.org/officeDocument/2006/relationships/image" Target="../media/image9.png"/><Relationship Id="rId7" Type="http://schemas.openxmlformats.org/officeDocument/2006/relationships/slide" Target=""/><Relationship Id="rId8" Type="http://schemas.openxmlformats.org/officeDocument/2006/relationships/image" Target="../media/image10.png"/><Relationship Id="rId9" Type="http://schemas.openxmlformats.org/officeDocument/2006/relationships/slide" Target=""/><Relationship Id="rId10" Type="http://schemas.openxmlformats.org/officeDocument/2006/relationships/image" Target="../media/image11.png"/><Relationship Id="rId11" Type="http://schemas.openxmlformats.org/officeDocument/2006/relationships/slide" Target=""/><Relationship Id="rId12" Type="http://schemas.openxmlformats.org/officeDocument/2006/relationships/image" Target="../media/image12.png"/><Relationship Id="rId13" Type="http://schemas.openxmlformats.org/officeDocument/2006/relationships/slide" Target="slide35.xml"/><Relationship Id="rId14" Type="http://schemas.openxmlformats.org/officeDocument/2006/relationships/slideLayout" Target="../slideLayouts/slideLayout3.xml"/><Relationship Id="rId1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6.xml"/><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www.netsmartzkids.org/uyn/boylovedim.htm" TargetMode="External"/><Relationship Id="rId3" Type="http://schemas.openxmlformats.org/officeDocument/2006/relationships/hyperlink" Target="http://www.netsmartz.org/resources/reallife.htm" TargetMode="External"/><Relationship Id="rId4" Type="http://schemas.openxmlformats.org/officeDocument/2006/relationships/hyperlink" Target="http://onguardonline.gov/tutorials/index.html" TargetMode="External"/><Relationship Id="rId5" Type="http://schemas.openxmlformats.org/officeDocument/2006/relationships/slideLayout" Target="../slideLayouts/slideLayout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rot="1329000">
            <a:off x="6324480" y="1447560"/>
            <a:ext cx="1981440" cy="1414440"/>
          </a:xfrm>
          <a:prstGeom prst="rect">
            <a:avLst/>
          </a:prstGeom>
          <a:ln w="0">
            <a:noFill/>
          </a:ln>
        </p:spPr>
      </p:pic>
      <p:pic>
        <p:nvPicPr>
          <p:cNvPr id="50" name="" descr=""/>
          <p:cNvPicPr/>
          <p:nvPr/>
        </p:nvPicPr>
        <p:blipFill>
          <a:blip r:embed="rId2"/>
          <a:stretch/>
        </p:blipFill>
        <p:spPr>
          <a:xfrm rot="20334600">
            <a:off x="3657240" y="2437920"/>
            <a:ext cx="2133720" cy="1405080"/>
          </a:xfrm>
          <a:prstGeom prst="rect">
            <a:avLst/>
          </a:prstGeom>
          <a:ln w="0">
            <a:noFill/>
          </a:ln>
        </p:spPr>
      </p:pic>
      <p:sp>
        <p:nvSpPr>
          <p:cNvPr id="51" name="PlaceHolder 1"/>
          <p:cNvSpPr>
            <a:spLocks noGrp="1"/>
          </p:cNvSpPr>
          <p:nvPr>
            <p:ph type="title"/>
          </p:nvPr>
        </p:nvSpPr>
        <p:spPr>
          <a:xfrm>
            <a:off x="1218960" y="228240"/>
            <a:ext cx="7848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80"/>
                </a:solidFill>
                <a:latin typeface="Arial"/>
              </a:rPr>
              <a:t>CyberSafety </a:t>
            </a:r>
            <a:r>
              <a:rPr b="0" i="1" lang="en-US" sz="4000" spc="-1" strike="noStrike">
                <a:solidFill>
                  <a:srgbClr val="000080"/>
                </a:solidFill>
                <a:latin typeface="Comic Sans MS"/>
              </a:rPr>
              <a:t>Unraveled</a:t>
            </a:r>
            <a:endParaRPr b="0" lang="en-US" sz="4000" spc="-1" strike="noStrike">
              <a:solidFill>
                <a:srgbClr val="000080"/>
              </a:solidFill>
              <a:latin typeface="Arial"/>
            </a:endParaRPr>
          </a:p>
        </p:txBody>
      </p:sp>
      <p:sp>
        <p:nvSpPr>
          <p:cNvPr id="52" name=""/>
          <p:cNvSpPr/>
          <p:nvPr/>
        </p:nvSpPr>
        <p:spPr>
          <a:xfrm>
            <a:off x="1252440" y="692280"/>
            <a:ext cx="6824880" cy="4117680"/>
          </a:xfrm>
          <a:custGeom>
            <a:avLst/>
            <a:gdLst/>
            <a:ahLst/>
            <a:rect l="l" t="t" r="r" b="b"/>
            <a:pathLst>
              <a:path w="4299" h="2594">
                <a:moveTo>
                  <a:pt x="3178" y="6"/>
                </a:moveTo>
                <a:cubicBezTo>
                  <a:pt x="3198" y="74"/>
                  <a:pt x="3198" y="416"/>
                  <a:pt x="3297" y="424"/>
                </a:cubicBezTo>
                <a:cubicBezTo>
                  <a:pt x="3396" y="432"/>
                  <a:pt x="3665" y="108"/>
                  <a:pt x="3773" y="54"/>
                </a:cubicBezTo>
                <a:cubicBezTo>
                  <a:pt x="3881" y="0"/>
                  <a:pt x="3914" y="35"/>
                  <a:pt x="3945" y="102"/>
                </a:cubicBezTo>
                <a:cubicBezTo>
                  <a:pt x="3976" y="169"/>
                  <a:pt x="3912" y="375"/>
                  <a:pt x="3959" y="455"/>
                </a:cubicBezTo>
                <a:cubicBezTo>
                  <a:pt x="4004" y="534"/>
                  <a:pt x="4170" y="497"/>
                  <a:pt x="4222" y="578"/>
                </a:cubicBezTo>
                <a:cubicBezTo>
                  <a:pt x="4273" y="659"/>
                  <a:pt x="4280" y="835"/>
                  <a:pt x="4269" y="940"/>
                </a:cubicBezTo>
                <a:cubicBezTo>
                  <a:pt x="4258" y="1045"/>
                  <a:pt x="4202" y="1113"/>
                  <a:pt x="4157" y="1208"/>
                </a:cubicBezTo>
                <a:cubicBezTo>
                  <a:pt x="4111" y="1303"/>
                  <a:pt x="3989" y="1385"/>
                  <a:pt x="3997" y="1512"/>
                </a:cubicBezTo>
                <a:cubicBezTo>
                  <a:pt x="4005" y="1639"/>
                  <a:pt x="4299" y="1800"/>
                  <a:pt x="4204" y="1969"/>
                </a:cubicBezTo>
                <a:cubicBezTo>
                  <a:pt x="4109" y="2138"/>
                  <a:pt x="3727" y="2594"/>
                  <a:pt x="3429" y="2526"/>
                </a:cubicBezTo>
                <a:cubicBezTo>
                  <a:pt x="3131" y="2458"/>
                  <a:pt x="2635" y="1610"/>
                  <a:pt x="2414" y="1558"/>
                </a:cubicBezTo>
                <a:cubicBezTo>
                  <a:pt x="2193" y="1506"/>
                  <a:pt x="2232" y="2078"/>
                  <a:pt x="2103" y="2215"/>
                </a:cubicBezTo>
                <a:cubicBezTo>
                  <a:pt x="1974" y="2352"/>
                  <a:pt x="1759" y="2398"/>
                  <a:pt x="1637" y="2382"/>
                </a:cubicBezTo>
                <a:cubicBezTo>
                  <a:pt x="1515" y="2366"/>
                  <a:pt x="1534" y="2132"/>
                  <a:pt x="1369" y="2121"/>
                </a:cubicBezTo>
                <a:cubicBezTo>
                  <a:pt x="1204" y="2110"/>
                  <a:pt x="821" y="2259"/>
                  <a:pt x="644" y="2317"/>
                </a:cubicBezTo>
                <a:cubicBezTo>
                  <a:pt x="466" y="2375"/>
                  <a:pt x="400" y="2498"/>
                  <a:pt x="303" y="2471"/>
                </a:cubicBezTo>
                <a:cubicBezTo>
                  <a:pt x="205" y="2443"/>
                  <a:pt x="0" y="2353"/>
                  <a:pt x="56" y="2152"/>
                </a:cubicBezTo>
                <a:cubicBezTo>
                  <a:pt x="113" y="1952"/>
                  <a:pt x="536" y="1414"/>
                  <a:pt x="640" y="1269"/>
                </a:cubicBezTo>
              </a:path>
            </a:pathLst>
          </a:custGeom>
          <a:noFill/>
          <a:ln w="25560">
            <a:solidFill>
              <a:srgbClr val="000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53" name="" descr=""/>
          <p:cNvPicPr/>
          <p:nvPr/>
        </p:nvPicPr>
        <p:blipFill>
          <a:blip r:embed="rId3"/>
          <a:stretch/>
        </p:blipFill>
        <p:spPr>
          <a:xfrm rot="393600">
            <a:off x="914400" y="1447920"/>
            <a:ext cx="1758960" cy="2514600"/>
          </a:xfrm>
          <a:prstGeom prst="rect">
            <a:avLst/>
          </a:prstGeom>
          <a:ln w="0">
            <a:noFill/>
          </a:ln>
        </p:spPr>
      </p:pic>
      <p:sp>
        <p:nvSpPr>
          <p:cNvPr id="54" name=""/>
          <p:cNvSpPr/>
          <p:nvPr/>
        </p:nvSpPr>
        <p:spPr>
          <a:xfrm>
            <a:off x="2983320" y="6324480"/>
            <a:ext cx="3169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ages from Microsoft Design Gallery</a:t>
            </a:r>
            <a:endParaRPr b="0" lang="en-US" sz="1400" spc="-1" strike="noStrike">
              <a:solidFill>
                <a:srgbClr val="000000"/>
              </a:solidFill>
              <a:latin typeface="Arial"/>
            </a:endParaRPr>
          </a:p>
        </p:txBody>
      </p:sp>
      <p:pic>
        <p:nvPicPr>
          <p:cNvPr id="55" name="" descr=""/>
          <p:cNvPicPr/>
          <p:nvPr/>
        </p:nvPicPr>
        <p:blipFill>
          <a:blip r:embed="rId4"/>
          <a:stretch/>
        </p:blipFill>
        <p:spPr>
          <a:xfrm>
            <a:off x="0" y="5257800"/>
            <a:ext cx="2514600" cy="1449360"/>
          </a:xfrm>
          <a:prstGeom prst="rect">
            <a:avLst/>
          </a:prstGeom>
          <a:ln w="0">
            <a:noFill/>
          </a:ln>
        </p:spPr>
      </p:pic>
      <p:pic>
        <p:nvPicPr>
          <p:cNvPr id="56" name="" descr=""/>
          <p:cNvPicPr/>
          <p:nvPr/>
        </p:nvPicPr>
        <p:blipFill>
          <a:blip r:embed="rId5"/>
          <a:stretch/>
        </p:blipFill>
        <p:spPr>
          <a:xfrm>
            <a:off x="7543800" y="5234040"/>
            <a:ext cx="1447920" cy="1395360"/>
          </a:xfrm>
          <a:prstGeom prst="rect">
            <a:avLst/>
          </a:prstGeom>
          <a:ln w="0">
            <a:noFill/>
          </a:ln>
        </p:spPr>
      </p:pic>
      <p:sp>
        <p:nvSpPr>
          <p:cNvPr id="57" name=""/>
          <p:cNvSpPr/>
          <p:nvPr/>
        </p:nvSpPr>
        <p:spPr>
          <a:xfrm>
            <a:off x="2022480" y="4800600"/>
            <a:ext cx="5140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ation Co-developed by AT&amp;T and CTAP Region IV</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rcRect l="25000" t="6251" r="0" b="0"/>
          <a:stretch/>
        </p:blipFill>
        <p:spPr>
          <a:xfrm>
            <a:off x="7086600" y="228600"/>
            <a:ext cx="1828800" cy="2286000"/>
          </a:xfrm>
          <a:prstGeom prst="rect">
            <a:avLst/>
          </a:prstGeom>
          <a:ln w="0">
            <a:noFill/>
          </a:ln>
        </p:spPr>
      </p:pic>
      <p:sp>
        <p:nvSpPr>
          <p:cNvPr id="93" name=""/>
          <p:cNvSpPr/>
          <p:nvPr/>
        </p:nvSpPr>
        <p:spPr>
          <a:xfrm>
            <a:off x="762120" y="3014640"/>
            <a:ext cx="7696080" cy="3080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o not share personal information such as your name, age, sex, picture, location/address, phone number, hobbies, interests, and Social Insurance/bank account numbers.</a:t>
            </a:r>
            <a:endParaRPr b="0" lang="en-US" sz="2800" spc="-1" strike="noStrike">
              <a:solidFill>
                <a:srgbClr val="000000"/>
              </a:solidFill>
              <a:latin typeface="Arial"/>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reate nicknames that do not reflect your own name or anything personal.</a:t>
            </a:r>
            <a:endParaRPr b="0" lang="en-US" sz="2800" spc="-1" strike="noStrike">
              <a:solidFill>
                <a:srgbClr val="000000"/>
              </a:solidFill>
              <a:latin typeface="Arial"/>
            </a:endParaRPr>
          </a:p>
        </p:txBody>
      </p:sp>
      <p:sp>
        <p:nvSpPr>
          <p:cNvPr id="94" name=""/>
          <p:cNvSpPr/>
          <p:nvPr/>
        </p:nvSpPr>
        <p:spPr>
          <a:xfrm>
            <a:off x="762120" y="1565280"/>
            <a:ext cx="655308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omic Sans MS"/>
              </a:rPr>
              <a:t>To</a:t>
            </a:r>
            <a:r>
              <a:rPr b="0" lang="en-US" sz="3600" spc="-1" strike="noStrike">
                <a:solidFill>
                  <a:srgbClr val="000000"/>
                </a:solidFill>
                <a:latin typeface="Comic Sans MS"/>
              </a:rPr>
              <a:t>-</a:t>
            </a:r>
            <a:r>
              <a:rPr b="0" i="1" lang="en-US" sz="3600" spc="-1" strike="noStrike">
                <a:solidFill>
                  <a:srgbClr val="000000"/>
                </a:solidFill>
                <a:latin typeface="Comic Sans MS"/>
              </a:rPr>
              <a:t>Dos</a:t>
            </a:r>
            <a:r>
              <a:rPr b="0" i="1" lang="en-US" sz="2800" spc="-1" strike="noStrike">
                <a:solidFill>
                  <a:srgbClr val="000000"/>
                </a:solidFill>
                <a:latin typeface="Comic Sans MS"/>
              </a:rPr>
              <a:t>:</a:t>
            </a:r>
            <a:r>
              <a:rPr b="0" lang="en-US" sz="2800" spc="-1" strike="noStrike">
                <a:solidFill>
                  <a:srgbClr val="000000"/>
                </a:solidFill>
                <a:latin typeface="Arial"/>
              </a:rPr>
              <a:t> Remember to share guidelines with your students:</a:t>
            </a:r>
            <a:endParaRPr b="0" lang="en-US" sz="2800" spc="-1" strike="noStrike">
              <a:solidFill>
                <a:srgbClr val="000000"/>
              </a:solidFill>
              <a:latin typeface="Arial"/>
            </a:endParaRPr>
          </a:p>
        </p:txBody>
      </p:sp>
      <p:pic>
        <p:nvPicPr>
          <p:cNvPr id="95" name="" descr=""/>
          <p:cNvPicPr/>
          <p:nvPr/>
        </p:nvPicPr>
        <p:blipFill>
          <a:blip r:embed="rId2"/>
          <a:stretch/>
        </p:blipFill>
        <p:spPr>
          <a:xfrm>
            <a:off x="2320920" y="228600"/>
            <a:ext cx="4495680" cy="905040"/>
          </a:xfrm>
          <a:prstGeom prst="rect">
            <a:avLst/>
          </a:prstGeom>
          <a:ln w="0">
            <a:noFill/>
          </a:ln>
        </p:spPr>
      </p:pic>
      <p:sp>
        <p:nvSpPr>
          <p:cNvPr id="96" name=""/>
          <p:cNvSpPr/>
          <p:nvPr/>
        </p:nvSpPr>
        <p:spPr>
          <a:xfrm rot="5080200">
            <a:off x="2399400" y="1459440"/>
            <a:ext cx="5361120" cy="4216320"/>
          </a:xfrm>
          <a:custGeom>
            <a:avLst/>
            <a:gdLst/>
            <a:ahLst/>
            <a:rect l="l" t="t" r="r" b="b"/>
            <a:pathLst>
              <a:path w="3377" h="2656">
                <a:moveTo>
                  <a:pt x="0" y="243"/>
                </a:moveTo>
                <a:cubicBezTo>
                  <a:pt x="51" y="215"/>
                  <a:pt x="222" y="94"/>
                  <a:pt x="305" y="64"/>
                </a:cubicBezTo>
                <a:cubicBezTo>
                  <a:pt x="388" y="34"/>
                  <a:pt x="449" y="48"/>
                  <a:pt x="497" y="64"/>
                </a:cubicBezTo>
                <a:cubicBezTo>
                  <a:pt x="545" y="80"/>
                  <a:pt x="529" y="88"/>
                  <a:pt x="593" y="160"/>
                </a:cubicBezTo>
                <a:cubicBezTo>
                  <a:pt x="657" y="232"/>
                  <a:pt x="753" y="456"/>
                  <a:pt x="881" y="496"/>
                </a:cubicBezTo>
                <a:cubicBezTo>
                  <a:pt x="1009" y="536"/>
                  <a:pt x="1233" y="464"/>
                  <a:pt x="1361" y="400"/>
                </a:cubicBezTo>
                <a:cubicBezTo>
                  <a:pt x="1489" y="336"/>
                  <a:pt x="1545" y="176"/>
                  <a:pt x="1649" y="112"/>
                </a:cubicBezTo>
                <a:cubicBezTo>
                  <a:pt x="1753" y="48"/>
                  <a:pt x="1873" y="0"/>
                  <a:pt x="1985" y="16"/>
                </a:cubicBezTo>
                <a:cubicBezTo>
                  <a:pt x="2097" y="32"/>
                  <a:pt x="2241" y="120"/>
                  <a:pt x="2321" y="208"/>
                </a:cubicBezTo>
                <a:cubicBezTo>
                  <a:pt x="2401" y="296"/>
                  <a:pt x="2481" y="400"/>
                  <a:pt x="2465" y="544"/>
                </a:cubicBezTo>
                <a:cubicBezTo>
                  <a:pt x="2449" y="688"/>
                  <a:pt x="2193" y="904"/>
                  <a:pt x="2225" y="1072"/>
                </a:cubicBezTo>
                <a:cubicBezTo>
                  <a:pt x="2257" y="1240"/>
                  <a:pt x="2553" y="1432"/>
                  <a:pt x="2657" y="1552"/>
                </a:cubicBezTo>
                <a:cubicBezTo>
                  <a:pt x="2761" y="1672"/>
                  <a:pt x="2825" y="1688"/>
                  <a:pt x="2849" y="1792"/>
                </a:cubicBezTo>
                <a:cubicBezTo>
                  <a:pt x="2873" y="1896"/>
                  <a:pt x="2713" y="2032"/>
                  <a:pt x="2801" y="2176"/>
                </a:cubicBezTo>
                <a:cubicBezTo>
                  <a:pt x="2889" y="2320"/>
                  <a:pt x="3281" y="2576"/>
                  <a:pt x="3377" y="2656"/>
                </a:cubicBezTo>
              </a:path>
            </a:pathLst>
          </a:custGeom>
          <a:noFill/>
          <a:ln w="25560">
            <a:solidFill>
              <a:srgbClr val="800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rcRect l="25000" t="6251" r="0" b="0"/>
          <a:stretch/>
        </p:blipFill>
        <p:spPr>
          <a:xfrm>
            <a:off x="7086600" y="228600"/>
            <a:ext cx="1828800" cy="2286000"/>
          </a:xfrm>
          <a:prstGeom prst="rect">
            <a:avLst/>
          </a:prstGeom>
          <a:ln w="0">
            <a:noFill/>
          </a:ln>
        </p:spPr>
      </p:pic>
      <p:sp>
        <p:nvSpPr>
          <p:cNvPr id="98" name=""/>
          <p:cNvSpPr/>
          <p:nvPr/>
        </p:nvSpPr>
        <p:spPr>
          <a:xfrm>
            <a:off x="685800" y="1371600"/>
            <a:ext cx="7696080" cy="490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omic Sans MS"/>
              </a:rPr>
              <a:t>To</a:t>
            </a:r>
            <a:r>
              <a:rPr b="0" lang="en-US" sz="3600" spc="-1" strike="noStrike">
                <a:solidFill>
                  <a:srgbClr val="000000"/>
                </a:solidFill>
                <a:latin typeface="Comic Sans MS"/>
              </a:rPr>
              <a:t>-</a:t>
            </a:r>
            <a:r>
              <a:rPr b="0" i="1" lang="en-US" sz="3600" spc="-1" strike="noStrike">
                <a:solidFill>
                  <a:srgbClr val="000000"/>
                </a:solidFill>
                <a:latin typeface="Comic Sans MS"/>
              </a:rPr>
              <a:t>Dos</a:t>
            </a:r>
            <a:r>
              <a:rPr b="0" i="1" lang="en-US" sz="2400" spc="-1" strike="noStrike">
                <a:solidFill>
                  <a:srgbClr val="000000"/>
                </a:solidFill>
                <a:latin typeface="Comic Sans MS"/>
              </a:rPr>
              <a:t> </a:t>
            </a:r>
            <a:r>
              <a:rPr b="0" lang="en-US" sz="2400" spc="-1" strike="noStrike">
                <a:solidFill>
                  <a:srgbClr val="000000"/>
                </a:solidFill>
                <a:latin typeface="Arial"/>
              </a:rPr>
              <a:t>(cont’d)</a:t>
            </a: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ever respond to onlin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cation that is inappropriate or makes you feel uncomfortable. </a:t>
            </a:r>
            <a:endParaRPr b="0" lang="en-US" sz="2800" spc="-1" strike="noStrike">
              <a:solidFill>
                <a:srgbClr val="000000"/>
              </a:solidFill>
              <a:latin typeface="Arial"/>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ever agree to meet in person someone you met online.</a:t>
            </a:r>
            <a:endParaRPr b="0" lang="en-US" sz="2800" spc="-1" strike="noStrike">
              <a:solidFill>
                <a:srgbClr val="000000"/>
              </a:solidFill>
              <a:latin typeface="Arial"/>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lways talk with your parents or a responsible adult about your online activities.</a:t>
            </a:r>
            <a:endParaRPr b="0" lang="en-US" sz="2800" spc="-1" strike="noStrike">
              <a:solidFill>
                <a:srgbClr val="000000"/>
              </a:solidFill>
              <a:latin typeface="Arial"/>
            </a:endParaRPr>
          </a:p>
        </p:txBody>
      </p:sp>
      <p:sp>
        <p:nvSpPr>
          <p:cNvPr id="99" name=""/>
          <p:cNvSpPr/>
          <p:nvPr/>
        </p:nvSpPr>
        <p:spPr>
          <a:xfrm rot="5080200">
            <a:off x="2399400" y="1459440"/>
            <a:ext cx="5361120" cy="4216320"/>
          </a:xfrm>
          <a:custGeom>
            <a:avLst/>
            <a:gdLst/>
            <a:ahLst/>
            <a:rect l="l" t="t" r="r" b="b"/>
            <a:pathLst>
              <a:path w="3377" h="2656">
                <a:moveTo>
                  <a:pt x="0" y="243"/>
                </a:moveTo>
                <a:cubicBezTo>
                  <a:pt x="51" y="215"/>
                  <a:pt x="222" y="94"/>
                  <a:pt x="305" y="64"/>
                </a:cubicBezTo>
                <a:cubicBezTo>
                  <a:pt x="388" y="34"/>
                  <a:pt x="449" y="48"/>
                  <a:pt x="497" y="64"/>
                </a:cubicBezTo>
                <a:cubicBezTo>
                  <a:pt x="545" y="80"/>
                  <a:pt x="529" y="88"/>
                  <a:pt x="593" y="160"/>
                </a:cubicBezTo>
                <a:cubicBezTo>
                  <a:pt x="657" y="232"/>
                  <a:pt x="753" y="456"/>
                  <a:pt x="881" y="496"/>
                </a:cubicBezTo>
                <a:cubicBezTo>
                  <a:pt x="1009" y="536"/>
                  <a:pt x="1233" y="464"/>
                  <a:pt x="1361" y="400"/>
                </a:cubicBezTo>
                <a:cubicBezTo>
                  <a:pt x="1489" y="336"/>
                  <a:pt x="1545" y="176"/>
                  <a:pt x="1649" y="112"/>
                </a:cubicBezTo>
                <a:cubicBezTo>
                  <a:pt x="1753" y="48"/>
                  <a:pt x="1873" y="0"/>
                  <a:pt x="1985" y="16"/>
                </a:cubicBezTo>
                <a:cubicBezTo>
                  <a:pt x="2097" y="32"/>
                  <a:pt x="2241" y="120"/>
                  <a:pt x="2321" y="208"/>
                </a:cubicBezTo>
                <a:cubicBezTo>
                  <a:pt x="2401" y="296"/>
                  <a:pt x="2481" y="400"/>
                  <a:pt x="2465" y="544"/>
                </a:cubicBezTo>
                <a:cubicBezTo>
                  <a:pt x="2449" y="688"/>
                  <a:pt x="2193" y="904"/>
                  <a:pt x="2225" y="1072"/>
                </a:cubicBezTo>
                <a:cubicBezTo>
                  <a:pt x="2257" y="1240"/>
                  <a:pt x="2553" y="1432"/>
                  <a:pt x="2657" y="1552"/>
                </a:cubicBezTo>
                <a:cubicBezTo>
                  <a:pt x="2761" y="1672"/>
                  <a:pt x="2825" y="1688"/>
                  <a:pt x="2849" y="1792"/>
                </a:cubicBezTo>
                <a:cubicBezTo>
                  <a:pt x="2873" y="1896"/>
                  <a:pt x="2713" y="2032"/>
                  <a:pt x="2801" y="2176"/>
                </a:cubicBezTo>
                <a:cubicBezTo>
                  <a:pt x="2889" y="2320"/>
                  <a:pt x="3281" y="2576"/>
                  <a:pt x="3377" y="2656"/>
                </a:cubicBezTo>
              </a:path>
            </a:pathLst>
          </a:custGeom>
          <a:noFill/>
          <a:ln w="25560">
            <a:solidFill>
              <a:srgbClr val="800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00" name="" descr=""/>
          <p:cNvPicPr/>
          <p:nvPr/>
        </p:nvPicPr>
        <p:blipFill>
          <a:blip r:embed="rId2"/>
          <a:stretch/>
        </p:blipFill>
        <p:spPr>
          <a:xfrm>
            <a:off x="2320920" y="228600"/>
            <a:ext cx="4495680" cy="905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6553080" y="552600"/>
            <a:ext cx="2156040" cy="4591080"/>
          </a:xfrm>
          <a:custGeom>
            <a:avLst/>
            <a:gdLst/>
            <a:ahLst/>
            <a:rect l="l" t="t" r="r" b="b"/>
            <a:pathLst>
              <a:path w="1358" h="2892">
                <a:moveTo>
                  <a:pt x="0" y="36"/>
                </a:moveTo>
                <a:cubicBezTo>
                  <a:pt x="109" y="19"/>
                  <a:pt x="216" y="0"/>
                  <a:pt x="326" y="36"/>
                </a:cubicBezTo>
                <a:cubicBezTo>
                  <a:pt x="379" y="114"/>
                  <a:pt x="342" y="202"/>
                  <a:pt x="326" y="288"/>
                </a:cubicBezTo>
                <a:cubicBezTo>
                  <a:pt x="332" y="334"/>
                  <a:pt x="334" y="381"/>
                  <a:pt x="345" y="427"/>
                </a:cubicBezTo>
                <a:cubicBezTo>
                  <a:pt x="367" y="531"/>
                  <a:pt x="412" y="519"/>
                  <a:pt x="512" y="529"/>
                </a:cubicBezTo>
                <a:cubicBezTo>
                  <a:pt x="552" y="532"/>
                  <a:pt x="592" y="535"/>
                  <a:pt x="633" y="539"/>
                </a:cubicBezTo>
                <a:cubicBezTo>
                  <a:pt x="729" y="535"/>
                  <a:pt x="826" y="546"/>
                  <a:pt x="921" y="529"/>
                </a:cubicBezTo>
                <a:cubicBezTo>
                  <a:pt x="938" y="525"/>
                  <a:pt x="898" y="502"/>
                  <a:pt x="884" y="492"/>
                </a:cubicBezTo>
                <a:cubicBezTo>
                  <a:pt x="875" y="486"/>
                  <a:pt x="865" y="486"/>
                  <a:pt x="856" y="483"/>
                </a:cubicBezTo>
                <a:cubicBezTo>
                  <a:pt x="815" y="465"/>
                  <a:pt x="776" y="450"/>
                  <a:pt x="735" y="436"/>
                </a:cubicBezTo>
                <a:cubicBezTo>
                  <a:pt x="691" y="440"/>
                  <a:pt x="640" y="429"/>
                  <a:pt x="605" y="455"/>
                </a:cubicBezTo>
                <a:cubicBezTo>
                  <a:pt x="583" y="470"/>
                  <a:pt x="549" y="511"/>
                  <a:pt x="549" y="511"/>
                </a:cubicBezTo>
                <a:cubicBezTo>
                  <a:pt x="552" y="551"/>
                  <a:pt x="550" y="592"/>
                  <a:pt x="559" y="632"/>
                </a:cubicBezTo>
                <a:cubicBezTo>
                  <a:pt x="573" y="699"/>
                  <a:pt x="663" y="810"/>
                  <a:pt x="726" y="846"/>
                </a:cubicBezTo>
                <a:cubicBezTo>
                  <a:pt x="765" y="868"/>
                  <a:pt x="831" y="876"/>
                  <a:pt x="875" y="883"/>
                </a:cubicBezTo>
                <a:cubicBezTo>
                  <a:pt x="892" y="894"/>
                  <a:pt x="941" y="926"/>
                  <a:pt x="949" y="939"/>
                </a:cubicBezTo>
                <a:cubicBezTo>
                  <a:pt x="1017" y="1048"/>
                  <a:pt x="962" y="1042"/>
                  <a:pt x="1061" y="1106"/>
                </a:cubicBezTo>
                <a:cubicBezTo>
                  <a:pt x="1053" y="1180"/>
                  <a:pt x="1049" y="1305"/>
                  <a:pt x="959" y="1339"/>
                </a:cubicBezTo>
                <a:cubicBezTo>
                  <a:pt x="874" y="1370"/>
                  <a:pt x="909" y="1358"/>
                  <a:pt x="856" y="1376"/>
                </a:cubicBezTo>
                <a:cubicBezTo>
                  <a:pt x="797" y="1370"/>
                  <a:pt x="714" y="1386"/>
                  <a:pt x="763" y="1311"/>
                </a:cubicBezTo>
                <a:cubicBezTo>
                  <a:pt x="822" y="1345"/>
                  <a:pt x="887" y="1369"/>
                  <a:pt x="940" y="1413"/>
                </a:cubicBezTo>
                <a:cubicBezTo>
                  <a:pt x="1007" y="1470"/>
                  <a:pt x="972" y="1455"/>
                  <a:pt x="1042" y="1469"/>
                </a:cubicBezTo>
                <a:cubicBezTo>
                  <a:pt x="1048" y="1456"/>
                  <a:pt x="1066" y="1444"/>
                  <a:pt x="1061" y="1432"/>
                </a:cubicBezTo>
                <a:cubicBezTo>
                  <a:pt x="1051" y="1407"/>
                  <a:pt x="1005" y="1376"/>
                  <a:pt x="1005" y="1376"/>
                </a:cubicBezTo>
                <a:cubicBezTo>
                  <a:pt x="1002" y="1351"/>
                  <a:pt x="1005" y="1325"/>
                  <a:pt x="996" y="1302"/>
                </a:cubicBezTo>
                <a:cubicBezTo>
                  <a:pt x="971" y="1240"/>
                  <a:pt x="961" y="1304"/>
                  <a:pt x="959" y="1311"/>
                </a:cubicBezTo>
                <a:cubicBezTo>
                  <a:pt x="955" y="1332"/>
                  <a:pt x="964" y="1360"/>
                  <a:pt x="949" y="1376"/>
                </a:cubicBezTo>
                <a:cubicBezTo>
                  <a:pt x="930" y="1394"/>
                  <a:pt x="899" y="1388"/>
                  <a:pt x="875" y="1395"/>
                </a:cubicBezTo>
                <a:cubicBezTo>
                  <a:pt x="856" y="1400"/>
                  <a:pt x="819" y="1413"/>
                  <a:pt x="819" y="1413"/>
                </a:cubicBezTo>
                <a:cubicBezTo>
                  <a:pt x="876" y="1483"/>
                  <a:pt x="940" y="1538"/>
                  <a:pt x="996" y="1609"/>
                </a:cubicBezTo>
                <a:cubicBezTo>
                  <a:pt x="999" y="1618"/>
                  <a:pt x="1005" y="1626"/>
                  <a:pt x="1005" y="1636"/>
                </a:cubicBezTo>
                <a:cubicBezTo>
                  <a:pt x="1005" y="1679"/>
                  <a:pt x="1005" y="1724"/>
                  <a:pt x="996" y="1767"/>
                </a:cubicBezTo>
                <a:cubicBezTo>
                  <a:pt x="984" y="1817"/>
                  <a:pt x="868" y="1826"/>
                  <a:pt x="847" y="1832"/>
                </a:cubicBezTo>
                <a:cubicBezTo>
                  <a:pt x="680" y="1878"/>
                  <a:pt x="850" y="1847"/>
                  <a:pt x="717" y="1869"/>
                </a:cubicBezTo>
                <a:cubicBezTo>
                  <a:pt x="684" y="1933"/>
                  <a:pt x="678" y="1982"/>
                  <a:pt x="670" y="2055"/>
                </a:cubicBezTo>
                <a:cubicBezTo>
                  <a:pt x="695" y="2164"/>
                  <a:pt x="709" y="2261"/>
                  <a:pt x="791" y="2343"/>
                </a:cubicBezTo>
                <a:cubicBezTo>
                  <a:pt x="846" y="2398"/>
                  <a:pt x="1014" y="2418"/>
                  <a:pt x="1014" y="2418"/>
                </a:cubicBezTo>
                <a:cubicBezTo>
                  <a:pt x="1054" y="2457"/>
                  <a:pt x="1064" y="2460"/>
                  <a:pt x="1117" y="2474"/>
                </a:cubicBezTo>
                <a:cubicBezTo>
                  <a:pt x="1109" y="2510"/>
                  <a:pt x="1078" y="2568"/>
                  <a:pt x="1052" y="2595"/>
                </a:cubicBezTo>
                <a:cubicBezTo>
                  <a:pt x="1031" y="2615"/>
                  <a:pt x="996" y="2608"/>
                  <a:pt x="968" y="2613"/>
                </a:cubicBezTo>
                <a:cubicBezTo>
                  <a:pt x="913" y="2650"/>
                  <a:pt x="915" y="2636"/>
                  <a:pt x="949" y="2753"/>
                </a:cubicBezTo>
                <a:cubicBezTo>
                  <a:pt x="955" y="2775"/>
                  <a:pt x="1030" y="2818"/>
                  <a:pt x="1042" y="2827"/>
                </a:cubicBezTo>
                <a:cubicBezTo>
                  <a:pt x="1117" y="2881"/>
                  <a:pt x="1148" y="2874"/>
                  <a:pt x="1238" y="2892"/>
                </a:cubicBezTo>
                <a:cubicBezTo>
                  <a:pt x="1333" y="2871"/>
                  <a:pt x="1292" y="2874"/>
                  <a:pt x="1358" y="2874"/>
                </a:cubicBezTo>
              </a:path>
            </a:pathLst>
          </a:custGeom>
          <a:noFill/>
          <a:ln w="25560">
            <a:solidFill>
              <a:srgbClr val="400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 name="PlaceHolder 1"/>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t>
            </a:r>
            <a:r>
              <a:rPr b="1" lang="en-US" sz="3200" spc="-1" strike="noStrike">
                <a:solidFill>
                  <a:srgbClr val="000000"/>
                </a:solidFill>
                <a:latin typeface="Arial"/>
              </a:rPr>
              <a:t>Intellectual Property</a:t>
            </a:r>
            <a:r>
              <a:rPr b="0" lang="en-US" sz="3200" spc="-1" strike="noStrike">
                <a:solidFill>
                  <a:srgbClr val="000000"/>
                </a:solidFill>
                <a:latin typeface="Arial"/>
              </a:rPr>
              <a:t> refers t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wnership rights of materials, creat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ten, designed or expressed b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idual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s music, games, movies, photos, and writ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3" name="" descr=""/>
          <p:cNvPicPr/>
          <p:nvPr/>
        </p:nvPicPr>
        <p:blipFill>
          <a:blip r:embed="rId1"/>
          <a:stretch/>
        </p:blipFill>
        <p:spPr>
          <a:xfrm>
            <a:off x="2298600" y="152280"/>
            <a:ext cx="4538880" cy="900360"/>
          </a:xfrm>
          <a:prstGeom prst="rect">
            <a:avLst/>
          </a:prstGeom>
          <a:ln w="0">
            <a:noFill/>
          </a:ln>
        </p:spPr>
      </p:pic>
      <p:sp>
        <p:nvSpPr>
          <p:cNvPr id="104" name="">
            <a:hlinkClick r:id="rId2" action="ppaction://hlinksldjump"/>
          </p:cNvPr>
          <p:cNvSpPr/>
          <p:nvPr/>
        </p:nvSpPr>
        <p:spPr>
          <a:xfrm>
            <a:off x="6858000" y="5791320"/>
            <a:ext cx="1515960" cy="459720"/>
          </a:xfrm>
          <a:prstGeom prst="rect">
            <a:avLst/>
          </a:prstGeom>
          <a:solidFill>
            <a:srgbClr val="000080"/>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rea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rot="5080200">
            <a:off x="2322720" y="1459440"/>
            <a:ext cx="5361120" cy="4216680"/>
          </a:xfrm>
          <a:custGeom>
            <a:avLst/>
            <a:gdLst/>
            <a:ahLst/>
            <a:rect l="l" t="t" r="r" b="b"/>
            <a:pathLst>
              <a:path w="3377" h="2656">
                <a:moveTo>
                  <a:pt x="0" y="243"/>
                </a:moveTo>
                <a:cubicBezTo>
                  <a:pt x="51" y="215"/>
                  <a:pt x="222" y="94"/>
                  <a:pt x="305" y="64"/>
                </a:cubicBezTo>
                <a:cubicBezTo>
                  <a:pt x="388" y="34"/>
                  <a:pt x="449" y="48"/>
                  <a:pt x="497" y="64"/>
                </a:cubicBezTo>
                <a:cubicBezTo>
                  <a:pt x="545" y="80"/>
                  <a:pt x="529" y="88"/>
                  <a:pt x="593" y="160"/>
                </a:cubicBezTo>
                <a:cubicBezTo>
                  <a:pt x="657" y="232"/>
                  <a:pt x="753" y="456"/>
                  <a:pt x="881" y="496"/>
                </a:cubicBezTo>
                <a:cubicBezTo>
                  <a:pt x="1009" y="536"/>
                  <a:pt x="1233" y="464"/>
                  <a:pt x="1361" y="400"/>
                </a:cubicBezTo>
                <a:cubicBezTo>
                  <a:pt x="1489" y="336"/>
                  <a:pt x="1545" y="176"/>
                  <a:pt x="1649" y="112"/>
                </a:cubicBezTo>
                <a:cubicBezTo>
                  <a:pt x="1753" y="48"/>
                  <a:pt x="1873" y="0"/>
                  <a:pt x="1985" y="16"/>
                </a:cubicBezTo>
                <a:cubicBezTo>
                  <a:pt x="2097" y="32"/>
                  <a:pt x="2241" y="120"/>
                  <a:pt x="2321" y="208"/>
                </a:cubicBezTo>
                <a:cubicBezTo>
                  <a:pt x="2401" y="296"/>
                  <a:pt x="2481" y="400"/>
                  <a:pt x="2465" y="544"/>
                </a:cubicBezTo>
                <a:cubicBezTo>
                  <a:pt x="2449" y="688"/>
                  <a:pt x="2193" y="904"/>
                  <a:pt x="2225" y="1072"/>
                </a:cubicBezTo>
                <a:cubicBezTo>
                  <a:pt x="2257" y="1240"/>
                  <a:pt x="2553" y="1432"/>
                  <a:pt x="2657" y="1552"/>
                </a:cubicBezTo>
                <a:cubicBezTo>
                  <a:pt x="2761" y="1672"/>
                  <a:pt x="2825" y="1688"/>
                  <a:pt x="2849" y="1792"/>
                </a:cubicBezTo>
                <a:cubicBezTo>
                  <a:pt x="2873" y="1896"/>
                  <a:pt x="2713" y="2032"/>
                  <a:pt x="2801" y="2176"/>
                </a:cubicBezTo>
                <a:cubicBezTo>
                  <a:pt x="2889" y="2320"/>
                  <a:pt x="3281" y="2576"/>
                  <a:pt x="3377" y="2656"/>
                </a:cubicBezTo>
              </a:path>
            </a:pathLst>
          </a:custGeom>
          <a:noFill/>
          <a:ln w="25560">
            <a:solidFill>
              <a:srgbClr val="400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6" name="PlaceHolder 1"/>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raveling the fact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sharing represents 60% of all US Internet traffic.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llegally downloading or sharing intellectual property without the permission of the creator is a crime punishable by law.</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07" name="" descr=""/>
          <p:cNvPicPr/>
          <p:nvPr/>
        </p:nvPicPr>
        <p:blipFill>
          <a:blip r:embed="rId1"/>
          <a:stretch/>
        </p:blipFill>
        <p:spPr>
          <a:xfrm>
            <a:off x="2298600" y="152280"/>
            <a:ext cx="4538880" cy="900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2817720" y="738360"/>
            <a:ext cx="4467240" cy="5224320"/>
          </a:xfrm>
          <a:custGeom>
            <a:avLst/>
            <a:gdLst/>
            <a:ahLst/>
            <a:rect l="l" t="t" r="r" b="b"/>
            <a:pathLst>
              <a:path w="2814" h="3291">
                <a:moveTo>
                  <a:pt x="2348" y="0"/>
                </a:moveTo>
                <a:cubicBezTo>
                  <a:pt x="2415" y="41"/>
                  <a:pt x="2688" y="149"/>
                  <a:pt x="2751" y="247"/>
                </a:cubicBezTo>
                <a:cubicBezTo>
                  <a:pt x="2814" y="345"/>
                  <a:pt x="2776" y="503"/>
                  <a:pt x="2729" y="587"/>
                </a:cubicBezTo>
                <a:cubicBezTo>
                  <a:pt x="2682" y="671"/>
                  <a:pt x="2548" y="665"/>
                  <a:pt x="2466" y="751"/>
                </a:cubicBezTo>
                <a:cubicBezTo>
                  <a:pt x="2384" y="837"/>
                  <a:pt x="2261" y="999"/>
                  <a:pt x="2236" y="1102"/>
                </a:cubicBezTo>
                <a:cubicBezTo>
                  <a:pt x="2211" y="1205"/>
                  <a:pt x="2252" y="1282"/>
                  <a:pt x="2318" y="1370"/>
                </a:cubicBezTo>
                <a:cubicBezTo>
                  <a:pt x="2384" y="1458"/>
                  <a:pt x="2558" y="1532"/>
                  <a:pt x="2632" y="1630"/>
                </a:cubicBezTo>
                <a:cubicBezTo>
                  <a:pt x="2705" y="1727"/>
                  <a:pt x="2764" y="1842"/>
                  <a:pt x="2758" y="1955"/>
                </a:cubicBezTo>
                <a:cubicBezTo>
                  <a:pt x="2753" y="2068"/>
                  <a:pt x="2701" y="2244"/>
                  <a:pt x="2598" y="2308"/>
                </a:cubicBezTo>
                <a:cubicBezTo>
                  <a:pt x="2495" y="2372"/>
                  <a:pt x="2387" y="2473"/>
                  <a:pt x="2137" y="2340"/>
                </a:cubicBezTo>
                <a:cubicBezTo>
                  <a:pt x="1887" y="2207"/>
                  <a:pt x="1375" y="1569"/>
                  <a:pt x="1096" y="1507"/>
                </a:cubicBezTo>
                <a:cubicBezTo>
                  <a:pt x="817" y="1445"/>
                  <a:pt x="465" y="1722"/>
                  <a:pt x="461" y="1968"/>
                </a:cubicBezTo>
                <a:cubicBezTo>
                  <a:pt x="457" y="2214"/>
                  <a:pt x="1026" y="2767"/>
                  <a:pt x="1070" y="2981"/>
                </a:cubicBezTo>
                <a:cubicBezTo>
                  <a:pt x="1114" y="3195"/>
                  <a:pt x="902" y="3291"/>
                  <a:pt x="724" y="3250"/>
                </a:cubicBezTo>
                <a:cubicBezTo>
                  <a:pt x="546" y="3209"/>
                  <a:pt x="151" y="2842"/>
                  <a:pt x="0" y="2735"/>
                </a:cubicBezTo>
              </a:path>
            </a:pathLst>
          </a:custGeom>
          <a:noFill/>
          <a:ln w="25560">
            <a:solidFill>
              <a:srgbClr val="000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PlaceHolder 1"/>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s found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ctap4.org/cybersafety/ip.ht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0" name="" descr=""/>
          <p:cNvPicPr/>
          <p:nvPr/>
        </p:nvPicPr>
        <p:blipFill>
          <a:blip r:embed="rId1"/>
          <a:stretch/>
        </p:blipFill>
        <p:spPr>
          <a:xfrm>
            <a:off x="2298600" y="152280"/>
            <a:ext cx="4538880" cy="900360"/>
          </a:xfrm>
          <a:prstGeom prst="rect">
            <a:avLst/>
          </a:prstGeom>
          <a:ln w="0">
            <a:noFill/>
          </a:ln>
        </p:spPr>
      </p:pic>
      <p:sp>
        <p:nvSpPr>
          <p:cNvPr id="111" name="">
            <a:hlinkClick r:id="rId2"/>
          </p:cNvPr>
          <p:cNvSpPr/>
          <p:nvPr/>
        </p:nvSpPr>
        <p:spPr>
          <a:xfrm>
            <a:off x="1303200" y="3276720"/>
            <a:ext cx="2963880" cy="459720"/>
          </a:xfrm>
          <a:prstGeom prst="rect">
            <a:avLst/>
          </a:prstGeom>
          <a:solidFill>
            <a:srgbClr val="000080"/>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K-8 Cyber Bee </a:t>
            </a:r>
            <a:endParaRPr b="0" lang="en-US" sz="2400" spc="-1" strike="noStrike">
              <a:solidFill>
                <a:srgbClr val="000000"/>
              </a:solidFill>
              <a:latin typeface="Arial"/>
            </a:endParaRPr>
          </a:p>
        </p:txBody>
      </p:sp>
      <p:sp>
        <p:nvSpPr>
          <p:cNvPr id="112" name="">
            <a:hlinkClick r:id="rId3"/>
          </p:cNvPr>
          <p:cNvSpPr/>
          <p:nvPr/>
        </p:nvSpPr>
        <p:spPr>
          <a:xfrm>
            <a:off x="1310760" y="4038480"/>
            <a:ext cx="2905560" cy="459720"/>
          </a:xfrm>
          <a:prstGeom prst="rect">
            <a:avLst/>
          </a:prstGeom>
          <a:solidFill>
            <a:srgbClr val="000080"/>
          </a:solidFill>
          <a:ln w="255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12 Plagiarism Site</a:t>
            </a:r>
            <a:endParaRPr b="0" lang="en-US" sz="2400" spc="-1" strike="noStrike">
              <a:solidFill>
                <a:srgbClr val="000000"/>
              </a:solidFill>
              <a:latin typeface="Arial"/>
            </a:endParaRPr>
          </a:p>
        </p:txBody>
      </p:sp>
      <p:sp>
        <p:nvSpPr>
          <p:cNvPr id="113" name="">
            <a:hlinkClick r:id="rId4"/>
          </p:cNvPr>
          <p:cNvSpPr/>
          <p:nvPr/>
        </p:nvSpPr>
        <p:spPr>
          <a:xfrm>
            <a:off x="1303200" y="4876920"/>
            <a:ext cx="2963880" cy="459720"/>
          </a:xfrm>
          <a:prstGeom prst="rect">
            <a:avLst/>
          </a:prstGeom>
          <a:solidFill>
            <a:srgbClr val="000080"/>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ents - NetFami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rot="5080200">
            <a:off x="2322720" y="1459440"/>
            <a:ext cx="5361120" cy="4216680"/>
          </a:xfrm>
          <a:custGeom>
            <a:avLst/>
            <a:gdLst/>
            <a:ahLst/>
            <a:rect l="l" t="t" r="r" b="b"/>
            <a:pathLst>
              <a:path w="3377" h="2656">
                <a:moveTo>
                  <a:pt x="0" y="243"/>
                </a:moveTo>
                <a:cubicBezTo>
                  <a:pt x="51" y="215"/>
                  <a:pt x="222" y="94"/>
                  <a:pt x="305" y="64"/>
                </a:cubicBezTo>
                <a:cubicBezTo>
                  <a:pt x="388" y="34"/>
                  <a:pt x="449" y="48"/>
                  <a:pt x="497" y="64"/>
                </a:cubicBezTo>
                <a:cubicBezTo>
                  <a:pt x="545" y="80"/>
                  <a:pt x="529" y="88"/>
                  <a:pt x="593" y="160"/>
                </a:cubicBezTo>
                <a:cubicBezTo>
                  <a:pt x="657" y="232"/>
                  <a:pt x="753" y="456"/>
                  <a:pt x="881" y="496"/>
                </a:cubicBezTo>
                <a:cubicBezTo>
                  <a:pt x="1009" y="536"/>
                  <a:pt x="1233" y="464"/>
                  <a:pt x="1361" y="400"/>
                </a:cubicBezTo>
                <a:cubicBezTo>
                  <a:pt x="1489" y="336"/>
                  <a:pt x="1545" y="176"/>
                  <a:pt x="1649" y="112"/>
                </a:cubicBezTo>
                <a:cubicBezTo>
                  <a:pt x="1753" y="48"/>
                  <a:pt x="1873" y="0"/>
                  <a:pt x="1985" y="16"/>
                </a:cubicBezTo>
                <a:cubicBezTo>
                  <a:pt x="2097" y="32"/>
                  <a:pt x="2241" y="120"/>
                  <a:pt x="2321" y="208"/>
                </a:cubicBezTo>
                <a:cubicBezTo>
                  <a:pt x="2401" y="296"/>
                  <a:pt x="2481" y="400"/>
                  <a:pt x="2465" y="544"/>
                </a:cubicBezTo>
                <a:cubicBezTo>
                  <a:pt x="2449" y="688"/>
                  <a:pt x="2193" y="904"/>
                  <a:pt x="2225" y="1072"/>
                </a:cubicBezTo>
                <a:cubicBezTo>
                  <a:pt x="2257" y="1240"/>
                  <a:pt x="2553" y="1432"/>
                  <a:pt x="2657" y="1552"/>
                </a:cubicBezTo>
                <a:cubicBezTo>
                  <a:pt x="2761" y="1672"/>
                  <a:pt x="2825" y="1688"/>
                  <a:pt x="2849" y="1792"/>
                </a:cubicBezTo>
                <a:cubicBezTo>
                  <a:pt x="2873" y="1896"/>
                  <a:pt x="2713" y="2032"/>
                  <a:pt x="2801" y="2176"/>
                </a:cubicBezTo>
                <a:cubicBezTo>
                  <a:pt x="2889" y="2320"/>
                  <a:pt x="3281" y="2576"/>
                  <a:pt x="3377" y="2656"/>
                </a:cubicBezTo>
              </a:path>
            </a:pathLst>
          </a:custGeom>
          <a:noFill/>
          <a:ln w="25560">
            <a:solidFill>
              <a:srgbClr val="400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15" name="" descr=""/>
          <p:cNvPicPr/>
          <p:nvPr/>
        </p:nvPicPr>
        <p:blipFill>
          <a:blip r:embed="rId1"/>
          <a:srcRect l="25000" t="6251" r="0" b="0"/>
          <a:stretch/>
        </p:blipFill>
        <p:spPr>
          <a:xfrm>
            <a:off x="7086600" y="228600"/>
            <a:ext cx="1828800" cy="2286000"/>
          </a:xfrm>
          <a:prstGeom prst="rect">
            <a:avLst/>
          </a:prstGeom>
          <a:ln w="0">
            <a:noFill/>
          </a:ln>
        </p:spPr>
      </p:pic>
      <p:sp>
        <p:nvSpPr>
          <p:cNvPr id="116" name=""/>
          <p:cNvSpPr/>
          <p:nvPr/>
        </p:nvSpPr>
        <p:spPr>
          <a:xfrm>
            <a:off x="685800" y="2862360"/>
            <a:ext cx="7696080" cy="3141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on’t download, copy, or share music, games, movies, photos, or other property without permission of the creator.</a:t>
            </a:r>
            <a:endParaRPr b="0" lang="en-US" sz="2800" spc="-1" strike="noStrike">
              <a:solidFill>
                <a:srgbClr val="000000"/>
              </a:solidFill>
              <a:latin typeface="Arial"/>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se only legitimate sites (those that request payment or are copyright free) when downloading online media.</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17" name=""/>
          <p:cNvSpPr/>
          <p:nvPr/>
        </p:nvSpPr>
        <p:spPr>
          <a:xfrm>
            <a:off x="685800" y="1371600"/>
            <a:ext cx="655308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omic Sans MS"/>
              </a:rPr>
              <a:t>To</a:t>
            </a:r>
            <a:r>
              <a:rPr b="0" lang="en-US" sz="3600" spc="-1" strike="noStrike">
                <a:solidFill>
                  <a:srgbClr val="000000"/>
                </a:solidFill>
                <a:latin typeface="Comic Sans MS"/>
              </a:rPr>
              <a:t>-</a:t>
            </a:r>
            <a:r>
              <a:rPr b="0" i="1" lang="en-US" sz="3600" spc="-1" strike="noStrike">
                <a:solidFill>
                  <a:srgbClr val="000000"/>
                </a:solidFill>
                <a:latin typeface="Comic Sans MS"/>
              </a:rPr>
              <a:t>Dos</a:t>
            </a:r>
            <a:r>
              <a:rPr b="0" i="1" lang="en-US" sz="2800" spc="-1" strike="noStrike">
                <a:solidFill>
                  <a:srgbClr val="000000"/>
                </a:solidFill>
                <a:latin typeface="Comic Sans MS"/>
              </a:rPr>
              <a:t>:</a:t>
            </a:r>
            <a:r>
              <a:rPr b="0" lang="en-US" sz="2800" spc="-1" strike="noStrike">
                <a:solidFill>
                  <a:srgbClr val="000000"/>
                </a:solidFill>
                <a:latin typeface="Arial"/>
              </a:rPr>
              <a:t> Remember to share guidelines with your students:</a:t>
            </a:r>
            <a:endParaRPr b="0" lang="en-US" sz="2800" spc="-1" strike="noStrike">
              <a:solidFill>
                <a:srgbClr val="000000"/>
              </a:solidFill>
              <a:latin typeface="Arial"/>
            </a:endParaRPr>
          </a:p>
        </p:txBody>
      </p:sp>
      <p:pic>
        <p:nvPicPr>
          <p:cNvPr id="118" name="" descr=""/>
          <p:cNvPicPr/>
          <p:nvPr/>
        </p:nvPicPr>
        <p:blipFill>
          <a:blip r:embed="rId2"/>
          <a:stretch/>
        </p:blipFill>
        <p:spPr>
          <a:xfrm>
            <a:off x="2298600" y="152280"/>
            <a:ext cx="4538880" cy="900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2590920" y="738360"/>
            <a:ext cx="4081320" cy="5586120"/>
          </a:xfrm>
          <a:custGeom>
            <a:avLst/>
            <a:gdLst/>
            <a:ahLst/>
            <a:rect l="l" t="t" r="r" b="b"/>
            <a:pathLst>
              <a:path w="2582" h="3683">
                <a:moveTo>
                  <a:pt x="2166" y="0"/>
                </a:moveTo>
                <a:cubicBezTo>
                  <a:pt x="2198" y="48"/>
                  <a:pt x="2335" y="207"/>
                  <a:pt x="2372" y="287"/>
                </a:cubicBezTo>
                <a:cubicBezTo>
                  <a:pt x="2410" y="367"/>
                  <a:pt x="2402" y="429"/>
                  <a:pt x="2390" y="478"/>
                </a:cubicBezTo>
                <a:cubicBezTo>
                  <a:pt x="2379" y="527"/>
                  <a:pt x="2369" y="512"/>
                  <a:pt x="2304" y="583"/>
                </a:cubicBezTo>
                <a:cubicBezTo>
                  <a:pt x="2238" y="653"/>
                  <a:pt x="2024" y="770"/>
                  <a:pt x="1996" y="901"/>
                </a:cubicBezTo>
                <a:cubicBezTo>
                  <a:pt x="1968" y="1032"/>
                  <a:pt x="2060" y="1248"/>
                  <a:pt x="2136" y="1370"/>
                </a:cubicBezTo>
                <a:cubicBezTo>
                  <a:pt x="2212" y="1491"/>
                  <a:pt x="2376" y="1532"/>
                  <a:pt x="2450" y="1630"/>
                </a:cubicBezTo>
                <a:cubicBezTo>
                  <a:pt x="2523" y="1727"/>
                  <a:pt x="2582" y="1842"/>
                  <a:pt x="2576" y="1955"/>
                </a:cubicBezTo>
                <a:cubicBezTo>
                  <a:pt x="2571" y="2068"/>
                  <a:pt x="2497" y="2220"/>
                  <a:pt x="2416" y="2308"/>
                </a:cubicBezTo>
                <a:cubicBezTo>
                  <a:pt x="2336" y="2396"/>
                  <a:pt x="2240" y="2485"/>
                  <a:pt x="2095" y="2482"/>
                </a:cubicBezTo>
                <a:cubicBezTo>
                  <a:pt x="1950" y="2480"/>
                  <a:pt x="1722" y="2299"/>
                  <a:pt x="1547" y="2292"/>
                </a:cubicBezTo>
                <a:cubicBezTo>
                  <a:pt x="1372" y="2285"/>
                  <a:pt x="1146" y="2237"/>
                  <a:pt x="1042" y="2439"/>
                </a:cubicBezTo>
                <a:cubicBezTo>
                  <a:pt x="938" y="2641"/>
                  <a:pt x="1051" y="3321"/>
                  <a:pt x="921" y="3502"/>
                </a:cubicBezTo>
                <a:cubicBezTo>
                  <a:pt x="791" y="3683"/>
                  <a:pt x="417" y="3584"/>
                  <a:pt x="264" y="3524"/>
                </a:cubicBezTo>
                <a:cubicBezTo>
                  <a:pt x="111" y="3464"/>
                  <a:pt x="55" y="3220"/>
                  <a:pt x="0" y="3140"/>
                </a:cubicBezTo>
              </a:path>
            </a:pathLst>
          </a:custGeom>
          <a:noFill/>
          <a:ln w="25560">
            <a:solidFill>
              <a:srgbClr val="008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 name="PlaceHolder 1"/>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 </a:t>
            </a:r>
            <a:r>
              <a:rPr b="1" lang="en-US" sz="2800" spc="-1" strike="noStrike">
                <a:solidFill>
                  <a:srgbClr val="000000"/>
                </a:solidFill>
                <a:latin typeface="Arial"/>
              </a:rPr>
              <a:t>Cyberbullying</a:t>
            </a:r>
            <a:r>
              <a:rPr b="0" lang="en-US" sz="2800" spc="-1" strike="noStrike">
                <a:solidFill>
                  <a:srgbClr val="000000"/>
                </a:solidFill>
                <a:latin typeface="Arial"/>
              </a:rPr>
              <a:t> is the use of</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ology for harassment, imperson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nigration, trickery, exclusion and stalk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yberbullies may use email, chat rooms, discussion forums, instant messaging, text messaging or social networking sites. </a:t>
            </a:r>
            <a:endParaRPr b="0" lang="en-US" sz="2800" spc="-1" strike="noStrike">
              <a:solidFill>
                <a:srgbClr val="000000"/>
              </a:solidFill>
              <a:latin typeface="Arial"/>
            </a:endParaRPr>
          </a:p>
        </p:txBody>
      </p:sp>
      <p:pic>
        <p:nvPicPr>
          <p:cNvPr id="121" name="" descr=""/>
          <p:cNvPicPr/>
          <p:nvPr/>
        </p:nvPicPr>
        <p:blipFill>
          <a:blip r:embed="rId1"/>
          <a:stretch/>
        </p:blipFill>
        <p:spPr>
          <a:xfrm>
            <a:off x="2892600" y="228600"/>
            <a:ext cx="3352680" cy="906480"/>
          </a:xfrm>
          <a:prstGeom prst="rect">
            <a:avLst/>
          </a:prstGeom>
          <a:ln w="0">
            <a:noFill/>
          </a:ln>
        </p:spPr>
      </p:pic>
      <p:sp>
        <p:nvSpPr>
          <p:cNvPr id="122" name="">
            <a:hlinkClick r:id="rId2"/>
          </p:cNvPr>
          <p:cNvSpPr/>
          <p:nvPr/>
        </p:nvSpPr>
        <p:spPr>
          <a:xfrm>
            <a:off x="1143000" y="4991040"/>
            <a:ext cx="2895480" cy="459720"/>
          </a:xfrm>
          <a:prstGeom prst="rect">
            <a:avLst/>
          </a:prstGeom>
          <a:solidFill>
            <a:srgbClr val="0080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12 Real-life Video</a:t>
            </a:r>
            <a:endParaRPr b="0" lang="en-US" sz="2400" spc="-1" strike="noStrike">
              <a:solidFill>
                <a:srgbClr val="000000"/>
              </a:solidFill>
              <a:latin typeface="Arial"/>
            </a:endParaRPr>
          </a:p>
        </p:txBody>
      </p:sp>
      <p:sp>
        <p:nvSpPr>
          <p:cNvPr id="123" name="">
            <a:hlinkClick r:id="rId3" action="ppaction://hlinksldjump"/>
          </p:cNvPr>
          <p:cNvSpPr/>
          <p:nvPr/>
        </p:nvSpPr>
        <p:spPr>
          <a:xfrm>
            <a:off x="6858000" y="5791320"/>
            <a:ext cx="1515960" cy="459720"/>
          </a:xfrm>
          <a:prstGeom prst="rect">
            <a:avLst/>
          </a:prstGeom>
          <a:solidFill>
            <a:srgbClr val="000080"/>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rea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6019920" y="552600"/>
            <a:ext cx="2155680" cy="4591080"/>
          </a:xfrm>
          <a:custGeom>
            <a:avLst/>
            <a:gdLst/>
            <a:ahLst/>
            <a:rect l="l" t="t" r="r" b="b"/>
            <a:pathLst>
              <a:path w="1358" h="2892">
                <a:moveTo>
                  <a:pt x="0" y="36"/>
                </a:moveTo>
                <a:cubicBezTo>
                  <a:pt x="109" y="19"/>
                  <a:pt x="216" y="0"/>
                  <a:pt x="326" y="36"/>
                </a:cubicBezTo>
                <a:cubicBezTo>
                  <a:pt x="379" y="114"/>
                  <a:pt x="342" y="202"/>
                  <a:pt x="326" y="288"/>
                </a:cubicBezTo>
                <a:cubicBezTo>
                  <a:pt x="332" y="334"/>
                  <a:pt x="334" y="381"/>
                  <a:pt x="345" y="427"/>
                </a:cubicBezTo>
                <a:cubicBezTo>
                  <a:pt x="367" y="531"/>
                  <a:pt x="412" y="519"/>
                  <a:pt x="512" y="529"/>
                </a:cubicBezTo>
                <a:cubicBezTo>
                  <a:pt x="552" y="532"/>
                  <a:pt x="592" y="535"/>
                  <a:pt x="633" y="539"/>
                </a:cubicBezTo>
                <a:cubicBezTo>
                  <a:pt x="729" y="535"/>
                  <a:pt x="826" y="546"/>
                  <a:pt x="921" y="529"/>
                </a:cubicBezTo>
                <a:cubicBezTo>
                  <a:pt x="938" y="525"/>
                  <a:pt x="898" y="502"/>
                  <a:pt x="884" y="492"/>
                </a:cubicBezTo>
                <a:cubicBezTo>
                  <a:pt x="875" y="486"/>
                  <a:pt x="865" y="486"/>
                  <a:pt x="856" y="483"/>
                </a:cubicBezTo>
                <a:cubicBezTo>
                  <a:pt x="815" y="465"/>
                  <a:pt x="776" y="450"/>
                  <a:pt x="735" y="436"/>
                </a:cubicBezTo>
                <a:cubicBezTo>
                  <a:pt x="691" y="440"/>
                  <a:pt x="640" y="429"/>
                  <a:pt x="605" y="455"/>
                </a:cubicBezTo>
                <a:cubicBezTo>
                  <a:pt x="583" y="470"/>
                  <a:pt x="549" y="511"/>
                  <a:pt x="549" y="511"/>
                </a:cubicBezTo>
                <a:cubicBezTo>
                  <a:pt x="552" y="551"/>
                  <a:pt x="550" y="592"/>
                  <a:pt x="559" y="632"/>
                </a:cubicBezTo>
                <a:cubicBezTo>
                  <a:pt x="573" y="699"/>
                  <a:pt x="663" y="810"/>
                  <a:pt x="726" y="846"/>
                </a:cubicBezTo>
                <a:cubicBezTo>
                  <a:pt x="765" y="868"/>
                  <a:pt x="831" y="876"/>
                  <a:pt x="875" y="883"/>
                </a:cubicBezTo>
                <a:cubicBezTo>
                  <a:pt x="892" y="894"/>
                  <a:pt x="941" y="926"/>
                  <a:pt x="949" y="939"/>
                </a:cubicBezTo>
                <a:cubicBezTo>
                  <a:pt x="1017" y="1048"/>
                  <a:pt x="962" y="1042"/>
                  <a:pt x="1061" y="1106"/>
                </a:cubicBezTo>
                <a:cubicBezTo>
                  <a:pt x="1053" y="1180"/>
                  <a:pt x="1049" y="1305"/>
                  <a:pt x="959" y="1339"/>
                </a:cubicBezTo>
                <a:cubicBezTo>
                  <a:pt x="874" y="1370"/>
                  <a:pt x="909" y="1358"/>
                  <a:pt x="856" y="1376"/>
                </a:cubicBezTo>
                <a:cubicBezTo>
                  <a:pt x="797" y="1370"/>
                  <a:pt x="714" y="1386"/>
                  <a:pt x="763" y="1311"/>
                </a:cubicBezTo>
                <a:cubicBezTo>
                  <a:pt x="822" y="1345"/>
                  <a:pt x="887" y="1369"/>
                  <a:pt x="940" y="1413"/>
                </a:cubicBezTo>
                <a:cubicBezTo>
                  <a:pt x="1007" y="1470"/>
                  <a:pt x="972" y="1455"/>
                  <a:pt x="1042" y="1469"/>
                </a:cubicBezTo>
                <a:cubicBezTo>
                  <a:pt x="1048" y="1456"/>
                  <a:pt x="1066" y="1444"/>
                  <a:pt x="1061" y="1432"/>
                </a:cubicBezTo>
                <a:cubicBezTo>
                  <a:pt x="1051" y="1407"/>
                  <a:pt x="1005" y="1376"/>
                  <a:pt x="1005" y="1376"/>
                </a:cubicBezTo>
                <a:cubicBezTo>
                  <a:pt x="1002" y="1351"/>
                  <a:pt x="1005" y="1325"/>
                  <a:pt x="996" y="1302"/>
                </a:cubicBezTo>
                <a:cubicBezTo>
                  <a:pt x="971" y="1240"/>
                  <a:pt x="961" y="1304"/>
                  <a:pt x="959" y="1311"/>
                </a:cubicBezTo>
                <a:cubicBezTo>
                  <a:pt x="955" y="1332"/>
                  <a:pt x="964" y="1360"/>
                  <a:pt x="949" y="1376"/>
                </a:cubicBezTo>
                <a:cubicBezTo>
                  <a:pt x="930" y="1394"/>
                  <a:pt x="899" y="1388"/>
                  <a:pt x="875" y="1395"/>
                </a:cubicBezTo>
                <a:cubicBezTo>
                  <a:pt x="856" y="1400"/>
                  <a:pt x="819" y="1413"/>
                  <a:pt x="819" y="1413"/>
                </a:cubicBezTo>
                <a:cubicBezTo>
                  <a:pt x="876" y="1483"/>
                  <a:pt x="940" y="1538"/>
                  <a:pt x="996" y="1609"/>
                </a:cubicBezTo>
                <a:cubicBezTo>
                  <a:pt x="999" y="1618"/>
                  <a:pt x="1005" y="1626"/>
                  <a:pt x="1005" y="1636"/>
                </a:cubicBezTo>
                <a:cubicBezTo>
                  <a:pt x="1005" y="1679"/>
                  <a:pt x="1005" y="1724"/>
                  <a:pt x="996" y="1767"/>
                </a:cubicBezTo>
                <a:cubicBezTo>
                  <a:pt x="984" y="1817"/>
                  <a:pt x="868" y="1826"/>
                  <a:pt x="847" y="1832"/>
                </a:cubicBezTo>
                <a:cubicBezTo>
                  <a:pt x="680" y="1878"/>
                  <a:pt x="850" y="1847"/>
                  <a:pt x="717" y="1869"/>
                </a:cubicBezTo>
                <a:cubicBezTo>
                  <a:pt x="684" y="1933"/>
                  <a:pt x="678" y="1982"/>
                  <a:pt x="670" y="2055"/>
                </a:cubicBezTo>
                <a:cubicBezTo>
                  <a:pt x="695" y="2164"/>
                  <a:pt x="709" y="2261"/>
                  <a:pt x="791" y="2343"/>
                </a:cubicBezTo>
                <a:cubicBezTo>
                  <a:pt x="846" y="2398"/>
                  <a:pt x="1014" y="2418"/>
                  <a:pt x="1014" y="2418"/>
                </a:cubicBezTo>
                <a:cubicBezTo>
                  <a:pt x="1054" y="2457"/>
                  <a:pt x="1064" y="2460"/>
                  <a:pt x="1117" y="2474"/>
                </a:cubicBezTo>
                <a:cubicBezTo>
                  <a:pt x="1109" y="2510"/>
                  <a:pt x="1078" y="2568"/>
                  <a:pt x="1052" y="2595"/>
                </a:cubicBezTo>
                <a:cubicBezTo>
                  <a:pt x="1031" y="2615"/>
                  <a:pt x="996" y="2608"/>
                  <a:pt x="968" y="2613"/>
                </a:cubicBezTo>
                <a:cubicBezTo>
                  <a:pt x="913" y="2650"/>
                  <a:pt x="915" y="2636"/>
                  <a:pt x="949" y="2753"/>
                </a:cubicBezTo>
                <a:cubicBezTo>
                  <a:pt x="955" y="2775"/>
                  <a:pt x="1030" y="2818"/>
                  <a:pt x="1042" y="2827"/>
                </a:cubicBezTo>
                <a:cubicBezTo>
                  <a:pt x="1117" y="2881"/>
                  <a:pt x="1148" y="2874"/>
                  <a:pt x="1238" y="2892"/>
                </a:cubicBezTo>
                <a:cubicBezTo>
                  <a:pt x="1333" y="2871"/>
                  <a:pt x="1292" y="2874"/>
                  <a:pt x="1358" y="2874"/>
                </a:cubicBezTo>
              </a:path>
            </a:pathLst>
          </a:custGeom>
          <a:noFill/>
          <a:ln w="25560">
            <a:solidFill>
              <a:srgbClr val="00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PlaceHolder 1"/>
          <p:cNvSpPr>
            <a:spLocks noGrp="1"/>
          </p:cNvSpPr>
          <p:nvPr>
            <p:ph/>
          </p:nvPr>
        </p:nvSpPr>
        <p:spPr>
          <a:xfrm>
            <a:off x="685800" y="1371240"/>
            <a:ext cx="7772400" cy="480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raveling the facts… </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yber Bullying is considered a form of harassment in most states and can be punishable by law.</a:t>
            </a:r>
            <a:endParaRPr b="0" lang="en-US" sz="2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f I tell someone about bullying, it will just make it worse.” Research shows that bullying will stop when peers or adults get involved.</a:t>
            </a:r>
            <a:endParaRPr b="0" lang="en-US" sz="2800" spc="-1" strike="noStrike">
              <a:solidFill>
                <a:srgbClr val="000000"/>
              </a:solidFill>
              <a:latin typeface="Arial"/>
            </a:endParaRPr>
          </a:p>
        </p:txBody>
      </p:sp>
      <p:pic>
        <p:nvPicPr>
          <p:cNvPr id="126" name="" descr=""/>
          <p:cNvPicPr/>
          <p:nvPr/>
        </p:nvPicPr>
        <p:blipFill>
          <a:blip r:embed="rId1"/>
          <a:stretch/>
        </p:blipFill>
        <p:spPr>
          <a:xfrm>
            <a:off x="2892600" y="228600"/>
            <a:ext cx="3352680" cy="906480"/>
          </a:xfrm>
          <a:prstGeom prst="rect">
            <a:avLst/>
          </a:prstGeom>
          <a:ln w="0">
            <a:noFill/>
          </a:ln>
        </p:spPr>
      </p:pic>
      <p:sp>
        <p:nvSpPr>
          <p:cNvPr id="127" name=""/>
          <p:cNvSpPr/>
          <p:nvPr/>
        </p:nvSpPr>
        <p:spPr>
          <a:xfrm>
            <a:off x="1066680" y="5460840"/>
            <a:ext cx="3124440" cy="459720"/>
          </a:xfrm>
          <a:prstGeom prst="rect">
            <a:avLst/>
          </a:prstGeom>
          <a:solidFill>
            <a:srgbClr val="0080ff"/>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son - Online Bul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rot="5080200">
            <a:off x="1865520" y="1459440"/>
            <a:ext cx="5361120" cy="4216680"/>
          </a:xfrm>
          <a:custGeom>
            <a:avLst/>
            <a:gdLst/>
            <a:ahLst/>
            <a:rect l="l" t="t" r="r" b="b"/>
            <a:pathLst>
              <a:path w="3377" h="2656">
                <a:moveTo>
                  <a:pt x="0" y="243"/>
                </a:moveTo>
                <a:cubicBezTo>
                  <a:pt x="51" y="215"/>
                  <a:pt x="222" y="94"/>
                  <a:pt x="305" y="64"/>
                </a:cubicBezTo>
                <a:cubicBezTo>
                  <a:pt x="388" y="34"/>
                  <a:pt x="449" y="48"/>
                  <a:pt x="497" y="64"/>
                </a:cubicBezTo>
                <a:cubicBezTo>
                  <a:pt x="545" y="80"/>
                  <a:pt x="529" y="88"/>
                  <a:pt x="593" y="160"/>
                </a:cubicBezTo>
                <a:cubicBezTo>
                  <a:pt x="657" y="232"/>
                  <a:pt x="753" y="456"/>
                  <a:pt x="881" y="496"/>
                </a:cubicBezTo>
                <a:cubicBezTo>
                  <a:pt x="1009" y="536"/>
                  <a:pt x="1233" y="464"/>
                  <a:pt x="1361" y="400"/>
                </a:cubicBezTo>
                <a:cubicBezTo>
                  <a:pt x="1489" y="336"/>
                  <a:pt x="1545" y="176"/>
                  <a:pt x="1649" y="112"/>
                </a:cubicBezTo>
                <a:cubicBezTo>
                  <a:pt x="1753" y="48"/>
                  <a:pt x="1873" y="0"/>
                  <a:pt x="1985" y="16"/>
                </a:cubicBezTo>
                <a:cubicBezTo>
                  <a:pt x="2097" y="32"/>
                  <a:pt x="2241" y="120"/>
                  <a:pt x="2321" y="208"/>
                </a:cubicBezTo>
                <a:cubicBezTo>
                  <a:pt x="2401" y="296"/>
                  <a:pt x="2481" y="400"/>
                  <a:pt x="2465" y="544"/>
                </a:cubicBezTo>
                <a:cubicBezTo>
                  <a:pt x="2449" y="688"/>
                  <a:pt x="2193" y="904"/>
                  <a:pt x="2225" y="1072"/>
                </a:cubicBezTo>
                <a:cubicBezTo>
                  <a:pt x="2257" y="1240"/>
                  <a:pt x="2553" y="1432"/>
                  <a:pt x="2657" y="1552"/>
                </a:cubicBezTo>
                <a:cubicBezTo>
                  <a:pt x="2761" y="1672"/>
                  <a:pt x="2825" y="1688"/>
                  <a:pt x="2849" y="1792"/>
                </a:cubicBezTo>
                <a:cubicBezTo>
                  <a:pt x="2873" y="1896"/>
                  <a:pt x="2713" y="2032"/>
                  <a:pt x="2801" y="2176"/>
                </a:cubicBezTo>
                <a:cubicBezTo>
                  <a:pt x="2889" y="2320"/>
                  <a:pt x="3281" y="2576"/>
                  <a:pt x="3377" y="2656"/>
                </a:cubicBezTo>
              </a:path>
            </a:pathLst>
          </a:custGeom>
          <a:noFill/>
          <a:ln w="25560">
            <a:solidFill>
              <a:srgbClr val="00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29" name="" descr=""/>
          <p:cNvPicPr/>
          <p:nvPr/>
        </p:nvPicPr>
        <p:blipFill>
          <a:blip r:embed="rId1"/>
          <a:srcRect l="25000" t="6251" r="0" b="0"/>
          <a:stretch/>
        </p:blipFill>
        <p:spPr>
          <a:xfrm>
            <a:off x="7086600" y="228600"/>
            <a:ext cx="1828800" cy="2286000"/>
          </a:xfrm>
          <a:prstGeom prst="rect">
            <a:avLst/>
          </a:prstGeom>
          <a:ln w="0">
            <a:noFill/>
          </a:ln>
        </p:spPr>
      </p:pic>
      <p:sp>
        <p:nvSpPr>
          <p:cNvPr id="130" name=""/>
          <p:cNvSpPr/>
          <p:nvPr/>
        </p:nvSpPr>
        <p:spPr>
          <a:xfrm>
            <a:off x="685800" y="2851200"/>
            <a:ext cx="7696080" cy="2287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on’t respond to or meet with a cyberbull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ave proof of the harassment like e-mail messages, screen shots, IM logs, blogs, etc.</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31" name=""/>
          <p:cNvSpPr/>
          <p:nvPr/>
        </p:nvSpPr>
        <p:spPr>
          <a:xfrm>
            <a:off x="685800" y="1371600"/>
            <a:ext cx="655308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omic Sans MS"/>
              </a:rPr>
              <a:t>To</a:t>
            </a:r>
            <a:r>
              <a:rPr b="0" lang="en-US" sz="3600" spc="-1" strike="noStrike">
                <a:solidFill>
                  <a:srgbClr val="000000"/>
                </a:solidFill>
                <a:latin typeface="Comic Sans MS"/>
              </a:rPr>
              <a:t>-</a:t>
            </a:r>
            <a:r>
              <a:rPr b="0" i="1" lang="en-US" sz="3600" spc="-1" strike="noStrike">
                <a:solidFill>
                  <a:srgbClr val="000000"/>
                </a:solidFill>
                <a:latin typeface="Comic Sans MS"/>
              </a:rPr>
              <a:t>Dos</a:t>
            </a:r>
            <a:r>
              <a:rPr b="0" i="1" lang="en-US" sz="2800" spc="-1" strike="noStrike">
                <a:solidFill>
                  <a:srgbClr val="000000"/>
                </a:solidFill>
                <a:latin typeface="Comic Sans MS"/>
              </a:rPr>
              <a:t>:</a:t>
            </a:r>
            <a:r>
              <a:rPr b="0" lang="en-US" sz="2800" spc="-1" strike="noStrike">
                <a:solidFill>
                  <a:srgbClr val="000000"/>
                </a:solidFill>
                <a:latin typeface="Arial"/>
              </a:rPr>
              <a:t> Remember to share guidelines with your students and use “</a:t>
            </a:r>
            <a:r>
              <a:rPr b="0" lang="en-US" sz="2800" spc="-1" strike="noStrike" u="sng">
                <a:solidFill>
                  <a:srgbClr val="000000"/>
                </a:solidFill>
                <a:uFillTx/>
                <a:latin typeface="Arial"/>
              </a:rPr>
              <a:t>teachable moments</a:t>
            </a: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132" name="" descr=""/>
          <p:cNvPicPr/>
          <p:nvPr/>
        </p:nvPicPr>
        <p:blipFill>
          <a:blip r:embed="rId2"/>
          <a:stretch/>
        </p:blipFill>
        <p:spPr>
          <a:xfrm>
            <a:off x="2892600" y="228600"/>
            <a:ext cx="3352680" cy="906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rot="5080200">
            <a:off x="1865520" y="1459440"/>
            <a:ext cx="5361120" cy="4216680"/>
          </a:xfrm>
          <a:custGeom>
            <a:avLst/>
            <a:gdLst/>
            <a:ahLst/>
            <a:rect l="l" t="t" r="r" b="b"/>
            <a:pathLst>
              <a:path w="3377" h="2656">
                <a:moveTo>
                  <a:pt x="0" y="243"/>
                </a:moveTo>
                <a:cubicBezTo>
                  <a:pt x="51" y="215"/>
                  <a:pt x="222" y="94"/>
                  <a:pt x="305" y="64"/>
                </a:cubicBezTo>
                <a:cubicBezTo>
                  <a:pt x="388" y="34"/>
                  <a:pt x="449" y="48"/>
                  <a:pt x="497" y="64"/>
                </a:cubicBezTo>
                <a:cubicBezTo>
                  <a:pt x="545" y="80"/>
                  <a:pt x="529" y="88"/>
                  <a:pt x="593" y="160"/>
                </a:cubicBezTo>
                <a:cubicBezTo>
                  <a:pt x="657" y="232"/>
                  <a:pt x="753" y="456"/>
                  <a:pt x="881" y="496"/>
                </a:cubicBezTo>
                <a:cubicBezTo>
                  <a:pt x="1009" y="536"/>
                  <a:pt x="1233" y="464"/>
                  <a:pt x="1361" y="400"/>
                </a:cubicBezTo>
                <a:cubicBezTo>
                  <a:pt x="1489" y="336"/>
                  <a:pt x="1545" y="176"/>
                  <a:pt x="1649" y="112"/>
                </a:cubicBezTo>
                <a:cubicBezTo>
                  <a:pt x="1753" y="48"/>
                  <a:pt x="1873" y="0"/>
                  <a:pt x="1985" y="16"/>
                </a:cubicBezTo>
                <a:cubicBezTo>
                  <a:pt x="2097" y="32"/>
                  <a:pt x="2241" y="120"/>
                  <a:pt x="2321" y="208"/>
                </a:cubicBezTo>
                <a:cubicBezTo>
                  <a:pt x="2401" y="296"/>
                  <a:pt x="2481" y="400"/>
                  <a:pt x="2465" y="544"/>
                </a:cubicBezTo>
                <a:cubicBezTo>
                  <a:pt x="2449" y="688"/>
                  <a:pt x="2193" y="904"/>
                  <a:pt x="2225" y="1072"/>
                </a:cubicBezTo>
                <a:cubicBezTo>
                  <a:pt x="2257" y="1240"/>
                  <a:pt x="2553" y="1432"/>
                  <a:pt x="2657" y="1552"/>
                </a:cubicBezTo>
                <a:cubicBezTo>
                  <a:pt x="2761" y="1672"/>
                  <a:pt x="2825" y="1688"/>
                  <a:pt x="2849" y="1792"/>
                </a:cubicBezTo>
                <a:cubicBezTo>
                  <a:pt x="2873" y="1896"/>
                  <a:pt x="2713" y="2032"/>
                  <a:pt x="2801" y="2176"/>
                </a:cubicBezTo>
                <a:cubicBezTo>
                  <a:pt x="2889" y="2320"/>
                  <a:pt x="3281" y="2576"/>
                  <a:pt x="3377" y="2656"/>
                </a:cubicBezTo>
              </a:path>
            </a:pathLst>
          </a:custGeom>
          <a:noFill/>
          <a:ln w="25560">
            <a:solidFill>
              <a:srgbClr val="00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34" name="" descr=""/>
          <p:cNvPicPr/>
          <p:nvPr/>
        </p:nvPicPr>
        <p:blipFill>
          <a:blip r:embed="rId1"/>
          <a:srcRect l="25000" t="6251" r="0" b="0"/>
          <a:stretch/>
        </p:blipFill>
        <p:spPr>
          <a:xfrm>
            <a:off x="7086600" y="228600"/>
            <a:ext cx="1828800" cy="2286000"/>
          </a:xfrm>
          <a:prstGeom prst="rect">
            <a:avLst/>
          </a:prstGeom>
          <a:ln w="0">
            <a:noFill/>
          </a:ln>
        </p:spPr>
      </p:pic>
      <p:sp>
        <p:nvSpPr>
          <p:cNvPr id="135" name=""/>
          <p:cNvSpPr/>
          <p:nvPr/>
        </p:nvSpPr>
        <p:spPr>
          <a:xfrm>
            <a:off x="762120" y="1371600"/>
            <a:ext cx="7696080" cy="472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omic Sans MS"/>
              </a:rPr>
              <a:t>To</a:t>
            </a:r>
            <a:r>
              <a:rPr b="0" lang="en-US" sz="3600" spc="-1" strike="noStrike">
                <a:solidFill>
                  <a:srgbClr val="000000"/>
                </a:solidFill>
                <a:latin typeface="Comic Sans MS"/>
              </a:rPr>
              <a:t>-</a:t>
            </a:r>
            <a:r>
              <a:rPr b="0" i="1" lang="en-US" sz="3600" spc="-1" strike="noStrike">
                <a:solidFill>
                  <a:srgbClr val="000000"/>
                </a:solidFill>
                <a:latin typeface="Comic Sans MS"/>
              </a:rPr>
              <a:t>Dos</a:t>
            </a:r>
            <a:r>
              <a:rPr b="0" i="1" lang="en-US" sz="2400" spc="-1" strike="noStrike">
                <a:solidFill>
                  <a:srgbClr val="000000"/>
                </a:solidFill>
                <a:latin typeface="Comic Sans MS"/>
              </a:rPr>
              <a:t> </a:t>
            </a:r>
            <a:r>
              <a:rPr b="0" lang="en-US" sz="2400" spc="-1" strike="noStrike">
                <a:solidFill>
                  <a:srgbClr val="000000"/>
                </a:solidFill>
                <a:latin typeface="Arial"/>
              </a:rPr>
              <a:t>(cont’d)</a:t>
            </a:r>
            <a:r>
              <a:rPr b="0" lang="en-US"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ell a trusted adult who ca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File a complaint with the Internet Service Provider or send an email to the host of the web site where the abuse was posted.</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Contact the cyberbully’s parents.</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Contact an attorney or file a small claims action.</a:t>
            </a:r>
            <a:endParaRPr b="0" lang="en-US" sz="2800" spc="-1" strike="noStrike">
              <a:solidFill>
                <a:srgbClr val="000000"/>
              </a:solidFill>
              <a:latin typeface="Arial"/>
            </a:endParaRPr>
          </a:p>
        </p:txBody>
      </p:sp>
      <p:pic>
        <p:nvPicPr>
          <p:cNvPr id="136" name="" descr=""/>
          <p:cNvPicPr/>
          <p:nvPr/>
        </p:nvPicPr>
        <p:blipFill>
          <a:blip r:embed="rId2"/>
          <a:stretch/>
        </p:blipFill>
        <p:spPr>
          <a:xfrm>
            <a:off x="2892600" y="228600"/>
            <a:ext cx="3352680" cy="906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2282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80"/>
                </a:solidFill>
                <a:latin typeface="Arial"/>
              </a:rPr>
              <a:t>Goals of Presentation</a:t>
            </a:r>
            <a:endParaRPr b="0" lang="en-US" sz="3600" spc="-1" strike="noStrike">
              <a:solidFill>
                <a:srgbClr val="000080"/>
              </a:solidFill>
              <a:latin typeface="Arial"/>
            </a:endParaRPr>
          </a:p>
        </p:txBody>
      </p:sp>
      <p:sp>
        <p:nvSpPr>
          <p:cNvPr id="59" name="PlaceHolder 2"/>
          <p:cNvSpPr>
            <a:spLocks noGrp="1"/>
          </p:cNvSpPr>
          <p:nvPr>
            <p:ph type="subTitle"/>
          </p:nvPr>
        </p:nvSpPr>
        <p:spPr>
          <a:xfrm>
            <a:off x="609480" y="1523880"/>
            <a:ext cx="7925040" cy="18288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o consider strategies to help ensure that our children have a safe, positive experience with technology,</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
          <p:cNvSpPr/>
          <p:nvPr/>
        </p:nvSpPr>
        <p:spPr>
          <a:xfrm>
            <a:off x="609480" y="4359240"/>
            <a:ext cx="7925040" cy="155628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unraveling the fear and hype surrounding the online lives of our cyber kids</a:t>
            </a:r>
            <a:r>
              <a:rPr b="0" lang="en-US"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
          <p:cNvSpPr/>
          <p:nvPr/>
        </p:nvSpPr>
        <p:spPr>
          <a:xfrm>
            <a:off x="3512520" y="3382920"/>
            <a:ext cx="2122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ile als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4">
                                  <p:stCondLst>
                                    <p:cond delay="0"/>
                                  </p:stCondLst>
                                  <p:childTnLst>
                                    <p:set>
                                      <p:cBhvr>
                                        <p:cTn id="6" dur="1" fill="hold">
                                          <p:stCondLst>
                                            <p:cond delay="0"/>
                                          </p:stCondLst>
                                        </p:cTn>
                                        <p:tgtEl>
                                          <p:spTgt spid="61"/>
                                        </p:tgtEl>
                                        <p:attrNameLst>
                                          <p:attrName>style.visibility</p:attrName>
                                        </p:attrNameLst>
                                      </p:cBhvr>
                                      <p:to>
                                        <p:strVal val="visible"/>
                                      </p:to>
                                    </p:set>
                                    <p:anim calcmode="lin" valueType="num">
                                      <p:cBhvr additive="repl">
                                        <p:cTn id="7" dur="500" fill="hold"/>
                                        <p:tgtEl>
                                          <p:spTgt spid="61"/>
                                        </p:tgtEl>
                                        <p:attrNameLst>
                                          <p:attrName>ppt_w</p:attrName>
                                        </p:attrNameLst>
                                      </p:cBhvr>
                                      <p:tavLst>
                                        <p:tav tm="0">
                                          <p:val>
                                            <p:strVal val="#ppt_w*0.05"/>
                                          </p:val>
                                        </p:tav>
                                        <p:tav tm="100000">
                                          <p:val>
                                            <p:strVal val="#ppt_w"/>
                                          </p:val>
                                        </p:tav>
                                      </p:tavLst>
                                    </p:anim>
                                    <p:anim calcmode="lin" valueType="num">
                                      <p:cBhvr additive="repl">
                                        <p:cTn id="8" dur="500" fill="hold"/>
                                        <p:tgtEl>
                                          <p:spTgt spid="61"/>
                                        </p:tgtEl>
                                        <p:attrNameLst>
                                          <p:attrName>ppt_h</p:attrName>
                                        </p:attrNameLst>
                                      </p:cBhvr>
                                      <p:tavLst>
                                        <p:tav tm="0">
                                          <p:val>
                                            <p:strVal val="#ppt_h"/>
                                          </p:val>
                                        </p:tav>
                                        <p:tav tm="100000">
                                          <p:val>
                                            <p:strVal val="#ppt_h"/>
                                          </p:val>
                                        </p:tav>
                                      </p:tavLst>
                                    </p:anim>
                                    <p:anim calcmode="lin" valueType="num">
                                      <p:cBhvr additive="repl">
                                        <p:cTn id="9" dur="500" fill="hold"/>
                                        <p:tgtEl>
                                          <p:spTgt spid="61"/>
                                        </p:tgtEl>
                                        <p:attrNameLst>
                                          <p:attrName>ppt_x</p:attrName>
                                        </p:attrNameLst>
                                      </p:cBhvr>
                                      <p:tavLst>
                                        <p:tav tm="0">
                                          <p:val>
                                            <p:strVal val="#ppt_x-.2"/>
                                          </p:val>
                                        </p:tav>
                                        <p:tav tm="100000">
                                          <p:val>
                                            <p:strVal val="#ppt_x"/>
                                          </p:val>
                                        </p:tav>
                                      </p:tavLst>
                                    </p:anim>
                                    <p:anim calcmode="lin" valueType="num">
                                      <p:cBhvr additive="repl">
                                        <p:cTn id="10" dur="500" fill="hold"/>
                                        <p:tgtEl>
                                          <p:spTgt spid="61"/>
                                        </p:tgtEl>
                                        <p:attrNameLst>
                                          <p:attrName>ppt_y</p:attrName>
                                        </p:attrNameLst>
                                      </p:cBhvr>
                                      <p:tavLst>
                                        <p:tav tm="0">
                                          <p:val>
                                            <p:strVal val="#ppt_y"/>
                                          </p:val>
                                        </p:tav>
                                        <p:tav tm="100000">
                                          <p:val>
                                            <p:strVal val="#ppt_y"/>
                                          </p:val>
                                        </p:tav>
                                      </p:tavLst>
                                    </p:anim>
                                    <p:animEffect filter="fade" transition="in">
                                      <p:cBhvr additive="repl">
                                        <p:cTn id="11" dur="500"/>
                                        <p:tgtEl>
                                          <p:spTgt spid="61"/>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2814480" y="738360"/>
            <a:ext cx="4086360" cy="5370480"/>
          </a:xfrm>
          <a:custGeom>
            <a:avLst/>
            <a:gdLst/>
            <a:ahLst/>
            <a:rect l="l" t="t" r="r" b="b"/>
            <a:pathLst>
              <a:path w="2574" h="3383">
                <a:moveTo>
                  <a:pt x="2158" y="0"/>
                </a:moveTo>
                <a:cubicBezTo>
                  <a:pt x="2190" y="48"/>
                  <a:pt x="2327" y="207"/>
                  <a:pt x="2364" y="287"/>
                </a:cubicBezTo>
                <a:cubicBezTo>
                  <a:pt x="2402" y="367"/>
                  <a:pt x="2394" y="429"/>
                  <a:pt x="2382" y="478"/>
                </a:cubicBezTo>
                <a:cubicBezTo>
                  <a:pt x="2371" y="527"/>
                  <a:pt x="2361" y="512"/>
                  <a:pt x="2296" y="583"/>
                </a:cubicBezTo>
                <a:cubicBezTo>
                  <a:pt x="2230" y="653"/>
                  <a:pt x="2016" y="770"/>
                  <a:pt x="1988" y="901"/>
                </a:cubicBezTo>
                <a:cubicBezTo>
                  <a:pt x="1960" y="1032"/>
                  <a:pt x="2052" y="1248"/>
                  <a:pt x="2128" y="1370"/>
                </a:cubicBezTo>
                <a:cubicBezTo>
                  <a:pt x="2204" y="1491"/>
                  <a:pt x="2368" y="1532"/>
                  <a:pt x="2442" y="1630"/>
                </a:cubicBezTo>
                <a:cubicBezTo>
                  <a:pt x="2515" y="1727"/>
                  <a:pt x="2574" y="1842"/>
                  <a:pt x="2568" y="1955"/>
                </a:cubicBezTo>
                <a:cubicBezTo>
                  <a:pt x="2563" y="2068"/>
                  <a:pt x="2489" y="2220"/>
                  <a:pt x="2408" y="2308"/>
                </a:cubicBezTo>
                <a:cubicBezTo>
                  <a:pt x="2328" y="2396"/>
                  <a:pt x="2232" y="2485"/>
                  <a:pt x="2087" y="2482"/>
                </a:cubicBezTo>
                <a:cubicBezTo>
                  <a:pt x="1942" y="2480"/>
                  <a:pt x="1703" y="2245"/>
                  <a:pt x="1539" y="2292"/>
                </a:cubicBezTo>
                <a:cubicBezTo>
                  <a:pt x="1375" y="2340"/>
                  <a:pt x="1211" y="2652"/>
                  <a:pt x="1101" y="2767"/>
                </a:cubicBezTo>
                <a:cubicBezTo>
                  <a:pt x="992" y="2882"/>
                  <a:pt x="982" y="2947"/>
                  <a:pt x="880" y="2981"/>
                </a:cubicBezTo>
                <a:cubicBezTo>
                  <a:pt x="779" y="3014"/>
                  <a:pt x="640" y="2901"/>
                  <a:pt x="493" y="2968"/>
                </a:cubicBezTo>
                <a:cubicBezTo>
                  <a:pt x="346" y="3035"/>
                  <a:pt x="103" y="3297"/>
                  <a:pt x="0" y="3383"/>
                </a:cubicBezTo>
              </a:path>
            </a:pathLst>
          </a:custGeom>
          <a:noFill/>
          <a:ln w="25560">
            <a:solidFill>
              <a:srgbClr val="ff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8" name="PlaceHolder 1"/>
          <p:cNvSpPr>
            <a:spLocks noGrp="1"/>
          </p:cNvSpPr>
          <p:nvPr>
            <p:ph/>
          </p:nvPr>
        </p:nvSpPr>
        <p:spPr>
          <a:xfrm>
            <a:off x="685800" y="1371240"/>
            <a:ext cx="7772400" cy="5181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 </a:t>
            </a:r>
            <a:r>
              <a:rPr b="1" lang="en-US" sz="2800" spc="-1" strike="noStrike">
                <a:solidFill>
                  <a:srgbClr val="000000"/>
                </a:solidFill>
                <a:latin typeface="Arial"/>
              </a:rPr>
              <a:t>Social network sites </a:t>
            </a:r>
            <a:r>
              <a:rPr b="0" lang="en-US" sz="2800" spc="-1" strike="noStrike">
                <a:solidFill>
                  <a:srgbClr val="000000"/>
                </a:solidFill>
                <a:latin typeface="Arial"/>
              </a:rPr>
              <a:t>(MySpace an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czo) are services that use the Internet t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n interactive network of photos, video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 logs (blogs) and groups.</a:t>
            </a:r>
            <a:endParaRPr b="0" lang="en-US" sz="2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 networking sites gather data submitted by members as “profiles”</a:t>
            </a:r>
            <a:endParaRPr b="0"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iles can then be shared among membe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9" name="" descr=""/>
          <p:cNvPicPr/>
          <p:nvPr/>
        </p:nvPicPr>
        <p:blipFill>
          <a:blip r:embed="rId1"/>
          <a:stretch/>
        </p:blipFill>
        <p:spPr>
          <a:xfrm>
            <a:off x="2511360" y="200160"/>
            <a:ext cx="4114800" cy="942840"/>
          </a:xfrm>
          <a:prstGeom prst="rect">
            <a:avLst/>
          </a:prstGeom>
          <a:ln w="0">
            <a:noFill/>
          </a:ln>
        </p:spPr>
      </p:pic>
      <p:sp>
        <p:nvSpPr>
          <p:cNvPr id="140" name="">
            <a:hlinkClick r:id="rId2" action="ppaction://hlinksldjump"/>
          </p:cNvPr>
          <p:cNvSpPr/>
          <p:nvPr/>
        </p:nvSpPr>
        <p:spPr>
          <a:xfrm>
            <a:off x="6858000" y="5791320"/>
            <a:ext cx="1515960" cy="459720"/>
          </a:xfrm>
          <a:prstGeom prst="rect">
            <a:avLst/>
          </a:prstGeom>
          <a:solidFill>
            <a:srgbClr val="000080"/>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reads</a:t>
            </a:r>
            <a:endParaRPr b="0" lang="en-US" sz="2400" spc="-1" strike="noStrike">
              <a:solidFill>
                <a:srgbClr val="000000"/>
              </a:solidFill>
              <a:latin typeface="Arial"/>
            </a:endParaRPr>
          </a:p>
        </p:txBody>
      </p:sp>
      <p:sp>
        <p:nvSpPr>
          <p:cNvPr id="141" name=""/>
          <p:cNvSpPr/>
          <p:nvPr/>
        </p:nvSpPr>
        <p:spPr>
          <a:xfrm>
            <a:off x="990720" y="5791320"/>
            <a:ext cx="2895480" cy="459720"/>
          </a:xfrm>
          <a:prstGeom prst="rect">
            <a:avLst/>
          </a:prstGeom>
          <a:solidFill>
            <a:srgbClr val="ff9900"/>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ySafeOnline.or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2" name=""/>
          <p:cNvGrpSpPr/>
          <p:nvPr/>
        </p:nvGrpSpPr>
        <p:grpSpPr>
          <a:xfrm>
            <a:off x="304920" y="3429000"/>
            <a:ext cx="3809520" cy="3143160"/>
            <a:chOff x="304920" y="3429000"/>
            <a:chExt cx="3809520" cy="3143160"/>
          </a:xfrm>
        </p:grpSpPr>
        <p:pic>
          <p:nvPicPr>
            <p:cNvPr id="143" name="" descr=""/>
            <p:cNvPicPr/>
            <p:nvPr/>
          </p:nvPicPr>
          <p:blipFill>
            <a:blip r:embed="rId1"/>
            <a:srcRect l="37756" t="37755" r="12662" b="12660"/>
            <a:stretch/>
          </p:blipFill>
          <p:spPr>
            <a:xfrm>
              <a:off x="533160" y="3886200"/>
              <a:ext cx="3581280" cy="2685960"/>
            </a:xfrm>
            <a:prstGeom prst="rect">
              <a:avLst/>
            </a:prstGeom>
            <a:ln w="0">
              <a:noFill/>
            </a:ln>
          </p:spPr>
        </p:pic>
        <p:pic>
          <p:nvPicPr>
            <p:cNvPr id="144" name="" descr=""/>
            <p:cNvPicPr/>
            <p:nvPr/>
          </p:nvPicPr>
          <p:blipFill>
            <a:blip r:embed="rId2"/>
            <a:stretch/>
          </p:blipFill>
          <p:spPr>
            <a:xfrm>
              <a:off x="304920" y="3429000"/>
              <a:ext cx="2519280" cy="1012680"/>
            </a:xfrm>
            <a:prstGeom prst="rect">
              <a:avLst/>
            </a:prstGeom>
            <a:ln w="0">
              <a:noFill/>
            </a:ln>
          </p:spPr>
        </p:pic>
      </p:grpSp>
      <p:sp>
        <p:nvSpPr>
          <p:cNvPr id="145" name=""/>
          <p:cNvSpPr/>
          <p:nvPr/>
        </p:nvSpPr>
        <p:spPr>
          <a:xfrm>
            <a:off x="838080" y="5091120"/>
            <a:ext cx="2592360" cy="318960"/>
          </a:xfrm>
          <a:custGeom>
            <a:avLst/>
            <a:gdLst/>
            <a:ahLst/>
            <a:rect l="l" t="t" r="r" b="b"/>
            <a:pathLst>
              <a:path w="1688" h="208">
                <a:moveTo>
                  <a:pt x="264" y="8"/>
                </a:moveTo>
                <a:cubicBezTo>
                  <a:pt x="184" y="16"/>
                  <a:pt x="112" y="32"/>
                  <a:pt x="72" y="56"/>
                </a:cubicBezTo>
                <a:cubicBezTo>
                  <a:pt x="32" y="80"/>
                  <a:pt x="0" y="128"/>
                  <a:pt x="24" y="152"/>
                </a:cubicBezTo>
                <a:cubicBezTo>
                  <a:pt x="48" y="176"/>
                  <a:pt x="168" y="192"/>
                  <a:pt x="216" y="200"/>
                </a:cubicBezTo>
                <a:cubicBezTo>
                  <a:pt x="264" y="208"/>
                  <a:pt x="264" y="200"/>
                  <a:pt x="312" y="200"/>
                </a:cubicBezTo>
                <a:cubicBezTo>
                  <a:pt x="360" y="200"/>
                  <a:pt x="456" y="200"/>
                  <a:pt x="504" y="200"/>
                </a:cubicBezTo>
                <a:cubicBezTo>
                  <a:pt x="552" y="200"/>
                  <a:pt x="552" y="200"/>
                  <a:pt x="600" y="200"/>
                </a:cubicBezTo>
                <a:cubicBezTo>
                  <a:pt x="648" y="200"/>
                  <a:pt x="696" y="200"/>
                  <a:pt x="792" y="200"/>
                </a:cubicBezTo>
                <a:cubicBezTo>
                  <a:pt x="888" y="200"/>
                  <a:pt x="1064" y="200"/>
                  <a:pt x="1176" y="200"/>
                </a:cubicBezTo>
                <a:cubicBezTo>
                  <a:pt x="1288" y="200"/>
                  <a:pt x="1384" y="208"/>
                  <a:pt x="1464" y="200"/>
                </a:cubicBezTo>
                <a:cubicBezTo>
                  <a:pt x="1544" y="192"/>
                  <a:pt x="1624" y="176"/>
                  <a:pt x="1656" y="152"/>
                </a:cubicBezTo>
                <a:cubicBezTo>
                  <a:pt x="1688" y="128"/>
                  <a:pt x="1677" y="76"/>
                  <a:pt x="1656" y="56"/>
                </a:cubicBezTo>
                <a:cubicBezTo>
                  <a:pt x="1635" y="36"/>
                  <a:pt x="1578" y="37"/>
                  <a:pt x="1530" y="29"/>
                </a:cubicBezTo>
                <a:cubicBezTo>
                  <a:pt x="1482" y="21"/>
                  <a:pt x="1435" y="12"/>
                  <a:pt x="1368" y="8"/>
                </a:cubicBezTo>
                <a:cubicBezTo>
                  <a:pt x="1301" y="4"/>
                  <a:pt x="1216" y="8"/>
                  <a:pt x="1128" y="8"/>
                </a:cubicBezTo>
                <a:cubicBezTo>
                  <a:pt x="1040" y="8"/>
                  <a:pt x="936" y="8"/>
                  <a:pt x="840" y="8"/>
                </a:cubicBezTo>
                <a:cubicBezTo>
                  <a:pt x="744" y="8"/>
                  <a:pt x="648" y="8"/>
                  <a:pt x="552" y="8"/>
                </a:cubicBezTo>
                <a:cubicBezTo>
                  <a:pt x="456" y="8"/>
                  <a:pt x="344" y="0"/>
                  <a:pt x="264" y="8"/>
                </a:cubicBez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46" name="" descr=""/>
          <p:cNvPicPr/>
          <p:nvPr/>
        </p:nvPicPr>
        <p:blipFill>
          <a:blip r:embed="rId3"/>
          <a:stretch/>
        </p:blipFill>
        <p:spPr>
          <a:xfrm>
            <a:off x="3429000" y="3048120"/>
            <a:ext cx="3308400" cy="1025280"/>
          </a:xfrm>
          <a:prstGeom prst="rect">
            <a:avLst/>
          </a:prstGeom>
          <a:ln w="0">
            <a:noFill/>
          </a:ln>
        </p:spPr>
      </p:pic>
      <p:pic>
        <p:nvPicPr>
          <p:cNvPr id="147" name="" descr=""/>
          <p:cNvPicPr/>
          <p:nvPr/>
        </p:nvPicPr>
        <p:blipFill>
          <a:blip r:embed="rId4"/>
          <a:stretch/>
        </p:blipFill>
        <p:spPr>
          <a:xfrm>
            <a:off x="5284800" y="4508640"/>
            <a:ext cx="3230640" cy="1155600"/>
          </a:xfrm>
          <a:prstGeom prst="rect">
            <a:avLst/>
          </a:prstGeom>
          <a:ln w="0">
            <a:noFill/>
          </a:ln>
        </p:spPr>
      </p:pic>
      <p:pic>
        <p:nvPicPr>
          <p:cNvPr id="148" name="" descr=""/>
          <p:cNvPicPr/>
          <p:nvPr/>
        </p:nvPicPr>
        <p:blipFill>
          <a:blip r:embed="rId5"/>
          <a:stretch/>
        </p:blipFill>
        <p:spPr>
          <a:xfrm>
            <a:off x="1295280" y="1746360"/>
            <a:ext cx="3581640" cy="884160"/>
          </a:xfrm>
          <a:prstGeom prst="rect">
            <a:avLst/>
          </a:prstGeom>
          <a:ln w="0">
            <a:noFill/>
          </a:ln>
        </p:spPr>
      </p:pic>
      <p:sp>
        <p:nvSpPr>
          <p:cNvPr id="149" name="PlaceHolder 1"/>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0" name="" descr=""/>
          <p:cNvPicPr/>
          <p:nvPr/>
        </p:nvPicPr>
        <p:blipFill>
          <a:blip r:embed="rId6"/>
          <a:stretch/>
        </p:blipFill>
        <p:spPr>
          <a:xfrm>
            <a:off x="1219320" y="4446720"/>
            <a:ext cx="3276360" cy="985680"/>
          </a:xfrm>
          <a:prstGeom prst="rect">
            <a:avLst/>
          </a:prstGeom>
          <a:ln w="0">
            <a:noFill/>
          </a:ln>
        </p:spPr>
      </p:pic>
      <p:grpSp>
        <p:nvGrpSpPr>
          <p:cNvPr id="151" name=""/>
          <p:cNvGrpSpPr/>
          <p:nvPr/>
        </p:nvGrpSpPr>
        <p:grpSpPr>
          <a:xfrm>
            <a:off x="380880" y="1219320"/>
            <a:ext cx="6476760" cy="2778120"/>
            <a:chOff x="380880" y="1219320"/>
            <a:chExt cx="6476760" cy="2778120"/>
          </a:xfrm>
        </p:grpSpPr>
        <p:pic>
          <p:nvPicPr>
            <p:cNvPr id="152" name="" descr=""/>
            <p:cNvPicPr/>
            <p:nvPr/>
          </p:nvPicPr>
          <p:blipFill>
            <a:blip r:embed="rId7"/>
            <a:stretch/>
          </p:blipFill>
          <p:spPr>
            <a:xfrm>
              <a:off x="3817440" y="1219320"/>
              <a:ext cx="3040200" cy="912960"/>
            </a:xfrm>
            <a:prstGeom prst="rect">
              <a:avLst/>
            </a:prstGeom>
            <a:ln w="0">
              <a:noFill/>
            </a:ln>
          </p:spPr>
        </p:pic>
        <p:pic>
          <p:nvPicPr>
            <p:cNvPr id="153" name="" descr=""/>
            <p:cNvPicPr/>
            <p:nvPr/>
          </p:nvPicPr>
          <p:blipFill>
            <a:blip r:embed="rId8"/>
            <a:stretch/>
          </p:blipFill>
          <p:spPr>
            <a:xfrm>
              <a:off x="380880" y="3276720"/>
              <a:ext cx="2379240" cy="720720"/>
            </a:xfrm>
            <a:prstGeom prst="rect">
              <a:avLst/>
            </a:prstGeom>
            <a:ln w="0">
              <a:noFill/>
            </a:ln>
          </p:spPr>
        </p:pic>
      </p:grpSp>
      <p:grpSp>
        <p:nvGrpSpPr>
          <p:cNvPr id="154" name=""/>
          <p:cNvGrpSpPr/>
          <p:nvPr/>
        </p:nvGrpSpPr>
        <p:grpSpPr>
          <a:xfrm>
            <a:off x="380880" y="2133720"/>
            <a:ext cx="7467480" cy="4294080"/>
            <a:chOff x="380880" y="2133720"/>
            <a:chExt cx="7467480" cy="4294080"/>
          </a:xfrm>
        </p:grpSpPr>
        <p:pic>
          <p:nvPicPr>
            <p:cNvPr id="155" name="" descr=""/>
            <p:cNvPicPr/>
            <p:nvPr/>
          </p:nvPicPr>
          <p:blipFill>
            <a:blip r:embed="rId9"/>
            <a:stretch/>
          </p:blipFill>
          <p:spPr>
            <a:xfrm>
              <a:off x="990360" y="5508720"/>
              <a:ext cx="3124440" cy="919080"/>
            </a:xfrm>
            <a:prstGeom prst="rect">
              <a:avLst/>
            </a:prstGeom>
            <a:ln w="0">
              <a:noFill/>
            </a:ln>
          </p:spPr>
        </p:pic>
        <p:pic>
          <p:nvPicPr>
            <p:cNvPr id="156" name="" descr=""/>
            <p:cNvPicPr/>
            <p:nvPr/>
          </p:nvPicPr>
          <p:blipFill>
            <a:blip r:embed="rId10"/>
            <a:stretch/>
          </p:blipFill>
          <p:spPr>
            <a:xfrm>
              <a:off x="4800600" y="5181480"/>
              <a:ext cx="3047760" cy="1140120"/>
            </a:xfrm>
            <a:prstGeom prst="rect">
              <a:avLst/>
            </a:prstGeom>
            <a:ln w="0">
              <a:noFill/>
            </a:ln>
          </p:spPr>
        </p:pic>
        <p:pic>
          <p:nvPicPr>
            <p:cNvPr id="157" name="" descr=""/>
            <p:cNvPicPr/>
            <p:nvPr/>
          </p:nvPicPr>
          <p:blipFill>
            <a:blip r:embed="rId11"/>
            <a:stretch/>
          </p:blipFill>
          <p:spPr>
            <a:xfrm>
              <a:off x="380880" y="2133720"/>
              <a:ext cx="3944880" cy="1101600"/>
            </a:xfrm>
            <a:prstGeom prst="rect">
              <a:avLst/>
            </a:prstGeom>
            <a:ln w="0">
              <a:noFill/>
            </a:ln>
          </p:spPr>
        </p:pic>
      </p:grpSp>
      <p:grpSp>
        <p:nvGrpSpPr>
          <p:cNvPr id="158" name=""/>
          <p:cNvGrpSpPr/>
          <p:nvPr/>
        </p:nvGrpSpPr>
        <p:grpSpPr>
          <a:xfrm>
            <a:off x="838080" y="1295280"/>
            <a:ext cx="7947000" cy="3789360"/>
            <a:chOff x="838080" y="1295280"/>
            <a:chExt cx="7947000" cy="3789360"/>
          </a:xfrm>
        </p:grpSpPr>
        <p:pic>
          <p:nvPicPr>
            <p:cNvPr id="159" name="" descr=""/>
            <p:cNvPicPr/>
            <p:nvPr/>
          </p:nvPicPr>
          <p:blipFill>
            <a:blip r:embed="rId12"/>
            <a:stretch/>
          </p:blipFill>
          <p:spPr>
            <a:xfrm>
              <a:off x="838080" y="1295280"/>
              <a:ext cx="2765520" cy="1078200"/>
            </a:xfrm>
            <a:prstGeom prst="rect">
              <a:avLst/>
            </a:prstGeom>
            <a:ln w="0">
              <a:noFill/>
            </a:ln>
          </p:spPr>
        </p:pic>
        <p:pic>
          <p:nvPicPr>
            <p:cNvPr id="160" name="" descr=""/>
            <p:cNvPicPr/>
            <p:nvPr/>
          </p:nvPicPr>
          <p:blipFill>
            <a:blip r:embed="rId13"/>
            <a:stretch/>
          </p:blipFill>
          <p:spPr>
            <a:xfrm>
              <a:off x="4952880" y="2209680"/>
              <a:ext cx="2730600" cy="835200"/>
            </a:xfrm>
            <a:prstGeom prst="rect">
              <a:avLst/>
            </a:prstGeom>
            <a:ln w="0">
              <a:noFill/>
            </a:ln>
          </p:spPr>
        </p:pic>
        <p:pic>
          <p:nvPicPr>
            <p:cNvPr id="161" name="" descr=""/>
            <p:cNvPicPr/>
            <p:nvPr/>
          </p:nvPicPr>
          <p:blipFill>
            <a:blip r:embed="rId14"/>
            <a:stretch/>
          </p:blipFill>
          <p:spPr>
            <a:xfrm>
              <a:off x="6629400" y="3581280"/>
              <a:ext cx="2155680" cy="1503360"/>
            </a:xfrm>
            <a:prstGeom prst="rect">
              <a:avLst/>
            </a:prstGeom>
            <a:ln w="0">
              <a:noFill/>
            </a:ln>
          </p:spPr>
        </p:pic>
      </p:grpSp>
      <p:grpSp>
        <p:nvGrpSpPr>
          <p:cNvPr id="162" name=""/>
          <p:cNvGrpSpPr/>
          <p:nvPr/>
        </p:nvGrpSpPr>
        <p:grpSpPr>
          <a:xfrm>
            <a:off x="1371600" y="2286000"/>
            <a:ext cx="7496280" cy="2168640"/>
            <a:chOff x="1371600" y="2286000"/>
            <a:chExt cx="7496280" cy="2168640"/>
          </a:xfrm>
        </p:grpSpPr>
        <p:pic>
          <p:nvPicPr>
            <p:cNvPr id="163" name="" descr=""/>
            <p:cNvPicPr/>
            <p:nvPr/>
          </p:nvPicPr>
          <p:blipFill>
            <a:blip r:embed="rId15"/>
            <a:stretch/>
          </p:blipFill>
          <p:spPr>
            <a:xfrm>
              <a:off x="5715000" y="2286000"/>
              <a:ext cx="3152880" cy="1317600"/>
            </a:xfrm>
            <a:prstGeom prst="rect">
              <a:avLst/>
            </a:prstGeom>
            <a:ln w="0">
              <a:noFill/>
            </a:ln>
          </p:spPr>
        </p:pic>
        <p:pic>
          <p:nvPicPr>
            <p:cNvPr id="164" name="" descr=""/>
            <p:cNvPicPr/>
            <p:nvPr/>
          </p:nvPicPr>
          <p:blipFill>
            <a:blip r:embed="rId16"/>
            <a:stretch/>
          </p:blipFill>
          <p:spPr>
            <a:xfrm>
              <a:off x="1371600" y="3352680"/>
              <a:ext cx="5843520" cy="1101960"/>
            </a:xfrm>
            <a:prstGeom prst="rect">
              <a:avLst/>
            </a:prstGeom>
            <a:ln w="0">
              <a:noFill/>
            </a:ln>
          </p:spPr>
        </p:pic>
      </p:grpSp>
      <p:sp>
        <p:nvSpPr>
          <p:cNvPr id="165" name=""/>
          <p:cNvSpPr/>
          <p:nvPr/>
        </p:nvSpPr>
        <p:spPr>
          <a:xfrm rot="5080200">
            <a:off x="2094120" y="1459440"/>
            <a:ext cx="5361120" cy="4216680"/>
          </a:xfrm>
          <a:custGeom>
            <a:avLst/>
            <a:gdLst/>
            <a:ahLst/>
            <a:rect l="l" t="t" r="r" b="b"/>
            <a:pathLst>
              <a:path w="3377" h="2656">
                <a:moveTo>
                  <a:pt x="0" y="243"/>
                </a:moveTo>
                <a:cubicBezTo>
                  <a:pt x="51" y="215"/>
                  <a:pt x="222" y="94"/>
                  <a:pt x="305" y="64"/>
                </a:cubicBezTo>
                <a:cubicBezTo>
                  <a:pt x="388" y="34"/>
                  <a:pt x="449" y="48"/>
                  <a:pt x="497" y="64"/>
                </a:cubicBezTo>
                <a:cubicBezTo>
                  <a:pt x="545" y="80"/>
                  <a:pt x="529" y="88"/>
                  <a:pt x="593" y="160"/>
                </a:cubicBezTo>
                <a:cubicBezTo>
                  <a:pt x="657" y="232"/>
                  <a:pt x="753" y="456"/>
                  <a:pt x="881" y="496"/>
                </a:cubicBezTo>
                <a:cubicBezTo>
                  <a:pt x="1009" y="536"/>
                  <a:pt x="1233" y="464"/>
                  <a:pt x="1361" y="400"/>
                </a:cubicBezTo>
                <a:cubicBezTo>
                  <a:pt x="1489" y="336"/>
                  <a:pt x="1545" y="176"/>
                  <a:pt x="1649" y="112"/>
                </a:cubicBezTo>
                <a:cubicBezTo>
                  <a:pt x="1753" y="48"/>
                  <a:pt x="1873" y="0"/>
                  <a:pt x="1985" y="16"/>
                </a:cubicBezTo>
                <a:cubicBezTo>
                  <a:pt x="2097" y="32"/>
                  <a:pt x="2241" y="120"/>
                  <a:pt x="2321" y="208"/>
                </a:cubicBezTo>
                <a:cubicBezTo>
                  <a:pt x="2401" y="296"/>
                  <a:pt x="2481" y="400"/>
                  <a:pt x="2465" y="544"/>
                </a:cubicBezTo>
                <a:cubicBezTo>
                  <a:pt x="2449" y="688"/>
                  <a:pt x="2193" y="904"/>
                  <a:pt x="2225" y="1072"/>
                </a:cubicBezTo>
                <a:cubicBezTo>
                  <a:pt x="2257" y="1240"/>
                  <a:pt x="2553" y="1432"/>
                  <a:pt x="2657" y="1552"/>
                </a:cubicBezTo>
                <a:cubicBezTo>
                  <a:pt x="2761" y="1672"/>
                  <a:pt x="2825" y="1688"/>
                  <a:pt x="2849" y="1792"/>
                </a:cubicBezTo>
                <a:cubicBezTo>
                  <a:pt x="2873" y="1896"/>
                  <a:pt x="2713" y="2032"/>
                  <a:pt x="2801" y="2176"/>
                </a:cubicBezTo>
                <a:cubicBezTo>
                  <a:pt x="2889" y="2320"/>
                  <a:pt x="3281" y="2576"/>
                  <a:pt x="3377" y="2656"/>
                </a:cubicBezTo>
              </a:path>
            </a:pathLst>
          </a:custGeom>
          <a:noFill/>
          <a:ln w="25560">
            <a:solidFill>
              <a:srgbClr val="ff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66" name="" descr=""/>
          <p:cNvPicPr/>
          <p:nvPr/>
        </p:nvPicPr>
        <p:blipFill>
          <a:blip r:embed="rId17"/>
          <a:stretch/>
        </p:blipFill>
        <p:spPr>
          <a:xfrm>
            <a:off x="2511360" y="200160"/>
            <a:ext cx="4114800" cy="942840"/>
          </a:xfrm>
          <a:prstGeom prst="rect">
            <a:avLst/>
          </a:prstGeom>
          <a:ln w="0">
            <a:noFill/>
          </a:ln>
        </p:spPr>
      </p:pic>
      <p:pic>
        <p:nvPicPr>
          <p:cNvPr id="167" name="" descr=""/>
          <p:cNvPicPr/>
          <p:nvPr/>
        </p:nvPicPr>
        <p:blipFill>
          <a:blip r:embed="rId18"/>
          <a:stretch/>
        </p:blipFill>
        <p:spPr>
          <a:xfrm>
            <a:off x="7086600" y="1600200"/>
            <a:ext cx="1752480" cy="1147680"/>
          </a:xfrm>
          <a:prstGeom prst="rect">
            <a:avLst/>
          </a:prstGeom>
          <a:ln w="0">
            <a:noFill/>
          </a:ln>
        </p:spPr>
      </p:pic>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142"/>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51">
                                  <p:stCondLst>
                                    <p:cond delay="0"/>
                                  </p:stCondLst>
                                  <p:childTnLst>
                                    <p:set>
                                      <p:cBhvr>
                                        <p:cTn id="25" dur="1" fill="hold">
                                          <p:stCondLst>
                                            <p:cond delay="0"/>
                                          </p:stCondLst>
                                        </p:cTn>
                                        <p:tgtEl>
                                          <p:spTgt spid="145"/>
                                        </p:tgtEl>
                                        <p:attrNameLst>
                                          <p:attrName>style.visibility</p:attrName>
                                        </p:attrNameLst>
                                      </p:cBhvr>
                                      <p:to>
                                        <p:strVal val="visible"/>
                                      </p:to>
                                    </p:set>
                                    <p:animEffect filter="fade" transition="in">
                                      <p:cBhvr additive="repl">
                                        <p:cTn id="26" dur="385"/>
                                        <p:tgtEl>
                                          <p:spTgt spid="145"/>
                                        </p:tgtEl>
                                      </p:cBhvr>
                                    </p:animEffect>
                                    <p:animScale>
                                      <p:cBhvr>
                                        <p:cTn id="27" dur="385" fill="hold"/>
                                        <p:tgtEl>
                                          <p:spTgt spid="145"/>
                                        </p:tgtEl>
                                      </p:cBhvr>
                                      <p:from x="10000" y="10000"/>
                                      <p:to x="200000" y="450000"/>
                                    </p:animScale>
                                    <p:animScale>
                                      <p:cBhvr>
                                        <p:cTn id="28" dur="615" fill="hold">
                                          <p:stCondLst>
                                            <p:cond delay="385"/>
                                          </p:stCondLst>
                                        </p:cTn>
                                        <p:tgtEl>
                                          <p:spTgt spid="145"/>
                                        </p:tgtEl>
                                      </p:cBhvr>
                                      <p:from x="200000" y="450000"/>
                                      <p:to x="100000" y="100000"/>
                                    </p:animScale>
                                    <p:set>
                                      <p:cBhvr>
                                        <p:cTn id="29" dur="385" fill="hold"/>
                                        <p:tgtEl>
                                          <p:spTgt spid="145"/>
                                        </p:tgtEl>
                                        <p:attrNameLst>
                                          <p:attrName>ppt_x</p:attrName>
                                        </p:attrNameLst>
                                      </p:cBhvr>
                                      <p:to>
                                        <p:strVal val="(0.5)"/>
                                      </p:to>
                                    </p:set>
                                    <p:anim calcmode="lin" valueType="num" from="(0.5)" to="(#ppt_x)">
                                      <p:cBhvr additive="repl">
                                        <p:cTn id="30" dur="615" fill="hold">
                                          <p:stCondLst>
                                            <p:cond delay="385"/>
                                          </p:stCondLst>
                                        </p:cTn>
                                        <p:tgtEl>
                                          <p:spTgt spid="145"/>
                                        </p:tgtEl>
                                        <p:attrNameLst>
                                          <p:attrName>ppt_x</p:attrName>
                                        </p:attrNameLst>
                                      </p:cBhvr>
                                    </p:anim>
                                    <p:set>
                                      <p:cBhvr>
                                        <p:cTn id="31" dur="385" fill="hold"/>
                                        <p:tgtEl>
                                          <p:spTgt spid="145"/>
                                        </p:tgtEl>
                                        <p:attrNameLst>
                                          <p:attrName>ppt_y</p:attrName>
                                        </p:attrNameLst>
                                      </p:cBhvr>
                                      <p:to>
                                        <p:strVal val="(#ppt_y+0.4)"/>
                                      </p:to>
                                    </p:set>
                                    <p:anim calcmode="lin" valueType="num" from="(#ppt_y+0.4)" to="(#ppt_y)">
                                      <p:cBhvr additive="repl">
                                        <p:cTn id="32" dur="615" fill="hold">
                                          <p:stCondLst>
                                            <p:cond delay="385"/>
                                          </p:stCondLst>
                                        </p:cTn>
                                        <p:tgtEl>
                                          <p:spTgt spid="145"/>
                                        </p:tgtEl>
                                        <p:attrNameLst>
                                          <p:attrName>ppt_y</p:attrName>
                                        </p:attrNameLst>
                                      </p:cBhvr>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54"/>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50"/>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51"/>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58"/>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8" name=""/>
          <p:cNvGraphicFramePr/>
          <p:nvPr/>
        </p:nvGraphicFramePr>
        <p:xfrm>
          <a:off x="609480" y="1549440"/>
          <a:ext cx="7772400" cy="5003640"/>
        </p:xfrm>
        <a:graphic>
          <a:graphicData uri="http://schemas.openxmlformats.org/presentationml/2006/ole">
            <p:oleObj progId="Word.Document.12" r:id="rId1" spid="">
              <p:embed/>
              <p:pic>
                <p:nvPicPr>
                  <p:cNvPr id="169" name="" descr=""/>
                  <p:cNvPicPr/>
                  <p:nvPr/>
                </p:nvPicPr>
                <p:blipFill>
                  <a:blip r:embed="rId2"/>
                  <a:stretch/>
                </p:blipFill>
                <p:spPr>
                  <a:xfrm>
                    <a:off x="609480" y="1549440"/>
                    <a:ext cx="7772400" cy="5003640"/>
                  </a:xfrm>
                  <a:prstGeom prst="rect">
                    <a:avLst/>
                  </a:prstGeom>
                  <a:ln w="0">
                    <a:noFill/>
                  </a:ln>
                </p:spPr>
              </p:pic>
            </p:oleObj>
          </a:graphicData>
        </a:graphic>
      </p:graphicFrame>
      <p:sp>
        <p:nvSpPr>
          <p:cNvPr id="170" name=""/>
          <p:cNvSpPr/>
          <p:nvPr/>
        </p:nvSpPr>
        <p:spPr>
          <a:xfrm>
            <a:off x="609840" y="1081080"/>
            <a:ext cx="2831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we block it…</a:t>
            </a:r>
            <a:endParaRPr b="0" lang="en-US" sz="2800" spc="-1" strike="noStrike">
              <a:solidFill>
                <a:srgbClr val="000000"/>
              </a:solidFill>
              <a:latin typeface="Arial"/>
            </a:endParaRPr>
          </a:p>
        </p:txBody>
      </p:sp>
      <p:sp>
        <p:nvSpPr>
          <p:cNvPr id="171" name=""/>
          <p:cNvSpPr/>
          <p:nvPr/>
        </p:nvSpPr>
        <p:spPr>
          <a:xfrm rot="5080200">
            <a:off x="2094120" y="1459440"/>
            <a:ext cx="5361120" cy="4216680"/>
          </a:xfrm>
          <a:custGeom>
            <a:avLst/>
            <a:gdLst/>
            <a:ahLst/>
            <a:rect l="l" t="t" r="r" b="b"/>
            <a:pathLst>
              <a:path w="3377" h="2656">
                <a:moveTo>
                  <a:pt x="0" y="243"/>
                </a:moveTo>
                <a:cubicBezTo>
                  <a:pt x="51" y="215"/>
                  <a:pt x="222" y="94"/>
                  <a:pt x="305" y="64"/>
                </a:cubicBezTo>
                <a:cubicBezTo>
                  <a:pt x="388" y="34"/>
                  <a:pt x="449" y="48"/>
                  <a:pt x="497" y="64"/>
                </a:cubicBezTo>
                <a:cubicBezTo>
                  <a:pt x="545" y="80"/>
                  <a:pt x="529" y="88"/>
                  <a:pt x="593" y="160"/>
                </a:cubicBezTo>
                <a:cubicBezTo>
                  <a:pt x="657" y="232"/>
                  <a:pt x="753" y="456"/>
                  <a:pt x="881" y="496"/>
                </a:cubicBezTo>
                <a:cubicBezTo>
                  <a:pt x="1009" y="536"/>
                  <a:pt x="1233" y="464"/>
                  <a:pt x="1361" y="400"/>
                </a:cubicBezTo>
                <a:cubicBezTo>
                  <a:pt x="1489" y="336"/>
                  <a:pt x="1545" y="176"/>
                  <a:pt x="1649" y="112"/>
                </a:cubicBezTo>
                <a:cubicBezTo>
                  <a:pt x="1753" y="48"/>
                  <a:pt x="1873" y="0"/>
                  <a:pt x="1985" y="16"/>
                </a:cubicBezTo>
                <a:cubicBezTo>
                  <a:pt x="2097" y="32"/>
                  <a:pt x="2241" y="120"/>
                  <a:pt x="2321" y="208"/>
                </a:cubicBezTo>
                <a:cubicBezTo>
                  <a:pt x="2401" y="296"/>
                  <a:pt x="2481" y="400"/>
                  <a:pt x="2465" y="544"/>
                </a:cubicBezTo>
                <a:cubicBezTo>
                  <a:pt x="2449" y="688"/>
                  <a:pt x="2193" y="904"/>
                  <a:pt x="2225" y="1072"/>
                </a:cubicBezTo>
                <a:cubicBezTo>
                  <a:pt x="2257" y="1240"/>
                  <a:pt x="2553" y="1432"/>
                  <a:pt x="2657" y="1552"/>
                </a:cubicBezTo>
                <a:cubicBezTo>
                  <a:pt x="2761" y="1672"/>
                  <a:pt x="2825" y="1688"/>
                  <a:pt x="2849" y="1792"/>
                </a:cubicBezTo>
                <a:cubicBezTo>
                  <a:pt x="2873" y="1896"/>
                  <a:pt x="2713" y="2032"/>
                  <a:pt x="2801" y="2176"/>
                </a:cubicBezTo>
                <a:cubicBezTo>
                  <a:pt x="2889" y="2320"/>
                  <a:pt x="3281" y="2576"/>
                  <a:pt x="3377" y="2656"/>
                </a:cubicBezTo>
              </a:path>
            </a:pathLst>
          </a:custGeom>
          <a:noFill/>
          <a:ln w="25560">
            <a:solidFill>
              <a:srgbClr val="ff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72" name="" descr=""/>
          <p:cNvPicPr/>
          <p:nvPr/>
        </p:nvPicPr>
        <p:blipFill>
          <a:blip r:embed="rId3"/>
          <a:stretch/>
        </p:blipFill>
        <p:spPr>
          <a:xfrm>
            <a:off x="2511360" y="200160"/>
            <a:ext cx="4114800" cy="942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rot="5080200">
            <a:off x="2094120" y="1459440"/>
            <a:ext cx="5361120" cy="4216680"/>
          </a:xfrm>
          <a:custGeom>
            <a:avLst/>
            <a:gdLst/>
            <a:ahLst/>
            <a:rect l="l" t="t" r="r" b="b"/>
            <a:pathLst>
              <a:path w="3377" h="2656">
                <a:moveTo>
                  <a:pt x="0" y="243"/>
                </a:moveTo>
                <a:cubicBezTo>
                  <a:pt x="51" y="215"/>
                  <a:pt x="222" y="94"/>
                  <a:pt x="305" y="64"/>
                </a:cubicBezTo>
                <a:cubicBezTo>
                  <a:pt x="388" y="34"/>
                  <a:pt x="449" y="48"/>
                  <a:pt x="497" y="64"/>
                </a:cubicBezTo>
                <a:cubicBezTo>
                  <a:pt x="545" y="80"/>
                  <a:pt x="529" y="88"/>
                  <a:pt x="593" y="160"/>
                </a:cubicBezTo>
                <a:cubicBezTo>
                  <a:pt x="657" y="232"/>
                  <a:pt x="753" y="456"/>
                  <a:pt x="881" y="496"/>
                </a:cubicBezTo>
                <a:cubicBezTo>
                  <a:pt x="1009" y="536"/>
                  <a:pt x="1233" y="464"/>
                  <a:pt x="1361" y="400"/>
                </a:cubicBezTo>
                <a:cubicBezTo>
                  <a:pt x="1489" y="336"/>
                  <a:pt x="1545" y="176"/>
                  <a:pt x="1649" y="112"/>
                </a:cubicBezTo>
                <a:cubicBezTo>
                  <a:pt x="1753" y="48"/>
                  <a:pt x="1873" y="0"/>
                  <a:pt x="1985" y="16"/>
                </a:cubicBezTo>
                <a:cubicBezTo>
                  <a:pt x="2097" y="32"/>
                  <a:pt x="2241" y="120"/>
                  <a:pt x="2321" y="208"/>
                </a:cubicBezTo>
                <a:cubicBezTo>
                  <a:pt x="2401" y="296"/>
                  <a:pt x="2481" y="400"/>
                  <a:pt x="2465" y="544"/>
                </a:cubicBezTo>
                <a:cubicBezTo>
                  <a:pt x="2449" y="688"/>
                  <a:pt x="2193" y="904"/>
                  <a:pt x="2225" y="1072"/>
                </a:cubicBezTo>
                <a:cubicBezTo>
                  <a:pt x="2257" y="1240"/>
                  <a:pt x="2553" y="1432"/>
                  <a:pt x="2657" y="1552"/>
                </a:cubicBezTo>
                <a:cubicBezTo>
                  <a:pt x="2761" y="1672"/>
                  <a:pt x="2825" y="1688"/>
                  <a:pt x="2849" y="1792"/>
                </a:cubicBezTo>
                <a:cubicBezTo>
                  <a:pt x="2873" y="1896"/>
                  <a:pt x="2713" y="2032"/>
                  <a:pt x="2801" y="2176"/>
                </a:cubicBezTo>
                <a:cubicBezTo>
                  <a:pt x="2889" y="2320"/>
                  <a:pt x="3281" y="2576"/>
                  <a:pt x="3377" y="2656"/>
                </a:cubicBezTo>
              </a:path>
            </a:pathLst>
          </a:custGeom>
          <a:noFill/>
          <a:ln w="25560">
            <a:solidFill>
              <a:srgbClr val="ff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4" name="PlaceHolder 1"/>
          <p:cNvSpPr>
            <a:spLocks noGrp="1"/>
          </p:cNvSpPr>
          <p:nvPr>
            <p:ph/>
          </p:nvPr>
        </p:nvSpPr>
        <p:spPr>
          <a:xfrm>
            <a:off x="723960" y="1371240"/>
            <a:ext cx="777240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raveling the fac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ing a picture on MySpace is like posting it on a public campus bulletin board, that anyone can access and defa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hough there has been a lot of negative media around social networks, most users are just “hanging out” and teachers are using them in innovative ways</a:t>
            </a:r>
            <a:endParaRPr b="0" lang="en-US" sz="2800" spc="-1" strike="noStrike">
              <a:solidFill>
                <a:srgbClr val="000000"/>
              </a:solidFill>
              <a:latin typeface="Arial"/>
            </a:endParaRPr>
          </a:p>
        </p:txBody>
      </p:sp>
      <p:pic>
        <p:nvPicPr>
          <p:cNvPr id="175" name="" descr=""/>
          <p:cNvPicPr/>
          <p:nvPr/>
        </p:nvPicPr>
        <p:blipFill>
          <a:blip r:embed="rId1"/>
          <a:stretch/>
        </p:blipFill>
        <p:spPr>
          <a:xfrm>
            <a:off x="2511360" y="200160"/>
            <a:ext cx="4114800" cy="942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2511360" y="200160"/>
            <a:ext cx="4114800" cy="942840"/>
          </a:xfrm>
          <a:prstGeom prst="rect">
            <a:avLst/>
          </a:prstGeom>
          <a:ln w="0">
            <a:noFill/>
          </a:ln>
        </p:spPr>
      </p:pic>
      <p:pic>
        <p:nvPicPr>
          <p:cNvPr id="177" name="" descr=""/>
          <p:cNvPicPr/>
          <p:nvPr/>
        </p:nvPicPr>
        <p:blipFill>
          <a:blip r:embed="rId2"/>
          <a:stretch/>
        </p:blipFill>
        <p:spPr>
          <a:xfrm>
            <a:off x="533520" y="1295280"/>
            <a:ext cx="7956360" cy="4094280"/>
          </a:xfrm>
          <a:prstGeom prst="rect">
            <a:avLst/>
          </a:prstGeom>
          <a:ln w="0">
            <a:noFill/>
          </a:ln>
          <a:effectLst>
            <a:outerShdw dist="107932" dir="13500000" blurRad="0" rotWithShape="0">
              <a:srgbClr val="808080">
                <a:alpha val="75000"/>
              </a:srgbClr>
            </a:outerShdw>
          </a:effectLst>
        </p:spPr>
      </p:pic>
      <p:pic>
        <p:nvPicPr>
          <p:cNvPr id="178" name="" descr=""/>
          <p:cNvPicPr/>
          <p:nvPr/>
        </p:nvPicPr>
        <p:blipFill>
          <a:blip r:embed="rId3"/>
          <a:stretch/>
        </p:blipFill>
        <p:spPr>
          <a:xfrm>
            <a:off x="3200400" y="2797200"/>
            <a:ext cx="5562720" cy="3832200"/>
          </a:xfrm>
          <a:prstGeom prst="rect">
            <a:avLst/>
          </a:prstGeom>
          <a:ln w="0">
            <a:noFill/>
          </a:ln>
          <a:effectLst>
            <a:outerShdw dist="299673" dir="12984112" blurRad="0" rotWithShape="0">
              <a:srgbClr val="808080"/>
            </a:outerShdw>
          </a:effectLst>
        </p:spPr>
      </p:pic>
      <p:grpSp>
        <p:nvGrpSpPr>
          <p:cNvPr id="179" name=""/>
          <p:cNvGrpSpPr/>
          <p:nvPr/>
        </p:nvGrpSpPr>
        <p:grpSpPr>
          <a:xfrm>
            <a:off x="6095880" y="304920"/>
            <a:ext cx="1778040" cy="3149640"/>
            <a:chOff x="6095880" y="304920"/>
            <a:chExt cx="1778040" cy="3149640"/>
          </a:xfrm>
        </p:grpSpPr>
        <p:sp>
          <p:nvSpPr>
            <p:cNvPr id="180" name=""/>
            <p:cNvSpPr/>
            <p:nvPr/>
          </p:nvSpPr>
          <p:spPr>
            <a:xfrm>
              <a:off x="6248160" y="304920"/>
              <a:ext cx="1244520" cy="2959200"/>
            </a:xfrm>
            <a:custGeom>
              <a:avLst/>
              <a:gdLst/>
              <a:ahLst/>
              <a:rect l="l" t="t" r="r" b="b"/>
              <a:pathLst>
                <a:path w="784" h="1864">
                  <a:moveTo>
                    <a:pt x="0" y="200"/>
                  </a:moveTo>
                  <a:cubicBezTo>
                    <a:pt x="180" y="100"/>
                    <a:pt x="360" y="0"/>
                    <a:pt x="480" y="8"/>
                  </a:cubicBezTo>
                  <a:cubicBezTo>
                    <a:pt x="600" y="16"/>
                    <a:pt x="672" y="128"/>
                    <a:pt x="720" y="248"/>
                  </a:cubicBezTo>
                  <a:cubicBezTo>
                    <a:pt x="768" y="368"/>
                    <a:pt x="784" y="608"/>
                    <a:pt x="768" y="728"/>
                  </a:cubicBezTo>
                  <a:cubicBezTo>
                    <a:pt x="752" y="848"/>
                    <a:pt x="688" y="864"/>
                    <a:pt x="624" y="968"/>
                  </a:cubicBezTo>
                  <a:cubicBezTo>
                    <a:pt x="560" y="1072"/>
                    <a:pt x="384" y="1216"/>
                    <a:pt x="384" y="1352"/>
                  </a:cubicBezTo>
                  <a:cubicBezTo>
                    <a:pt x="384" y="1488"/>
                    <a:pt x="576" y="1704"/>
                    <a:pt x="624" y="1784"/>
                  </a:cubicBezTo>
                  <a:cubicBezTo>
                    <a:pt x="672" y="1864"/>
                    <a:pt x="664" y="1824"/>
                    <a:pt x="672" y="1832"/>
                  </a:cubicBezTo>
                </a:path>
              </a:pathLst>
            </a:custGeom>
            <a:noFill/>
            <a:ln w="25560">
              <a:solidFill>
                <a:srgbClr val="ff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1" name=""/>
            <p:cNvSpPr/>
            <p:nvPr/>
          </p:nvSpPr>
          <p:spPr>
            <a:xfrm>
              <a:off x="6997320" y="2197080"/>
              <a:ext cx="876600" cy="723960"/>
            </a:xfrm>
            <a:custGeom>
              <a:avLst/>
              <a:gdLst/>
              <a:ahLst/>
              <a:rect l="l" t="t" r="r" b="b"/>
              <a:pathLst>
                <a:path w="552" h="456">
                  <a:moveTo>
                    <a:pt x="8" y="400"/>
                  </a:moveTo>
                  <a:cubicBezTo>
                    <a:pt x="0" y="344"/>
                    <a:pt x="136" y="128"/>
                    <a:pt x="200" y="64"/>
                  </a:cubicBezTo>
                  <a:cubicBezTo>
                    <a:pt x="264" y="0"/>
                    <a:pt x="336" y="8"/>
                    <a:pt x="392" y="16"/>
                  </a:cubicBezTo>
                  <a:cubicBezTo>
                    <a:pt x="448" y="24"/>
                    <a:pt x="520" y="72"/>
                    <a:pt x="536" y="112"/>
                  </a:cubicBezTo>
                  <a:cubicBezTo>
                    <a:pt x="552" y="152"/>
                    <a:pt x="536" y="208"/>
                    <a:pt x="488" y="256"/>
                  </a:cubicBezTo>
                  <a:cubicBezTo>
                    <a:pt x="440" y="304"/>
                    <a:pt x="328" y="376"/>
                    <a:pt x="248" y="400"/>
                  </a:cubicBezTo>
                  <a:cubicBezTo>
                    <a:pt x="168" y="424"/>
                    <a:pt x="16" y="456"/>
                    <a:pt x="8" y="400"/>
                  </a:cubicBezTo>
                  <a:close/>
                </a:path>
              </a:pathLst>
            </a:custGeom>
            <a:noFill/>
            <a:ln w="25560">
              <a:solidFill>
                <a:srgbClr val="ff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2" name=""/>
            <p:cNvSpPr/>
            <p:nvPr/>
          </p:nvSpPr>
          <p:spPr>
            <a:xfrm>
              <a:off x="6095880" y="2565720"/>
              <a:ext cx="939600" cy="507960"/>
            </a:xfrm>
            <a:custGeom>
              <a:avLst/>
              <a:gdLst/>
              <a:ahLst/>
              <a:rect l="l" t="t" r="r" b="b"/>
              <a:pathLst>
                <a:path w="592" h="320">
                  <a:moveTo>
                    <a:pt x="576" y="168"/>
                  </a:moveTo>
                  <a:cubicBezTo>
                    <a:pt x="560" y="136"/>
                    <a:pt x="424" y="96"/>
                    <a:pt x="336" y="72"/>
                  </a:cubicBezTo>
                  <a:cubicBezTo>
                    <a:pt x="248" y="48"/>
                    <a:pt x="96" y="0"/>
                    <a:pt x="48" y="24"/>
                  </a:cubicBezTo>
                  <a:cubicBezTo>
                    <a:pt x="0" y="48"/>
                    <a:pt x="8" y="168"/>
                    <a:pt x="48" y="216"/>
                  </a:cubicBezTo>
                  <a:cubicBezTo>
                    <a:pt x="88" y="264"/>
                    <a:pt x="224" y="304"/>
                    <a:pt x="288" y="312"/>
                  </a:cubicBezTo>
                  <a:cubicBezTo>
                    <a:pt x="352" y="320"/>
                    <a:pt x="384" y="288"/>
                    <a:pt x="432" y="264"/>
                  </a:cubicBezTo>
                  <a:cubicBezTo>
                    <a:pt x="480" y="240"/>
                    <a:pt x="592" y="200"/>
                    <a:pt x="576" y="168"/>
                  </a:cubicBezTo>
                  <a:close/>
                </a:path>
              </a:pathLst>
            </a:custGeom>
            <a:noFill/>
            <a:ln w="25560">
              <a:solidFill>
                <a:srgbClr val="ff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3" name=""/>
            <p:cNvSpPr/>
            <p:nvPr/>
          </p:nvSpPr>
          <p:spPr>
            <a:xfrm>
              <a:off x="6553080" y="2908440"/>
              <a:ext cx="533160" cy="546120"/>
            </a:xfrm>
            <a:custGeom>
              <a:avLst/>
              <a:gdLst/>
              <a:ahLst/>
              <a:rect l="l" t="t" r="r" b="b"/>
              <a:pathLst>
                <a:path w="336" h="344">
                  <a:moveTo>
                    <a:pt x="336" y="0"/>
                  </a:moveTo>
                  <a:cubicBezTo>
                    <a:pt x="292" y="116"/>
                    <a:pt x="248" y="232"/>
                    <a:pt x="192" y="288"/>
                  </a:cubicBezTo>
                  <a:cubicBezTo>
                    <a:pt x="136" y="344"/>
                    <a:pt x="32" y="328"/>
                    <a:pt x="0" y="336"/>
                  </a:cubicBezTo>
                </a:path>
              </a:pathLst>
            </a:custGeom>
            <a:noFill/>
            <a:ln w="25560">
              <a:solidFill>
                <a:srgbClr val="ff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rot="5080200">
            <a:off x="2144880" y="1181520"/>
            <a:ext cx="5361120" cy="4216680"/>
          </a:xfrm>
          <a:custGeom>
            <a:avLst/>
            <a:gdLst/>
            <a:ahLst/>
            <a:rect l="l" t="t" r="r" b="b"/>
            <a:pathLst>
              <a:path w="3377" h="2656">
                <a:moveTo>
                  <a:pt x="0" y="243"/>
                </a:moveTo>
                <a:cubicBezTo>
                  <a:pt x="51" y="215"/>
                  <a:pt x="222" y="94"/>
                  <a:pt x="305" y="64"/>
                </a:cubicBezTo>
                <a:cubicBezTo>
                  <a:pt x="388" y="34"/>
                  <a:pt x="449" y="48"/>
                  <a:pt x="497" y="64"/>
                </a:cubicBezTo>
                <a:cubicBezTo>
                  <a:pt x="545" y="80"/>
                  <a:pt x="529" y="88"/>
                  <a:pt x="593" y="160"/>
                </a:cubicBezTo>
                <a:cubicBezTo>
                  <a:pt x="657" y="232"/>
                  <a:pt x="753" y="456"/>
                  <a:pt x="881" y="496"/>
                </a:cubicBezTo>
                <a:cubicBezTo>
                  <a:pt x="1009" y="536"/>
                  <a:pt x="1233" y="464"/>
                  <a:pt x="1361" y="400"/>
                </a:cubicBezTo>
                <a:cubicBezTo>
                  <a:pt x="1489" y="336"/>
                  <a:pt x="1545" y="176"/>
                  <a:pt x="1649" y="112"/>
                </a:cubicBezTo>
                <a:cubicBezTo>
                  <a:pt x="1753" y="48"/>
                  <a:pt x="1873" y="0"/>
                  <a:pt x="1985" y="16"/>
                </a:cubicBezTo>
                <a:cubicBezTo>
                  <a:pt x="2097" y="32"/>
                  <a:pt x="2241" y="120"/>
                  <a:pt x="2321" y="208"/>
                </a:cubicBezTo>
                <a:cubicBezTo>
                  <a:pt x="2401" y="296"/>
                  <a:pt x="2481" y="400"/>
                  <a:pt x="2465" y="544"/>
                </a:cubicBezTo>
                <a:cubicBezTo>
                  <a:pt x="2449" y="688"/>
                  <a:pt x="2193" y="904"/>
                  <a:pt x="2225" y="1072"/>
                </a:cubicBezTo>
                <a:cubicBezTo>
                  <a:pt x="2257" y="1240"/>
                  <a:pt x="2553" y="1432"/>
                  <a:pt x="2657" y="1552"/>
                </a:cubicBezTo>
                <a:cubicBezTo>
                  <a:pt x="2761" y="1672"/>
                  <a:pt x="2825" y="1688"/>
                  <a:pt x="2849" y="1792"/>
                </a:cubicBezTo>
                <a:cubicBezTo>
                  <a:pt x="2873" y="1896"/>
                  <a:pt x="2713" y="2032"/>
                  <a:pt x="2801" y="2176"/>
                </a:cubicBezTo>
                <a:cubicBezTo>
                  <a:pt x="2889" y="2320"/>
                  <a:pt x="3281" y="2576"/>
                  <a:pt x="3377" y="2656"/>
                </a:cubicBezTo>
              </a:path>
            </a:pathLst>
          </a:custGeom>
          <a:noFill/>
          <a:ln w="25560">
            <a:solidFill>
              <a:srgbClr val="ff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85" name="" descr=""/>
          <p:cNvPicPr/>
          <p:nvPr/>
        </p:nvPicPr>
        <p:blipFill>
          <a:blip r:embed="rId1"/>
          <a:srcRect l="25000" t="6251" r="0" b="0"/>
          <a:stretch/>
        </p:blipFill>
        <p:spPr>
          <a:xfrm>
            <a:off x="7086600" y="228600"/>
            <a:ext cx="1828800" cy="2286000"/>
          </a:xfrm>
          <a:prstGeom prst="rect">
            <a:avLst/>
          </a:prstGeom>
          <a:ln w="0">
            <a:noFill/>
          </a:ln>
        </p:spPr>
      </p:pic>
      <p:sp>
        <p:nvSpPr>
          <p:cNvPr id="186" name=""/>
          <p:cNvSpPr/>
          <p:nvPr/>
        </p:nvSpPr>
        <p:spPr>
          <a:xfrm>
            <a:off x="685800" y="2744640"/>
            <a:ext cx="7696080" cy="3080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Know that sexual predators disguise themselves as friendly and often hunt for victims through social networking sites.</a:t>
            </a:r>
            <a:endParaRPr b="0" lang="en-US" sz="2800" spc="-1" strike="noStrike">
              <a:solidFill>
                <a:srgbClr val="000000"/>
              </a:solidFill>
              <a:latin typeface="Arial"/>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careful about adding strangers to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friends” list.</a:t>
            </a:r>
            <a:endParaRPr b="0" lang="en-US" sz="2800" spc="-1" strike="noStrike">
              <a:solidFill>
                <a:srgbClr val="000000"/>
              </a:solidFill>
              <a:latin typeface="Arial"/>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
          <p:cNvSpPr/>
          <p:nvPr/>
        </p:nvSpPr>
        <p:spPr>
          <a:xfrm>
            <a:off x="685800" y="1371600"/>
            <a:ext cx="655308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omic Sans MS"/>
              </a:rPr>
              <a:t>To</a:t>
            </a:r>
            <a:r>
              <a:rPr b="0" lang="en-US" sz="3600" spc="-1" strike="noStrike">
                <a:solidFill>
                  <a:srgbClr val="000000"/>
                </a:solidFill>
                <a:latin typeface="Comic Sans MS"/>
              </a:rPr>
              <a:t>-</a:t>
            </a:r>
            <a:r>
              <a:rPr b="0" i="1" lang="en-US" sz="3600" spc="-1" strike="noStrike">
                <a:solidFill>
                  <a:srgbClr val="000000"/>
                </a:solidFill>
                <a:latin typeface="Comic Sans MS"/>
              </a:rPr>
              <a:t>Dos</a:t>
            </a:r>
            <a:r>
              <a:rPr b="0" i="1" lang="en-US" sz="2800" spc="-1" strike="noStrike">
                <a:solidFill>
                  <a:srgbClr val="000000"/>
                </a:solidFill>
                <a:latin typeface="Comic Sans MS"/>
              </a:rPr>
              <a:t>:</a:t>
            </a:r>
            <a:r>
              <a:rPr b="0" lang="en-US" sz="2800" spc="-1" strike="noStrike">
                <a:solidFill>
                  <a:srgbClr val="000000"/>
                </a:solidFill>
                <a:latin typeface="Arial"/>
              </a:rPr>
              <a:t> Remember to share guidelines with your students:</a:t>
            </a:r>
            <a:endParaRPr b="0" lang="en-US" sz="2800" spc="-1" strike="noStrike">
              <a:solidFill>
                <a:srgbClr val="000000"/>
              </a:solidFill>
              <a:latin typeface="Arial"/>
            </a:endParaRPr>
          </a:p>
        </p:txBody>
      </p:sp>
      <p:pic>
        <p:nvPicPr>
          <p:cNvPr id="188" name="" descr=""/>
          <p:cNvPicPr/>
          <p:nvPr/>
        </p:nvPicPr>
        <p:blipFill>
          <a:blip r:embed="rId2"/>
          <a:stretch/>
        </p:blipFill>
        <p:spPr>
          <a:xfrm>
            <a:off x="2511360" y="200160"/>
            <a:ext cx="4114800" cy="942840"/>
          </a:xfrm>
          <a:prstGeom prst="rect">
            <a:avLst/>
          </a:prstGeom>
          <a:ln w="0">
            <a:noFill/>
          </a:ln>
        </p:spPr>
      </p:pic>
      <p:sp>
        <p:nvSpPr>
          <p:cNvPr id="189" name="">
            <a:hlinkClick r:id="rId3"/>
          </p:cNvPr>
          <p:cNvSpPr/>
          <p:nvPr/>
        </p:nvSpPr>
        <p:spPr>
          <a:xfrm>
            <a:off x="990720" y="5689440"/>
            <a:ext cx="2895480" cy="459720"/>
          </a:xfrm>
          <a:prstGeom prst="rect">
            <a:avLst/>
          </a:prstGeom>
          <a:solidFill>
            <a:srgbClr val="ff9900"/>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You Never Kn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rot="5080200">
            <a:off x="2094120" y="1230840"/>
            <a:ext cx="5361120" cy="4216680"/>
          </a:xfrm>
          <a:custGeom>
            <a:avLst/>
            <a:gdLst/>
            <a:ahLst/>
            <a:rect l="l" t="t" r="r" b="b"/>
            <a:pathLst>
              <a:path w="3377" h="2656">
                <a:moveTo>
                  <a:pt x="0" y="243"/>
                </a:moveTo>
                <a:cubicBezTo>
                  <a:pt x="51" y="215"/>
                  <a:pt x="222" y="94"/>
                  <a:pt x="305" y="64"/>
                </a:cubicBezTo>
                <a:cubicBezTo>
                  <a:pt x="388" y="34"/>
                  <a:pt x="449" y="48"/>
                  <a:pt x="497" y="64"/>
                </a:cubicBezTo>
                <a:cubicBezTo>
                  <a:pt x="545" y="80"/>
                  <a:pt x="529" y="88"/>
                  <a:pt x="593" y="160"/>
                </a:cubicBezTo>
                <a:cubicBezTo>
                  <a:pt x="657" y="232"/>
                  <a:pt x="753" y="456"/>
                  <a:pt x="881" y="496"/>
                </a:cubicBezTo>
                <a:cubicBezTo>
                  <a:pt x="1009" y="536"/>
                  <a:pt x="1233" y="464"/>
                  <a:pt x="1361" y="400"/>
                </a:cubicBezTo>
                <a:cubicBezTo>
                  <a:pt x="1489" y="336"/>
                  <a:pt x="1545" y="176"/>
                  <a:pt x="1649" y="112"/>
                </a:cubicBezTo>
                <a:cubicBezTo>
                  <a:pt x="1753" y="48"/>
                  <a:pt x="1873" y="0"/>
                  <a:pt x="1985" y="16"/>
                </a:cubicBezTo>
                <a:cubicBezTo>
                  <a:pt x="2097" y="32"/>
                  <a:pt x="2241" y="120"/>
                  <a:pt x="2321" y="208"/>
                </a:cubicBezTo>
                <a:cubicBezTo>
                  <a:pt x="2401" y="296"/>
                  <a:pt x="2481" y="400"/>
                  <a:pt x="2465" y="544"/>
                </a:cubicBezTo>
                <a:cubicBezTo>
                  <a:pt x="2449" y="688"/>
                  <a:pt x="2193" y="904"/>
                  <a:pt x="2225" y="1072"/>
                </a:cubicBezTo>
                <a:cubicBezTo>
                  <a:pt x="2257" y="1240"/>
                  <a:pt x="2553" y="1432"/>
                  <a:pt x="2657" y="1552"/>
                </a:cubicBezTo>
                <a:cubicBezTo>
                  <a:pt x="2761" y="1672"/>
                  <a:pt x="2825" y="1688"/>
                  <a:pt x="2849" y="1792"/>
                </a:cubicBezTo>
                <a:cubicBezTo>
                  <a:pt x="2873" y="1896"/>
                  <a:pt x="2713" y="2032"/>
                  <a:pt x="2801" y="2176"/>
                </a:cubicBezTo>
                <a:cubicBezTo>
                  <a:pt x="2889" y="2320"/>
                  <a:pt x="3281" y="2576"/>
                  <a:pt x="3377" y="2656"/>
                </a:cubicBezTo>
              </a:path>
            </a:pathLst>
          </a:custGeom>
          <a:noFill/>
          <a:ln w="25560">
            <a:solidFill>
              <a:srgbClr val="ff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91" name="" descr=""/>
          <p:cNvPicPr/>
          <p:nvPr/>
        </p:nvPicPr>
        <p:blipFill>
          <a:blip r:embed="rId1"/>
          <a:srcRect l="25000" t="6251" r="0" b="0"/>
          <a:stretch/>
        </p:blipFill>
        <p:spPr>
          <a:xfrm>
            <a:off x="7086600" y="228600"/>
            <a:ext cx="1828800" cy="2286000"/>
          </a:xfrm>
          <a:prstGeom prst="rect">
            <a:avLst/>
          </a:prstGeom>
          <a:ln w="0">
            <a:noFill/>
          </a:ln>
        </p:spPr>
      </p:pic>
      <p:sp>
        <p:nvSpPr>
          <p:cNvPr id="192" name=""/>
          <p:cNvSpPr/>
          <p:nvPr/>
        </p:nvSpPr>
        <p:spPr>
          <a:xfrm>
            <a:off x="838080" y="1295280"/>
            <a:ext cx="7467840" cy="41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omic Sans MS"/>
              </a:rPr>
              <a:t>To</a:t>
            </a:r>
            <a:r>
              <a:rPr b="0" lang="en-US" sz="3600" spc="-1" strike="noStrike">
                <a:solidFill>
                  <a:srgbClr val="000000"/>
                </a:solidFill>
                <a:latin typeface="Comic Sans MS"/>
              </a:rPr>
              <a:t>-</a:t>
            </a:r>
            <a:r>
              <a:rPr b="0" i="1" lang="en-US" sz="3600" spc="-1" strike="noStrike">
                <a:solidFill>
                  <a:srgbClr val="000000"/>
                </a:solidFill>
                <a:latin typeface="Comic Sans MS"/>
              </a:rPr>
              <a:t>Dos</a:t>
            </a:r>
            <a:r>
              <a:rPr b="0" i="1" lang="en-US" sz="2400" spc="-1" strike="noStrike">
                <a:solidFill>
                  <a:srgbClr val="000000"/>
                </a:solidFill>
                <a:latin typeface="Comic Sans MS"/>
              </a:rPr>
              <a:t> </a:t>
            </a:r>
            <a:r>
              <a:rPr b="0" lang="en-US" sz="2400" spc="-1" strike="noStrike">
                <a:solidFill>
                  <a:srgbClr val="000000"/>
                </a:solidFill>
                <a:latin typeface="Arial"/>
              </a:rPr>
              <a:t>(cont’d)</a:t>
            </a:r>
            <a:r>
              <a:rPr b="0" lang="en-US"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ever share your personal information or anything about your friends--especially your cell phone number.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Don’t be shy; report inappropriate postings/profiles to the social networking provider and to the police.</a:t>
            </a:r>
            <a:endParaRPr b="0" lang="en-US" sz="2800" spc="-1" strike="noStrike">
              <a:solidFill>
                <a:srgbClr val="000000"/>
              </a:solidFill>
              <a:latin typeface="Arial"/>
            </a:endParaRPr>
          </a:p>
        </p:txBody>
      </p:sp>
      <p:pic>
        <p:nvPicPr>
          <p:cNvPr id="193" name="" descr=""/>
          <p:cNvPicPr/>
          <p:nvPr/>
        </p:nvPicPr>
        <p:blipFill>
          <a:blip r:embed="rId2"/>
          <a:stretch/>
        </p:blipFill>
        <p:spPr>
          <a:xfrm>
            <a:off x="2511360" y="200160"/>
            <a:ext cx="4114800" cy="942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rot="5080200">
            <a:off x="2628000" y="1307160"/>
            <a:ext cx="5360760" cy="4216320"/>
          </a:xfrm>
          <a:custGeom>
            <a:avLst/>
            <a:gdLst/>
            <a:ahLst/>
            <a:rect l="l" t="t" r="r" b="b"/>
            <a:pathLst>
              <a:path w="3377" h="2656">
                <a:moveTo>
                  <a:pt x="0" y="243"/>
                </a:moveTo>
                <a:cubicBezTo>
                  <a:pt x="51" y="215"/>
                  <a:pt x="222" y="94"/>
                  <a:pt x="305" y="64"/>
                </a:cubicBezTo>
                <a:cubicBezTo>
                  <a:pt x="388" y="34"/>
                  <a:pt x="449" y="48"/>
                  <a:pt x="497" y="64"/>
                </a:cubicBezTo>
                <a:cubicBezTo>
                  <a:pt x="545" y="80"/>
                  <a:pt x="529" y="88"/>
                  <a:pt x="593" y="160"/>
                </a:cubicBezTo>
                <a:cubicBezTo>
                  <a:pt x="657" y="232"/>
                  <a:pt x="753" y="456"/>
                  <a:pt x="881" y="496"/>
                </a:cubicBezTo>
                <a:cubicBezTo>
                  <a:pt x="1009" y="536"/>
                  <a:pt x="1233" y="464"/>
                  <a:pt x="1361" y="400"/>
                </a:cubicBezTo>
                <a:cubicBezTo>
                  <a:pt x="1489" y="336"/>
                  <a:pt x="1545" y="176"/>
                  <a:pt x="1649" y="112"/>
                </a:cubicBezTo>
                <a:cubicBezTo>
                  <a:pt x="1753" y="48"/>
                  <a:pt x="1873" y="0"/>
                  <a:pt x="1985" y="16"/>
                </a:cubicBezTo>
                <a:cubicBezTo>
                  <a:pt x="2097" y="32"/>
                  <a:pt x="2241" y="120"/>
                  <a:pt x="2321" y="208"/>
                </a:cubicBezTo>
                <a:cubicBezTo>
                  <a:pt x="2401" y="296"/>
                  <a:pt x="2481" y="400"/>
                  <a:pt x="2465" y="544"/>
                </a:cubicBezTo>
                <a:cubicBezTo>
                  <a:pt x="2449" y="688"/>
                  <a:pt x="2193" y="904"/>
                  <a:pt x="2225" y="1072"/>
                </a:cubicBezTo>
                <a:cubicBezTo>
                  <a:pt x="2257" y="1240"/>
                  <a:pt x="2553" y="1432"/>
                  <a:pt x="2657" y="1552"/>
                </a:cubicBezTo>
                <a:cubicBezTo>
                  <a:pt x="2761" y="1672"/>
                  <a:pt x="2825" y="1688"/>
                  <a:pt x="2849" y="1792"/>
                </a:cubicBezTo>
                <a:cubicBezTo>
                  <a:pt x="2873" y="1896"/>
                  <a:pt x="2713" y="2032"/>
                  <a:pt x="2801" y="2176"/>
                </a:cubicBezTo>
                <a:cubicBezTo>
                  <a:pt x="2889" y="2320"/>
                  <a:pt x="3281" y="2576"/>
                  <a:pt x="3377" y="2656"/>
                </a:cubicBezTo>
              </a:path>
            </a:pathLst>
          </a:custGeom>
          <a:noFill/>
          <a:ln w="25560">
            <a:solidFill>
              <a:srgbClr val="008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5" name="PlaceHolder 1"/>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 </a:t>
            </a:r>
            <a:r>
              <a:rPr b="1" lang="en-US" sz="2800" spc="-1" strike="noStrike">
                <a:solidFill>
                  <a:srgbClr val="000000"/>
                </a:solidFill>
                <a:latin typeface="Arial"/>
              </a:rPr>
              <a:t>Inappropriate content </a:t>
            </a:r>
            <a:r>
              <a:rPr b="0" lang="en-US" sz="2800" spc="-1" strike="noStrike">
                <a:solidFill>
                  <a:srgbClr val="000000"/>
                </a:solidFill>
                <a:latin typeface="Arial"/>
              </a:rPr>
              <a:t>has bee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d in CIPA* as visual depictions that ar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cene, child pornography, or materia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mful to minor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also include images of violence, hate group or extremist material, illegal activities and online advertising</a:t>
            </a:r>
            <a:endParaRPr b="0" lang="en-US" sz="2800" spc="-1" strike="noStrike">
              <a:solidFill>
                <a:srgbClr val="000000"/>
              </a:solidFill>
              <a:latin typeface="Arial"/>
            </a:endParaRPr>
          </a:p>
        </p:txBody>
      </p:sp>
      <p:pic>
        <p:nvPicPr>
          <p:cNvPr id="196" name="" descr=""/>
          <p:cNvPicPr/>
          <p:nvPr/>
        </p:nvPicPr>
        <p:blipFill>
          <a:blip r:embed="rId1"/>
          <a:stretch/>
        </p:blipFill>
        <p:spPr>
          <a:xfrm>
            <a:off x="2092320" y="169920"/>
            <a:ext cx="4952880" cy="923760"/>
          </a:xfrm>
          <a:prstGeom prst="rect">
            <a:avLst/>
          </a:prstGeom>
          <a:ln w="0">
            <a:noFill/>
          </a:ln>
        </p:spPr>
      </p:pic>
      <p:sp>
        <p:nvSpPr>
          <p:cNvPr id="197" name="">
            <a:hlinkClick r:id="rId2" action="ppaction://hlinksldjump"/>
          </p:cNvPr>
          <p:cNvSpPr/>
          <p:nvPr/>
        </p:nvSpPr>
        <p:spPr>
          <a:xfrm>
            <a:off x="6858000" y="5791320"/>
            <a:ext cx="1515960" cy="459720"/>
          </a:xfrm>
          <a:prstGeom prst="rect">
            <a:avLst/>
          </a:prstGeom>
          <a:solidFill>
            <a:srgbClr val="000080"/>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rea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3295800" y="585720"/>
            <a:ext cx="4138560" cy="5232600"/>
          </a:xfrm>
          <a:custGeom>
            <a:avLst/>
            <a:gdLst/>
            <a:ahLst/>
            <a:rect l="l" t="t" r="r" b="b"/>
            <a:pathLst>
              <a:path w="2607" h="3296">
                <a:moveTo>
                  <a:pt x="2191" y="0"/>
                </a:moveTo>
                <a:cubicBezTo>
                  <a:pt x="2223" y="48"/>
                  <a:pt x="2360" y="207"/>
                  <a:pt x="2397" y="287"/>
                </a:cubicBezTo>
                <a:cubicBezTo>
                  <a:pt x="2435" y="367"/>
                  <a:pt x="2427" y="429"/>
                  <a:pt x="2415" y="478"/>
                </a:cubicBezTo>
                <a:cubicBezTo>
                  <a:pt x="2404" y="527"/>
                  <a:pt x="2394" y="512"/>
                  <a:pt x="2329" y="583"/>
                </a:cubicBezTo>
                <a:cubicBezTo>
                  <a:pt x="2263" y="653"/>
                  <a:pt x="2049" y="770"/>
                  <a:pt x="2021" y="901"/>
                </a:cubicBezTo>
                <a:cubicBezTo>
                  <a:pt x="1993" y="1032"/>
                  <a:pt x="2085" y="1248"/>
                  <a:pt x="2161" y="1370"/>
                </a:cubicBezTo>
                <a:cubicBezTo>
                  <a:pt x="2237" y="1491"/>
                  <a:pt x="2401" y="1532"/>
                  <a:pt x="2475" y="1630"/>
                </a:cubicBezTo>
                <a:cubicBezTo>
                  <a:pt x="2548" y="1727"/>
                  <a:pt x="2607" y="1842"/>
                  <a:pt x="2601" y="1955"/>
                </a:cubicBezTo>
                <a:cubicBezTo>
                  <a:pt x="2596" y="2068"/>
                  <a:pt x="2522" y="2220"/>
                  <a:pt x="2441" y="2308"/>
                </a:cubicBezTo>
                <a:cubicBezTo>
                  <a:pt x="2361" y="2396"/>
                  <a:pt x="2265" y="2485"/>
                  <a:pt x="2120" y="2482"/>
                </a:cubicBezTo>
                <a:cubicBezTo>
                  <a:pt x="1975" y="2480"/>
                  <a:pt x="1736" y="2245"/>
                  <a:pt x="1572" y="2292"/>
                </a:cubicBezTo>
                <a:cubicBezTo>
                  <a:pt x="1408" y="2340"/>
                  <a:pt x="1248" y="2666"/>
                  <a:pt x="1134" y="2767"/>
                </a:cubicBezTo>
                <a:cubicBezTo>
                  <a:pt x="1020" y="2868"/>
                  <a:pt x="987" y="2863"/>
                  <a:pt x="886" y="2896"/>
                </a:cubicBezTo>
                <a:cubicBezTo>
                  <a:pt x="785" y="2929"/>
                  <a:pt x="674" y="2901"/>
                  <a:pt x="526" y="2968"/>
                </a:cubicBezTo>
                <a:cubicBezTo>
                  <a:pt x="378" y="3035"/>
                  <a:pt x="110" y="3228"/>
                  <a:pt x="0" y="3296"/>
                </a:cubicBezTo>
              </a:path>
            </a:pathLst>
          </a:custGeom>
          <a:noFill/>
          <a:ln w="25560">
            <a:solidFill>
              <a:srgbClr val="008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99" name="" descr=""/>
          <p:cNvPicPr/>
          <p:nvPr/>
        </p:nvPicPr>
        <p:blipFill>
          <a:blip r:embed="rId1"/>
          <a:stretch/>
        </p:blipFill>
        <p:spPr>
          <a:xfrm>
            <a:off x="2092320" y="169920"/>
            <a:ext cx="4952880" cy="923760"/>
          </a:xfrm>
          <a:prstGeom prst="rect">
            <a:avLst/>
          </a:prstGeom>
          <a:ln w="0">
            <a:noFill/>
          </a:ln>
        </p:spPr>
      </p:pic>
      <p:sp>
        <p:nvSpPr>
          <p:cNvPr id="200" name="PlaceHolder 1"/>
          <p:cNvSpPr>
            <a:spLocks noGrp="1"/>
          </p:cNvSpPr>
          <p:nvPr>
            <p:ph/>
          </p:nvPr>
        </p:nvSpPr>
        <p:spPr>
          <a:xfrm>
            <a:off x="723960" y="1371240"/>
            <a:ext cx="7772400" cy="4724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raveling the fac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appropriate content can occur on any computer by accid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a small fraction of the materials on the Internet could reasonably be classified as inappropriate for childre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fortunately, that small fraction is highly visible and controversial.</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
            <a:hlinkClick r:id="rId2"/>
          </p:cNvPr>
          <p:cNvSpPr/>
          <p:nvPr/>
        </p:nvSpPr>
        <p:spPr>
          <a:xfrm>
            <a:off x="1371600" y="5791320"/>
            <a:ext cx="3276720" cy="459720"/>
          </a:xfrm>
          <a:prstGeom prst="rect">
            <a:avLst/>
          </a:prstGeom>
          <a:solidFill>
            <a:srgbClr val="008000"/>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ent Controls Vide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rcRect l="25000" t="6251" r="0" b="0"/>
          <a:stretch/>
        </p:blipFill>
        <p:spPr>
          <a:xfrm>
            <a:off x="7086600" y="228600"/>
            <a:ext cx="1828800" cy="2286000"/>
          </a:xfrm>
          <a:prstGeom prst="rect">
            <a:avLst/>
          </a:prstGeom>
          <a:ln w="0">
            <a:noFill/>
          </a:ln>
        </p:spPr>
      </p:pic>
      <p:sp>
        <p:nvSpPr>
          <p:cNvPr id="203" name=""/>
          <p:cNvSpPr/>
          <p:nvPr/>
        </p:nvSpPr>
        <p:spPr>
          <a:xfrm>
            <a:off x="762120" y="2743200"/>
            <a:ext cx="7696080" cy="2653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ell a trusted adult, teacher or parent if</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ome across inappropriate conten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Know how to use the back button or log</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 immediately when you find material that makes you feel uncomfortable.</a:t>
            </a:r>
            <a:endParaRPr b="0" lang="en-US" sz="2800" spc="-1" strike="noStrike">
              <a:solidFill>
                <a:srgbClr val="000000"/>
              </a:solidFill>
              <a:latin typeface="Arial"/>
            </a:endParaRPr>
          </a:p>
        </p:txBody>
      </p:sp>
      <p:sp>
        <p:nvSpPr>
          <p:cNvPr id="204" name=""/>
          <p:cNvSpPr/>
          <p:nvPr/>
        </p:nvSpPr>
        <p:spPr>
          <a:xfrm>
            <a:off x="762120" y="1263600"/>
            <a:ext cx="655308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omic Sans MS"/>
              </a:rPr>
              <a:t>To</a:t>
            </a:r>
            <a:r>
              <a:rPr b="0" lang="en-US" sz="3600" spc="-1" strike="noStrike">
                <a:solidFill>
                  <a:srgbClr val="000000"/>
                </a:solidFill>
                <a:latin typeface="Comic Sans MS"/>
              </a:rPr>
              <a:t>-</a:t>
            </a:r>
            <a:r>
              <a:rPr b="0" i="1" lang="en-US" sz="3600" spc="-1" strike="noStrike">
                <a:solidFill>
                  <a:srgbClr val="000000"/>
                </a:solidFill>
                <a:latin typeface="Comic Sans MS"/>
              </a:rPr>
              <a:t>Dos</a:t>
            </a:r>
            <a:r>
              <a:rPr b="0" lang="en-US" sz="2800" spc="-1" strike="noStrike">
                <a:solidFill>
                  <a:srgbClr val="000000"/>
                </a:solidFill>
                <a:latin typeface="Arial"/>
              </a:rPr>
              <a:t>: Remember to share guidelines with your students:</a:t>
            </a:r>
            <a:endParaRPr b="0" lang="en-US" sz="2800" spc="-1" strike="noStrike">
              <a:solidFill>
                <a:srgbClr val="000000"/>
              </a:solidFill>
              <a:latin typeface="Arial"/>
            </a:endParaRPr>
          </a:p>
        </p:txBody>
      </p:sp>
      <p:pic>
        <p:nvPicPr>
          <p:cNvPr id="205" name="" descr=""/>
          <p:cNvPicPr/>
          <p:nvPr/>
        </p:nvPicPr>
        <p:blipFill>
          <a:blip r:embed="rId2"/>
          <a:stretch/>
        </p:blipFill>
        <p:spPr>
          <a:xfrm>
            <a:off x="2092320" y="169920"/>
            <a:ext cx="4952880" cy="923760"/>
          </a:xfrm>
          <a:prstGeom prst="rect">
            <a:avLst/>
          </a:prstGeom>
          <a:ln w="0">
            <a:noFill/>
          </a:ln>
        </p:spPr>
      </p:pic>
      <p:sp>
        <p:nvSpPr>
          <p:cNvPr id="206" name=""/>
          <p:cNvSpPr/>
          <p:nvPr/>
        </p:nvSpPr>
        <p:spPr>
          <a:xfrm rot="5080200">
            <a:off x="2628000" y="1307160"/>
            <a:ext cx="5360760" cy="4216320"/>
          </a:xfrm>
          <a:custGeom>
            <a:avLst/>
            <a:gdLst/>
            <a:ahLst/>
            <a:rect l="l" t="t" r="r" b="b"/>
            <a:pathLst>
              <a:path w="3377" h="2656">
                <a:moveTo>
                  <a:pt x="0" y="243"/>
                </a:moveTo>
                <a:cubicBezTo>
                  <a:pt x="51" y="215"/>
                  <a:pt x="222" y="94"/>
                  <a:pt x="305" y="64"/>
                </a:cubicBezTo>
                <a:cubicBezTo>
                  <a:pt x="388" y="34"/>
                  <a:pt x="449" y="48"/>
                  <a:pt x="497" y="64"/>
                </a:cubicBezTo>
                <a:cubicBezTo>
                  <a:pt x="545" y="80"/>
                  <a:pt x="529" y="88"/>
                  <a:pt x="593" y="160"/>
                </a:cubicBezTo>
                <a:cubicBezTo>
                  <a:pt x="657" y="232"/>
                  <a:pt x="753" y="456"/>
                  <a:pt x="881" y="496"/>
                </a:cubicBezTo>
                <a:cubicBezTo>
                  <a:pt x="1009" y="536"/>
                  <a:pt x="1233" y="464"/>
                  <a:pt x="1361" y="400"/>
                </a:cubicBezTo>
                <a:cubicBezTo>
                  <a:pt x="1489" y="336"/>
                  <a:pt x="1545" y="176"/>
                  <a:pt x="1649" y="112"/>
                </a:cubicBezTo>
                <a:cubicBezTo>
                  <a:pt x="1753" y="48"/>
                  <a:pt x="1873" y="0"/>
                  <a:pt x="1985" y="16"/>
                </a:cubicBezTo>
                <a:cubicBezTo>
                  <a:pt x="2097" y="32"/>
                  <a:pt x="2241" y="120"/>
                  <a:pt x="2321" y="208"/>
                </a:cubicBezTo>
                <a:cubicBezTo>
                  <a:pt x="2401" y="296"/>
                  <a:pt x="2481" y="400"/>
                  <a:pt x="2465" y="544"/>
                </a:cubicBezTo>
                <a:cubicBezTo>
                  <a:pt x="2449" y="688"/>
                  <a:pt x="2193" y="904"/>
                  <a:pt x="2225" y="1072"/>
                </a:cubicBezTo>
                <a:cubicBezTo>
                  <a:pt x="2257" y="1240"/>
                  <a:pt x="2553" y="1432"/>
                  <a:pt x="2657" y="1552"/>
                </a:cubicBezTo>
                <a:cubicBezTo>
                  <a:pt x="2761" y="1672"/>
                  <a:pt x="2825" y="1688"/>
                  <a:pt x="2849" y="1792"/>
                </a:cubicBezTo>
                <a:cubicBezTo>
                  <a:pt x="2873" y="1896"/>
                  <a:pt x="2713" y="2032"/>
                  <a:pt x="2801" y="2176"/>
                </a:cubicBezTo>
                <a:cubicBezTo>
                  <a:pt x="2889" y="2320"/>
                  <a:pt x="3281" y="2576"/>
                  <a:pt x="3377" y="2656"/>
                </a:cubicBezTo>
              </a:path>
            </a:pathLst>
          </a:custGeom>
          <a:noFill/>
          <a:ln w="25560">
            <a:solidFill>
              <a:srgbClr val="008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218960" y="228240"/>
            <a:ext cx="7848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80"/>
                </a:solidFill>
                <a:latin typeface="Arial"/>
              </a:rPr>
              <a:t>How Do You Use the Internet?</a:t>
            </a:r>
            <a:endParaRPr b="0" lang="en-US" sz="3600" spc="-1" strike="noStrike">
              <a:solidFill>
                <a:srgbClr val="000080"/>
              </a:solidFill>
              <a:latin typeface="Arial"/>
            </a:endParaRPr>
          </a:p>
        </p:txBody>
      </p:sp>
      <p:sp>
        <p:nvSpPr>
          <p:cNvPr id="63"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Your Favorite Sit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1"/>
          <a:srcRect l="25000" t="6251" r="0" b="0"/>
          <a:stretch/>
        </p:blipFill>
        <p:spPr>
          <a:xfrm>
            <a:off x="7086600" y="228600"/>
            <a:ext cx="1828800" cy="2286000"/>
          </a:xfrm>
          <a:prstGeom prst="rect">
            <a:avLst/>
          </a:prstGeom>
          <a:ln w="0">
            <a:noFill/>
          </a:ln>
        </p:spPr>
      </p:pic>
      <p:sp>
        <p:nvSpPr>
          <p:cNvPr id="208" name=""/>
          <p:cNvSpPr/>
          <p:nvPr/>
        </p:nvSpPr>
        <p:spPr>
          <a:xfrm>
            <a:off x="762120" y="1523880"/>
            <a:ext cx="7696080" cy="490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omic Sans MS"/>
              </a:rPr>
              <a:t>To</a:t>
            </a:r>
            <a:r>
              <a:rPr b="0" lang="en-US" sz="3600" spc="-1" strike="noStrike">
                <a:solidFill>
                  <a:srgbClr val="000000"/>
                </a:solidFill>
                <a:latin typeface="Comic Sans MS"/>
              </a:rPr>
              <a:t>-</a:t>
            </a:r>
            <a:r>
              <a:rPr b="0" i="1" lang="en-US" sz="3600" spc="-1" strike="noStrike">
                <a:solidFill>
                  <a:srgbClr val="000000"/>
                </a:solidFill>
                <a:latin typeface="Comic Sans MS"/>
              </a:rPr>
              <a:t>Dos</a:t>
            </a:r>
            <a:r>
              <a:rPr b="0" i="1" lang="en-US" sz="2400" spc="-1" strike="noStrike">
                <a:solidFill>
                  <a:srgbClr val="000000"/>
                </a:solidFill>
                <a:latin typeface="Comic Sans MS"/>
              </a:rPr>
              <a:t> </a:t>
            </a:r>
            <a:r>
              <a:rPr b="0" lang="en-US" sz="2400" spc="-1" strike="noStrike">
                <a:solidFill>
                  <a:srgbClr val="000000"/>
                </a:solidFill>
                <a:latin typeface="Arial"/>
              </a:rPr>
              <a:t>(cont’d)</a:t>
            </a:r>
            <a:r>
              <a:rPr b="0" lang="en-US"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on’t download files from people you don’t know.</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se filtered searches and systems; ask your teacher or librarian for help</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se Ask.com as your search engine or set your preferences in Google for strict filtering</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9" name="" descr=""/>
          <p:cNvPicPr/>
          <p:nvPr/>
        </p:nvPicPr>
        <p:blipFill>
          <a:blip r:embed="rId2"/>
          <a:stretch/>
        </p:blipFill>
        <p:spPr>
          <a:xfrm>
            <a:off x="2092320" y="169920"/>
            <a:ext cx="4952880" cy="923760"/>
          </a:xfrm>
          <a:prstGeom prst="rect">
            <a:avLst/>
          </a:prstGeom>
          <a:ln w="0">
            <a:noFill/>
          </a:ln>
        </p:spPr>
      </p:pic>
      <p:sp>
        <p:nvSpPr>
          <p:cNvPr id="210" name=""/>
          <p:cNvSpPr/>
          <p:nvPr/>
        </p:nvSpPr>
        <p:spPr>
          <a:xfrm rot="5080200">
            <a:off x="2628000" y="1307160"/>
            <a:ext cx="5360760" cy="4216320"/>
          </a:xfrm>
          <a:custGeom>
            <a:avLst/>
            <a:gdLst/>
            <a:ahLst/>
            <a:rect l="l" t="t" r="r" b="b"/>
            <a:pathLst>
              <a:path w="3377" h="2656">
                <a:moveTo>
                  <a:pt x="0" y="243"/>
                </a:moveTo>
                <a:cubicBezTo>
                  <a:pt x="51" y="215"/>
                  <a:pt x="222" y="94"/>
                  <a:pt x="305" y="64"/>
                </a:cubicBezTo>
                <a:cubicBezTo>
                  <a:pt x="388" y="34"/>
                  <a:pt x="449" y="48"/>
                  <a:pt x="497" y="64"/>
                </a:cubicBezTo>
                <a:cubicBezTo>
                  <a:pt x="545" y="80"/>
                  <a:pt x="529" y="88"/>
                  <a:pt x="593" y="160"/>
                </a:cubicBezTo>
                <a:cubicBezTo>
                  <a:pt x="657" y="232"/>
                  <a:pt x="753" y="456"/>
                  <a:pt x="881" y="496"/>
                </a:cubicBezTo>
                <a:cubicBezTo>
                  <a:pt x="1009" y="536"/>
                  <a:pt x="1233" y="464"/>
                  <a:pt x="1361" y="400"/>
                </a:cubicBezTo>
                <a:cubicBezTo>
                  <a:pt x="1489" y="336"/>
                  <a:pt x="1545" y="176"/>
                  <a:pt x="1649" y="112"/>
                </a:cubicBezTo>
                <a:cubicBezTo>
                  <a:pt x="1753" y="48"/>
                  <a:pt x="1873" y="0"/>
                  <a:pt x="1985" y="16"/>
                </a:cubicBezTo>
                <a:cubicBezTo>
                  <a:pt x="2097" y="32"/>
                  <a:pt x="2241" y="120"/>
                  <a:pt x="2321" y="208"/>
                </a:cubicBezTo>
                <a:cubicBezTo>
                  <a:pt x="2401" y="296"/>
                  <a:pt x="2481" y="400"/>
                  <a:pt x="2465" y="544"/>
                </a:cubicBezTo>
                <a:cubicBezTo>
                  <a:pt x="2449" y="688"/>
                  <a:pt x="2193" y="904"/>
                  <a:pt x="2225" y="1072"/>
                </a:cubicBezTo>
                <a:cubicBezTo>
                  <a:pt x="2257" y="1240"/>
                  <a:pt x="2553" y="1432"/>
                  <a:pt x="2657" y="1552"/>
                </a:cubicBezTo>
                <a:cubicBezTo>
                  <a:pt x="2761" y="1672"/>
                  <a:pt x="2825" y="1688"/>
                  <a:pt x="2849" y="1792"/>
                </a:cubicBezTo>
                <a:cubicBezTo>
                  <a:pt x="2873" y="1896"/>
                  <a:pt x="2713" y="2032"/>
                  <a:pt x="2801" y="2176"/>
                </a:cubicBezTo>
                <a:cubicBezTo>
                  <a:pt x="2889" y="2320"/>
                  <a:pt x="3281" y="2576"/>
                  <a:pt x="3377" y="2656"/>
                </a:cubicBezTo>
              </a:path>
            </a:pathLst>
          </a:custGeom>
          <a:noFill/>
          <a:ln w="25560">
            <a:solidFill>
              <a:srgbClr val="008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2763720" y="585720"/>
            <a:ext cx="4035600" cy="5507280"/>
          </a:xfrm>
          <a:custGeom>
            <a:avLst/>
            <a:gdLst/>
            <a:ahLst/>
            <a:rect l="l" t="t" r="r" b="b"/>
            <a:pathLst>
              <a:path w="2542" h="3469">
                <a:moveTo>
                  <a:pt x="2126" y="0"/>
                </a:moveTo>
                <a:cubicBezTo>
                  <a:pt x="2158" y="48"/>
                  <a:pt x="2295" y="207"/>
                  <a:pt x="2332" y="287"/>
                </a:cubicBezTo>
                <a:cubicBezTo>
                  <a:pt x="2370" y="367"/>
                  <a:pt x="2362" y="429"/>
                  <a:pt x="2350" y="478"/>
                </a:cubicBezTo>
                <a:cubicBezTo>
                  <a:pt x="2339" y="527"/>
                  <a:pt x="2329" y="512"/>
                  <a:pt x="2264" y="583"/>
                </a:cubicBezTo>
                <a:cubicBezTo>
                  <a:pt x="2198" y="653"/>
                  <a:pt x="1984" y="770"/>
                  <a:pt x="1956" y="901"/>
                </a:cubicBezTo>
                <a:cubicBezTo>
                  <a:pt x="1928" y="1032"/>
                  <a:pt x="2020" y="1248"/>
                  <a:pt x="2096" y="1370"/>
                </a:cubicBezTo>
                <a:cubicBezTo>
                  <a:pt x="2172" y="1491"/>
                  <a:pt x="2336" y="1532"/>
                  <a:pt x="2410" y="1630"/>
                </a:cubicBezTo>
                <a:cubicBezTo>
                  <a:pt x="2483" y="1727"/>
                  <a:pt x="2542" y="1842"/>
                  <a:pt x="2536" y="1955"/>
                </a:cubicBezTo>
                <a:cubicBezTo>
                  <a:pt x="2531" y="2068"/>
                  <a:pt x="2457" y="2220"/>
                  <a:pt x="2376" y="2308"/>
                </a:cubicBezTo>
                <a:cubicBezTo>
                  <a:pt x="2296" y="2396"/>
                  <a:pt x="2200" y="2485"/>
                  <a:pt x="2055" y="2482"/>
                </a:cubicBezTo>
                <a:cubicBezTo>
                  <a:pt x="1910" y="2480"/>
                  <a:pt x="1671" y="2245"/>
                  <a:pt x="1507" y="2292"/>
                </a:cubicBezTo>
                <a:cubicBezTo>
                  <a:pt x="1343" y="2340"/>
                  <a:pt x="1179" y="2652"/>
                  <a:pt x="1069" y="2767"/>
                </a:cubicBezTo>
                <a:cubicBezTo>
                  <a:pt x="960" y="2882"/>
                  <a:pt x="950" y="2947"/>
                  <a:pt x="848" y="2981"/>
                </a:cubicBezTo>
                <a:cubicBezTo>
                  <a:pt x="747" y="3014"/>
                  <a:pt x="602" y="2887"/>
                  <a:pt x="461" y="2968"/>
                </a:cubicBezTo>
                <a:cubicBezTo>
                  <a:pt x="320" y="3049"/>
                  <a:pt x="96" y="3365"/>
                  <a:pt x="0" y="3469"/>
                </a:cubicBezTo>
              </a:path>
            </a:pathLst>
          </a:custGeom>
          <a:noFill/>
          <a:ln w="255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2" name="PlaceHolder 1"/>
          <p:cNvSpPr>
            <a:spLocks noGrp="1"/>
          </p:cNvSpPr>
          <p:nvPr>
            <p:ph/>
          </p:nvPr>
        </p:nvSpPr>
        <p:spPr>
          <a:xfrm>
            <a:off x="685800" y="1371600"/>
            <a:ext cx="7772400" cy="4952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 A </a:t>
            </a:r>
            <a:r>
              <a:rPr b="1" lang="en-US" sz="2800" spc="-1" strike="noStrike">
                <a:solidFill>
                  <a:srgbClr val="000000"/>
                </a:solidFill>
                <a:latin typeface="Arial"/>
              </a:rPr>
              <a:t>Cyber predator </a:t>
            </a:r>
            <a:r>
              <a:rPr b="0" lang="en-US" sz="2800" spc="-1" strike="noStrike">
                <a:solidFill>
                  <a:srgbClr val="000000"/>
                </a:solidFill>
                <a:latin typeface="Arial"/>
              </a:rPr>
              <a:t>uses the Interne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hunt for victims to take advantage of in AN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y, including sexually, emotionally,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sychologically or financiall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yber predators know how to manipulate kids, creating trust and friendship where none should exist</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213" name="" descr=""/>
          <p:cNvPicPr/>
          <p:nvPr/>
        </p:nvPicPr>
        <p:blipFill>
          <a:blip r:embed="rId1"/>
          <a:stretch/>
        </p:blipFill>
        <p:spPr>
          <a:xfrm>
            <a:off x="2701800" y="228600"/>
            <a:ext cx="3733920" cy="1006560"/>
          </a:xfrm>
          <a:prstGeom prst="rect">
            <a:avLst/>
          </a:prstGeom>
          <a:ln w="0">
            <a:noFill/>
          </a:ln>
        </p:spPr>
      </p:pic>
      <p:sp>
        <p:nvSpPr>
          <p:cNvPr id="214" name="">
            <a:hlinkClick r:id="rId2" action="ppaction://hlinksldjump"/>
          </p:cNvPr>
          <p:cNvSpPr/>
          <p:nvPr/>
        </p:nvSpPr>
        <p:spPr>
          <a:xfrm>
            <a:off x="6858000" y="5791320"/>
            <a:ext cx="1515960" cy="459720"/>
          </a:xfrm>
          <a:prstGeom prst="rect">
            <a:avLst/>
          </a:prstGeom>
          <a:solidFill>
            <a:srgbClr val="000080"/>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reads</a:t>
            </a:r>
            <a:endParaRPr b="0" lang="en-US" sz="2400" spc="-1" strike="noStrike">
              <a:solidFill>
                <a:srgbClr val="000000"/>
              </a:solidFill>
              <a:latin typeface="Arial"/>
            </a:endParaRPr>
          </a:p>
        </p:txBody>
      </p:sp>
      <p:sp>
        <p:nvSpPr>
          <p:cNvPr id="215" name=""/>
          <p:cNvSpPr/>
          <p:nvPr/>
        </p:nvSpPr>
        <p:spPr>
          <a:xfrm>
            <a:off x="914400" y="5791320"/>
            <a:ext cx="3962520" cy="45972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yber Predator Awaren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rot="5080200">
            <a:off x="1992960" y="1307160"/>
            <a:ext cx="5360760" cy="4216320"/>
          </a:xfrm>
          <a:custGeom>
            <a:avLst/>
            <a:gdLst/>
            <a:ahLst/>
            <a:rect l="l" t="t" r="r" b="b"/>
            <a:pathLst>
              <a:path w="3377" h="2656">
                <a:moveTo>
                  <a:pt x="0" y="243"/>
                </a:moveTo>
                <a:cubicBezTo>
                  <a:pt x="51" y="215"/>
                  <a:pt x="222" y="94"/>
                  <a:pt x="305" y="64"/>
                </a:cubicBezTo>
                <a:cubicBezTo>
                  <a:pt x="388" y="34"/>
                  <a:pt x="449" y="48"/>
                  <a:pt x="497" y="64"/>
                </a:cubicBezTo>
                <a:cubicBezTo>
                  <a:pt x="545" y="80"/>
                  <a:pt x="529" y="88"/>
                  <a:pt x="593" y="160"/>
                </a:cubicBezTo>
                <a:cubicBezTo>
                  <a:pt x="657" y="232"/>
                  <a:pt x="753" y="456"/>
                  <a:pt x="881" y="496"/>
                </a:cubicBezTo>
                <a:cubicBezTo>
                  <a:pt x="1009" y="536"/>
                  <a:pt x="1233" y="464"/>
                  <a:pt x="1361" y="400"/>
                </a:cubicBezTo>
                <a:cubicBezTo>
                  <a:pt x="1489" y="336"/>
                  <a:pt x="1545" y="176"/>
                  <a:pt x="1649" y="112"/>
                </a:cubicBezTo>
                <a:cubicBezTo>
                  <a:pt x="1753" y="48"/>
                  <a:pt x="1873" y="0"/>
                  <a:pt x="1985" y="16"/>
                </a:cubicBezTo>
                <a:cubicBezTo>
                  <a:pt x="2097" y="32"/>
                  <a:pt x="2241" y="120"/>
                  <a:pt x="2321" y="208"/>
                </a:cubicBezTo>
                <a:cubicBezTo>
                  <a:pt x="2401" y="296"/>
                  <a:pt x="2481" y="400"/>
                  <a:pt x="2465" y="544"/>
                </a:cubicBezTo>
                <a:cubicBezTo>
                  <a:pt x="2449" y="688"/>
                  <a:pt x="2193" y="904"/>
                  <a:pt x="2225" y="1072"/>
                </a:cubicBezTo>
                <a:cubicBezTo>
                  <a:pt x="2257" y="1240"/>
                  <a:pt x="2553" y="1432"/>
                  <a:pt x="2657" y="1552"/>
                </a:cubicBezTo>
                <a:cubicBezTo>
                  <a:pt x="2761" y="1672"/>
                  <a:pt x="2825" y="1688"/>
                  <a:pt x="2849" y="1792"/>
                </a:cubicBezTo>
                <a:cubicBezTo>
                  <a:pt x="2873" y="1896"/>
                  <a:pt x="2713" y="2032"/>
                  <a:pt x="2801" y="2176"/>
                </a:cubicBezTo>
                <a:cubicBezTo>
                  <a:pt x="2889" y="2320"/>
                  <a:pt x="3281" y="2576"/>
                  <a:pt x="3377" y="2656"/>
                </a:cubicBezTo>
              </a:path>
            </a:pathLst>
          </a:custGeom>
          <a:noFill/>
          <a:ln w="255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217" name="" descr=""/>
          <p:cNvPicPr/>
          <p:nvPr/>
        </p:nvPicPr>
        <p:blipFill>
          <a:blip r:embed="rId1"/>
          <a:stretch/>
        </p:blipFill>
        <p:spPr>
          <a:xfrm>
            <a:off x="2701800" y="228600"/>
            <a:ext cx="3733920" cy="1006560"/>
          </a:xfrm>
          <a:prstGeom prst="rect">
            <a:avLst/>
          </a:prstGeom>
          <a:ln w="0">
            <a:noFill/>
          </a:ln>
        </p:spPr>
      </p:pic>
      <p:sp>
        <p:nvSpPr>
          <p:cNvPr id="218" name="PlaceHolder 1"/>
          <p:cNvSpPr>
            <a:spLocks noGrp="1"/>
          </p:cNvSpPr>
          <p:nvPr>
            <p:ph/>
          </p:nvPr>
        </p:nvSpPr>
        <p:spPr>
          <a:xfrm>
            <a:off x="723960" y="1371240"/>
            <a:ext cx="7772400" cy="4724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raveling the fac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yber predators can be sent to pris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children need to look out for is </a:t>
            </a:r>
            <a:r>
              <a:rPr b="1" lang="en-US" sz="2800" spc="-1" strike="noStrike">
                <a:solidFill>
                  <a:srgbClr val="000000"/>
                </a:solidFill>
                <a:latin typeface="Arial"/>
              </a:rPr>
              <a:t>not</a:t>
            </a:r>
            <a:r>
              <a:rPr b="0" lang="en-US" sz="2800" spc="-1" strike="noStrike">
                <a:solidFill>
                  <a:srgbClr val="000000"/>
                </a:solidFill>
                <a:latin typeface="Arial"/>
              </a:rPr>
              <a:t> a certain stereotype of a dangerous person but </a:t>
            </a:r>
            <a:r>
              <a:rPr b="0" lang="en-US" sz="2800" spc="-1" strike="noStrike" u="sng">
                <a:solidFill>
                  <a:srgbClr val="000000"/>
                </a:solidFill>
                <a:uFillTx/>
                <a:latin typeface="Arial"/>
              </a:rPr>
              <a:t>certain types of behavior</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eachable moments, even headline news, to make discussion and education releva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9" name=""/>
          <p:cNvSpPr/>
          <p:nvPr/>
        </p:nvSpPr>
        <p:spPr>
          <a:xfrm>
            <a:off x="990720" y="5791320"/>
            <a:ext cx="3962160" cy="45972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BS News Artic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rot="5080200">
            <a:off x="1992960" y="1307160"/>
            <a:ext cx="5360760" cy="4216320"/>
          </a:xfrm>
          <a:custGeom>
            <a:avLst/>
            <a:gdLst/>
            <a:ahLst/>
            <a:rect l="l" t="t" r="r" b="b"/>
            <a:pathLst>
              <a:path w="3377" h="2656">
                <a:moveTo>
                  <a:pt x="0" y="243"/>
                </a:moveTo>
                <a:cubicBezTo>
                  <a:pt x="51" y="215"/>
                  <a:pt x="222" y="94"/>
                  <a:pt x="305" y="64"/>
                </a:cubicBezTo>
                <a:cubicBezTo>
                  <a:pt x="388" y="34"/>
                  <a:pt x="449" y="48"/>
                  <a:pt x="497" y="64"/>
                </a:cubicBezTo>
                <a:cubicBezTo>
                  <a:pt x="545" y="80"/>
                  <a:pt x="529" y="88"/>
                  <a:pt x="593" y="160"/>
                </a:cubicBezTo>
                <a:cubicBezTo>
                  <a:pt x="657" y="232"/>
                  <a:pt x="753" y="456"/>
                  <a:pt x="881" y="496"/>
                </a:cubicBezTo>
                <a:cubicBezTo>
                  <a:pt x="1009" y="536"/>
                  <a:pt x="1233" y="464"/>
                  <a:pt x="1361" y="400"/>
                </a:cubicBezTo>
                <a:cubicBezTo>
                  <a:pt x="1489" y="336"/>
                  <a:pt x="1545" y="176"/>
                  <a:pt x="1649" y="112"/>
                </a:cubicBezTo>
                <a:cubicBezTo>
                  <a:pt x="1753" y="48"/>
                  <a:pt x="1873" y="0"/>
                  <a:pt x="1985" y="16"/>
                </a:cubicBezTo>
                <a:cubicBezTo>
                  <a:pt x="2097" y="32"/>
                  <a:pt x="2241" y="120"/>
                  <a:pt x="2321" y="208"/>
                </a:cubicBezTo>
                <a:cubicBezTo>
                  <a:pt x="2401" y="296"/>
                  <a:pt x="2481" y="400"/>
                  <a:pt x="2465" y="544"/>
                </a:cubicBezTo>
                <a:cubicBezTo>
                  <a:pt x="2449" y="688"/>
                  <a:pt x="2193" y="904"/>
                  <a:pt x="2225" y="1072"/>
                </a:cubicBezTo>
                <a:cubicBezTo>
                  <a:pt x="2257" y="1240"/>
                  <a:pt x="2553" y="1432"/>
                  <a:pt x="2657" y="1552"/>
                </a:cubicBezTo>
                <a:cubicBezTo>
                  <a:pt x="2761" y="1672"/>
                  <a:pt x="2825" y="1688"/>
                  <a:pt x="2849" y="1792"/>
                </a:cubicBezTo>
                <a:cubicBezTo>
                  <a:pt x="2873" y="1896"/>
                  <a:pt x="2713" y="2032"/>
                  <a:pt x="2801" y="2176"/>
                </a:cubicBezTo>
                <a:cubicBezTo>
                  <a:pt x="2889" y="2320"/>
                  <a:pt x="3281" y="2576"/>
                  <a:pt x="3377" y="2656"/>
                </a:cubicBezTo>
              </a:path>
            </a:pathLst>
          </a:custGeom>
          <a:noFill/>
          <a:ln w="255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221" name="" descr=""/>
          <p:cNvPicPr/>
          <p:nvPr/>
        </p:nvPicPr>
        <p:blipFill>
          <a:blip r:embed="rId1"/>
          <a:srcRect l="25000" t="6251" r="0" b="0"/>
          <a:stretch/>
        </p:blipFill>
        <p:spPr>
          <a:xfrm>
            <a:off x="7086600" y="228600"/>
            <a:ext cx="1828800" cy="2286000"/>
          </a:xfrm>
          <a:prstGeom prst="rect">
            <a:avLst/>
          </a:prstGeom>
          <a:ln w="0">
            <a:noFill/>
          </a:ln>
        </p:spPr>
      </p:pic>
      <p:sp>
        <p:nvSpPr>
          <p:cNvPr id="222" name=""/>
          <p:cNvSpPr/>
          <p:nvPr/>
        </p:nvSpPr>
        <p:spPr>
          <a:xfrm>
            <a:off x="762120" y="2786040"/>
            <a:ext cx="7696080" cy="3080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ncourage your schools to add a small </a:t>
            </a:r>
            <a:r>
              <a:rPr b="0" lang="en-US" sz="2800" spc="-1" strike="noStrike">
                <a:solidFill>
                  <a:srgbClr val="000000"/>
                </a:solidFill>
                <a:latin typeface="Arial"/>
              </a:rPr>
              <a:t>c</a:t>
            </a:r>
            <a:r>
              <a:rPr b="0" lang="en-US" sz="2800" spc="-1" strike="noStrike">
                <a:solidFill>
                  <a:srgbClr val="000000"/>
                </a:solidFill>
                <a:latin typeface="Arial"/>
              </a:rPr>
              <a:t>yber tips</a:t>
            </a:r>
            <a:r>
              <a:rPr b="0" lang="en-US" sz="2800" spc="-1" strike="noStrike">
                <a:solidFill>
                  <a:srgbClr val="000000"/>
                </a:solidFill>
                <a:latin typeface="Arial"/>
              </a:rPr>
              <a:t> s</a:t>
            </a:r>
            <a:r>
              <a:rPr b="0" lang="en-US" sz="2800" spc="-1" strike="noStrike">
                <a:solidFill>
                  <a:srgbClr val="000000"/>
                </a:solidFill>
                <a:latin typeface="Arial"/>
              </a:rPr>
              <a:t>ection to their school newsletters.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mind student to think twice before sharing any information about themselve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3" name=""/>
          <p:cNvSpPr/>
          <p:nvPr/>
        </p:nvSpPr>
        <p:spPr>
          <a:xfrm>
            <a:off x="762120" y="1371600"/>
            <a:ext cx="655308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omic Sans MS"/>
              </a:rPr>
              <a:t>To</a:t>
            </a:r>
            <a:r>
              <a:rPr b="0" lang="en-US" sz="3600" spc="-1" strike="noStrike">
                <a:solidFill>
                  <a:srgbClr val="000000"/>
                </a:solidFill>
                <a:latin typeface="Comic Sans MS"/>
              </a:rPr>
              <a:t>-</a:t>
            </a:r>
            <a:r>
              <a:rPr b="0" i="1" lang="en-US" sz="3600" spc="-1" strike="noStrike">
                <a:solidFill>
                  <a:srgbClr val="000000"/>
                </a:solidFill>
                <a:latin typeface="Comic Sans MS"/>
              </a:rPr>
              <a:t>Dos</a:t>
            </a:r>
            <a:r>
              <a:rPr b="0" i="1" lang="en-US" sz="2400" spc="-1" strike="noStrike">
                <a:solidFill>
                  <a:srgbClr val="000000"/>
                </a:solidFill>
                <a:latin typeface="Comic Sans MS"/>
              </a:rPr>
              <a:t>: </a:t>
            </a:r>
            <a:r>
              <a:rPr b="0" lang="en-US" sz="2800" spc="-1" strike="noStrike">
                <a:solidFill>
                  <a:srgbClr val="000000"/>
                </a:solidFill>
                <a:latin typeface="Arial"/>
              </a:rPr>
              <a:t>Remember to share guidelines with your students:</a:t>
            </a:r>
            <a:endParaRPr b="0" lang="en-US" sz="2800" spc="-1" strike="noStrike">
              <a:solidFill>
                <a:srgbClr val="000000"/>
              </a:solidFill>
              <a:latin typeface="Arial"/>
            </a:endParaRPr>
          </a:p>
        </p:txBody>
      </p:sp>
      <p:pic>
        <p:nvPicPr>
          <p:cNvPr id="224" name="" descr=""/>
          <p:cNvPicPr/>
          <p:nvPr/>
        </p:nvPicPr>
        <p:blipFill>
          <a:blip r:embed="rId2"/>
          <a:stretch/>
        </p:blipFill>
        <p:spPr>
          <a:xfrm>
            <a:off x="2701800" y="228600"/>
            <a:ext cx="3733920" cy="1006560"/>
          </a:xfrm>
          <a:prstGeom prst="rect">
            <a:avLst/>
          </a:prstGeom>
          <a:ln w="0">
            <a:noFill/>
          </a:ln>
        </p:spPr>
      </p:pic>
      <p:sp>
        <p:nvSpPr>
          <p:cNvPr id="225" name="">
            <a:hlinkClick r:id="rId3" action="ppaction://hlinksldjump"/>
          </p:cNvPr>
          <p:cNvSpPr/>
          <p:nvPr/>
        </p:nvSpPr>
        <p:spPr>
          <a:xfrm>
            <a:off x="6858000" y="5791320"/>
            <a:ext cx="1515960" cy="459720"/>
          </a:xfrm>
          <a:prstGeom prst="rect">
            <a:avLst/>
          </a:prstGeom>
          <a:solidFill>
            <a:srgbClr val="000080"/>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rea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rot="5080200">
            <a:off x="1992960" y="1307160"/>
            <a:ext cx="5360760" cy="4216320"/>
          </a:xfrm>
          <a:custGeom>
            <a:avLst/>
            <a:gdLst/>
            <a:ahLst/>
            <a:rect l="l" t="t" r="r" b="b"/>
            <a:pathLst>
              <a:path w="3377" h="2656">
                <a:moveTo>
                  <a:pt x="0" y="243"/>
                </a:moveTo>
                <a:cubicBezTo>
                  <a:pt x="51" y="215"/>
                  <a:pt x="222" y="94"/>
                  <a:pt x="305" y="64"/>
                </a:cubicBezTo>
                <a:cubicBezTo>
                  <a:pt x="388" y="34"/>
                  <a:pt x="449" y="48"/>
                  <a:pt x="497" y="64"/>
                </a:cubicBezTo>
                <a:cubicBezTo>
                  <a:pt x="545" y="80"/>
                  <a:pt x="529" y="88"/>
                  <a:pt x="593" y="160"/>
                </a:cubicBezTo>
                <a:cubicBezTo>
                  <a:pt x="657" y="232"/>
                  <a:pt x="753" y="456"/>
                  <a:pt x="881" y="496"/>
                </a:cubicBezTo>
                <a:cubicBezTo>
                  <a:pt x="1009" y="536"/>
                  <a:pt x="1233" y="464"/>
                  <a:pt x="1361" y="400"/>
                </a:cubicBezTo>
                <a:cubicBezTo>
                  <a:pt x="1489" y="336"/>
                  <a:pt x="1545" y="176"/>
                  <a:pt x="1649" y="112"/>
                </a:cubicBezTo>
                <a:cubicBezTo>
                  <a:pt x="1753" y="48"/>
                  <a:pt x="1873" y="0"/>
                  <a:pt x="1985" y="16"/>
                </a:cubicBezTo>
                <a:cubicBezTo>
                  <a:pt x="2097" y="32"/>
                  <a:pt x="2241" y="120"/>
                  <a:pt x="2321" y="208"/>
                </a:cubicBezTo>
                <a:cubicBezTo>
                  <a:pt x="2401" y="296"/>
                  <a:pt x="2481" y="400"/>
                  <a:pt x="2465" y="544"/>
                </a:cubicBezTo>
                <a:cubicBezTo>
                  <a:pt x="2449" y="688"/>
                  <a:pt x="2193" y="904"/>
                  <a:pt x="2225" y="1072"/>
                </a:cubicBezTo>
                <a:cubicBezTo>
                  <a:pt x="2257" y="1240"/>
                  <a:pt x="2553" y="1432"/>
                  <a:pt x="2657" y="1552"/>
                </a:cubicBezTo>
                <a:cubicBezTo>
                  <a:pt x="2761" y="1672"/>
                  <a:pt x="2825" y="1688"/>
                  <a:pt x="2849" y="1792"/>
                </a:cubicBezTo>
                <a:cubicBezTo>
                  <a:pt x="2873" y="1896"/>
                  <a:pt x="2713" y="2032"/>
                  <a:pt x="2801" y="2176"/>
                </a:cubicBezTo>
                <a:cubicBezTo>
                  <a:pt x="2889" y="2320"/>
                  <a:pt x="3281" y="2576"/>
                  <a:pt x="3377" y="2656"/>
                </a:cubicBezTo>
              </a:path>
            </a:pathLst>
          </a:custGeom>
          <a:noFill/>
          <a:ln w="255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227" name="" descr=""/>
          <p:cNvPicPr/>
          <p:nvPr/>
        </p:nvPicPr>
        <p:blipFill>
          <a:blip r:embed="rId1"/>
          <a:srcRect l="25000" t="6251" r="0" b="0"/>
          <a:stretch/>
        </p:blipFill>
        <p:spPr>
          <a:xfrm>
            <a:off x="7086600" y="228600"/>
            <a:ext cx="1828800" cy="2286000"/>
          </a:xfrm>
          <a:prstGeom prst="rect">
            <a:avLst/>
          </a:prstGeom>
          <a:ln w="0">
            <a:noFill/>
          </a:ln>
        </p:spPr>
      </p:pic>
      <p:sp>
        <p:nvSpPr>
          <p:cNvPr id="228" name=""/>
          <p:cNvSpPr/>
          <p:nvPr/>
        </p:nvSpPr>
        <p:spPr>
          <a:xfrm>
            <a:off x="762120" y="2786040"/>
            <a:ext cx="7696080" cy="2653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f you suspect that you are being stalked or the victim of inappropria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mmunication, report it to a truste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dult or to the CyberTipline.</a:t>
            </a:r>
            <a:endParaRPr b="0" lang="en-US" sz="2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http://cybertipline.com</a:t>
            </a:r>
            <a:endParaRPr b="0" lang="en-US" sz="2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1-800-843-5678</a:t>
            </a:r>
            <a:endParaRPr b="0" lang="en-US" sz="2800" spc="-1" strike="noStrike">
              <a:solidFill>
                <a:srgbClr val="000000"/>
              </a:solidFill>
              <a:latin typeface="Arial"/>
            </a:endParaRPr>
          </a:p>
        </p:txBody>
      </p:sp>
      <p:sp>
        <p:nvSpPr>
          <p:cNvPr id="229" name=""/>
          <p:cNvSpPr/>
          <p:nvPr/>
        </p:nvSpPr>
        <p:spPr>
          <a:xfrm>
            <a:off x="762120" y="1371600"/>
            <a:ext cx="65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omic Sans MS"/>
              </a:rPr>
              <a:t>To</a:t>
            </a:r>
            <a:r>
              <a:rPr b="0" lang="en-US" sz="3600" spc="-1" strike="noStrike">
                <a:solidFill>
                  <a:srgbClr val="000000"/>
                </a:solidFill>
                <a:latin typeface="Comic Sans MS"/>
              </a:rPr>
              <a:t>-</a:t>
            </a:r>
            <a:r>
              <a:rPr b="0" i="1" lang="en-US" sz="3600" spc="-1" strike="noStrike">
                <a:solidFill>
                  <a:srgbClr val="000000"/>
                </a:solidFill>
                <a:latin typeface="Comic Sans MS"/>
              </a:rPr>
              <a:t>Dos </a:t>
            </a:r>
            <a:r>
              <a:rPr b="0" lang="en-US" sz="2400" spc="-1" strike="noStrike">
                <a:solidFill>
                  <a:srgbClr val="000000"/>
                </a:solidFill>
                <a:latin typeface="Arial"/>
              </a:rPr>
              <a:t>(cont’d)</a:t>
            </a:r>
            <a:r>
              <a:rPr b="0" i="1" lang="en-US" sz="2400" spc="-1" strike="noStrike">
                <a:solidFill>
                  <a:srgbClr val="000000"/>
                </a:solidFill>
                <a:latin typeface="Comic Sans MS"/>
              </a:rPr>
              <a:t>:</a:t>
            </a:r>
            <a:endParaRPr b="0" lang="en-US" sz="2400" spc="-1" strike="noStrike">
              <a:solidFill>
                <a:srgbClr val="000000"/>
              </a:solidFill>
              <a:latin typeface="Arial"/>
            </a:endParaRPr>
          </a:p>
        </p:txBody>
      </p:sp>
      <p:pic>
        <p:nvPicPr>
          <p:cNvPr id="230" name="" descr=""/>
          <p:cNvPicPr/>
          <p:nvPr/>
        </p:nvPicPr>
        <p:blipFill>
          <a:blip r:embed="rId2"/>
          <a:stretch/>
        </p:blipFill>
        <p:spPr>
          <a:xfrm>
            <a:off x="2701800" y="228600"/>
            <a:ext cx="3733920" cy="1006560"/>
          </a:xfrm>
          <a:prstGeom prst="rect">
            <a:avLst/>
          </a:prstGeom>
          <a:ln w="0">
            <a:noFill/>
          </a:ln>
        </p:spPr>
      </p:pic>
      <p:sp>
        <p:nvSpPr>
          <p:cNvPr id="231" name="">
            <a:hlinkClick r:id="rId3" action="ppaction://hlinksldjump"/>
          </p:cNvPr>
          <p:cNvSpPr/>
          <p:nvPr/>
        </p:nvSpPr>
        <p:spPr>
          <a:xfrm>
            <a:off x="6858000" y="5791320"/>
            <a:ext cx="1515960" cy="459720"/>
          </a:xfrm>
          <a:prstGeom prst="rect">
            <a:avLst/>
          </a:prstGeom>
          <a:solidFill>
            <a:srgbClr val="000080"/>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rea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143000" y="2282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80"/>
                </a:solidFill>
                <a:latin typeface="Arial"/>
              </a:rPr>
              <a:t>When Children                       We Hope They Learn. . .</a:t>
            </a:r>
            <a:endParaRPr b="0" lang="en-US" sz="3600" spc="-1" strike="noStrike">
              <a:solidFill>
                <a:srgbClr val="000080"/>
              </a:solidFill>
              <a:latin typeface="Arial"/>
            </a:endParaRPr>
          </a:p>
        </p:txBody>
      </p:sp>
      <p:sp>
        <p:nvSpPr>
          <p:cNvPr id="233" name="PlaceHolder 2"/>
          <p:cNvSpPr>
            <a:spLocks noGrp="1"/>
          </p:cNvSpPr>
          <p:nvPr>
            <p:ph type="subTitle"/>
          </p:nvPr>
        </p:nvSpPr>
        <p:spPr>
          <a:xfrm>
            <a:off x="669600" y="1523880"/>
            <a:ext cx="8077320" cy="533520"/>
          </a:xfrm>
          <a:prstGeom prst="rect">
            <a:avLst/>
          </a:prstGeom>
          <a:noFill/>
          <a:ln w="0">
            <a:noFill/>
          </a:ln>
        </p:spPr>
        <p:txBody>
          <a:bodyPr lIns="90000" rIns="90000" tIns="46800" bIns="46800" anchor="t">
            <a:noAutofit/>
          </a:bodyPr>
          <a:p>
            <a:pPr>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on’t talk to strangers</a:t>
            </a:r>
            <a:endParaRPr b="0" lang="en-US" sz="3200" spc="-1" strike="noStrike">
              <a:solidFill>
                <a:srgbClr val="000000"/>
              </a:solidFill>
              <a:latin typeface="Arial"/>
            </a:endParaRPr>
          </a:p>
        </p:txBody>
      </p:sp>
      <p:sp>
        <p:nvSpPr>
          <p:cNvPr id="234" name=""/>
          <p:cNvSpPr/>
          <p:nvPr/>
        </p:nvSpPr>
        <p:spPr>
          <a:xfrm>
            <a:off x="4345560" y="27000"/>
            <a:ext cx="2797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80"/>
                </a:solidFill>
                <a:latin typeface="Arial"/>
              </a:rPr>
              <a:t>Start School,</a:t>
            </a:r>
            <a:endParaRPr b="0" lang="en-US" sz="3600" spc="-1" strike="noStrike">
              <a:solidFill>
                <a:srgbClr val="000000"/>
              </a:solidFill>
              <a:latin typeface="Arial"/>
            </a:endParaRPr>
          </a:p>
        </p:txBody>
      </p:sp>
      <p:sp>
        <p:nvSpPr>
          <p:cNvPr id="235" name=""/>
          <p:cNvSpPr/>
          <p:nvPr/>
        </p:nvSpPr>
        <p:spPr>
          <a:xfrm>
            <a:off x="4423320" y="17640"/>
            <a:ext cx="2487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80"/>
                </a:solidFill>
                <a:latin typeface="Arial"/>
              </a:rPr>
              <a:t>Go Online,</a:t>
            </a:r>
            <a:endParaRPr b="0" lang="en-US" sz="3600" spc="-1" strike="noStrike">
              <a:solidFill>
                <a:srgbClr val="000000"/>
              </a:solidFill>
              <a:latin typeface="Arial"/>
            </a:endParaRPr>
          </a:p>
        </p:txBody>
      </p:sp>
      <p:sp>
        <p:nvSpPr>
          <p:cNvPr id="236" name=""/>
          <p:cNvSpPr/>
          <p:nvPr/>
        </p:nvSpPr>
        <p:spPr>
          <a:xfrm>
            <a:off x="5029200" y="1523880"/>
            <a:ext cx="3581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n cyberspace</a:t>
            </a:r>
            <a:endParaRPr b="0" lang="en-US" sz="3200" spc="-1" strike="noStrike">
              <a:solidFill>
                <a:srgbClr val="000000"/>
              </a:solidFill>
              <a:latin typeface="Arial"/>
            </a:endParaRPr>
          </a:p>
        </p:txBody>
      </p:sp>
      <p:sp>
        <p:nvSpPr>
          <p:cNvPr id="237" name=""/>
          <p:cNvSpPr/>
          <p:nvPr/>
        </p:nvSpPr>
        <p:spPr>
          <a:xfrm>
            <a:off x="685800" y="2544840"/>
            <a:ext cx="7924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ook both ways before</a:t>
            </a:r>
            <a:endParaRPr b="0" lang="en-US" sz="3200" spc="-1" strike="noStrike">
              <a:solidFill>
                <a:srgbClr val="000000"/>
              </a:solidFill>
              <a:latin typeface="Arial"/>
            </a:endParaRPr>
          </a:p>
        </p:txBody>
      </p:sp>
      <p:sp>
        <p:nvSpPr>
          <p:cNvPr id="238" name=""/>
          <p:cNvSpPr/>
          <p:nvPr/>
        </p:nvSpPr>
        <p:spPr>
          <a:xfrm>
            <a:off x="2422440" y="5686560"/>
            <a:ext cx="71787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sp>
        <p:nvSpPr>
          <p:cNvPr id="239" name=""/>
          <p:cNvSpPr/>
          <p:nvPr/>
        </p:nvSpPr>
        <p:spPr>
          <a:xfrm>
            <a:off x="612720" y="3600360"/>
            <a:ext cx="74674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333399"/>
                </a:solidFill>
                <a:latin typeface="Arial"/>
              </a:rPr>
              <a:t>,</a:t>
            </a:r>
            <a:r>
              <a:rPr b="0" lang="en-US" sz="3200" spc="-1" strike="noStrike">
                <a:solidFill>
                  <a:srgbClr val="000000"/>
                </a:solidFill>
                <a:latin typeface="Arial"/>
              </a:rPr>
              <a:t> </a:t>
            </a:r>
            <a:r>
              <a:rPr b="0" lang="en-US" sz="3200" spc="-1" strike="noStrike">
                <a:solidFill>
                  <a:srgbClr val="333399"/>
                </a:solidFill>
                <a:latin typeface="Arial"/>
              </a:rPr>
              <a:t>no</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ヒラギノ角ゴ Pro W3"/>
              </a:rPr>
              <a:t>_x0008_ </a:t>
            </a:r>
            <a:r>
              <a:rPr b="0" lang="en-US" sz="3200" spc="-1" strike="noStrike">
                <a:solidFill>
                  <a:srgbClr val="333399"/>
                </a:solidFill>
                <a:latin typeface="Arial"/>
              </a:rPr>
              <a:t>cyberbullies allowed</a:t>
            </a:r>
            <a:endParaRPr b="0" lang="en-US" sz="3200" spc="-1" strike="noStrike">
              <a:solidFill>
                <a:srgbClr val="000000"/>
              </a:solidFill>
              <a:latin typeface="Arial"/>
            </a:endParaRPr>
          </a:p>
        </p:txBody>
      </p:sp>
      <p:sp>
        <p:nvSpPr>
          <p:cNvPr id="240" name=""/>
          <p:cNvSpPr/>
          <p:nvPr/>
        </p:nvSpPr>
        <p:spPr>
          <a:xfrm>
            <a:off x="673560" y="3611520"/>
            <a:ext cx="5785560" cy="5814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lay nicely with other children</a:t>
            </a:r>
            <a:endParaRPr b="0" lang="en-US" sz="3200" spc="-1" strike="noStrike">
              <a:solidFill>
                <a:srgbClr val="000000"/>
              </a:solidFill>
              <a:latin typeface="Arial"/>
            </a:endParaRPr>
          </a:p>
        </p:txBody>
      </p:sp>
      <p:sp>
        <p:nvSpPr>
          <p:cNvPr id="241" name=""/>
          <p:cNvSpPr/>
          <p:nvPr/>
        </p:nvSpPr>
        <p:spPr>
          <a:xfrm>
            <a:off x="669960" y="4648320"/>
            <a:ext cx="8093160" cy="1068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f something happens that scares you,</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eek help from an adult you trust</a:t>
            </a:r>
            <a:endParaRPr b="0" lang="en-US" sz="3200" spc="-1" strike="noStrike">
              <a:solidFill>
                <a:srgbClr val="000000"/>
              </a:solidFill>
              <a:latin typeface="Arial"/>
            </a:endParaRPr>
          </a:p>
        </p:txBody>
      </p:sp>
      <p:sp>
        <p:nvSpPr>
          <p:cNvPr id="242" name=""/>
          <p:cNvSpPr/>
          <p:nvPr/>
        </p:nvSpPr>
        <p:spPr>
          <a:xfrm>
            <a:off x="5138640" y="2544840"/>
            <a:ext cx="1676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ing</a:t>
            </a:r>
            <a:endParaRPr b="0" lang="en-US" sz="3200" spc="-1" strike="noStrike">
              <a:solidFill>
                <a:srgbClr val="000000"/>
              </a:solidFill>
              <a:latin typeface="Arial"/>
            </a:endParaRPr>
          </a:p>
        </p:txBody>
      </p:sp>
      <p:sp>
        <p:nvSpPr>
          <p:cNvPr id="243" name=""/>
          <p:cNvSpPr/>
          <p:nvPr/>
        </p:nvSpPr>
        <p:spPr>
          <a:xfrm>
            <a:off x="5121360" y="2544840"/>
            <a:ext cx="3501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ossing the street</a:t>
            </a:r>
            <a:endParaRPr b="0" lang="en-US" sz="3200" spc="-1" strike="noStrike">
              <a:solidFill>
                <a:srgbClr val="000000"/>
              </a:solidFill>
              <a:latin typeface="Arial"/>
            </a:endParaRPr>
          </a:p>
        </p:txBody>
      </p:sp>
      <p:sp>
        <p:nvSpPr>
          <p:cNvPr id="244" name=""/>
          <p:cNvSpPr/>
          <p:nvPr/>
        </p:nvSpPr>
        <p:spPr>
          <a:xfrm>
            <a:off x="6843600" y="5140440"/>
            <a:ext cx="609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entr" presetID="1">
                                  <p:stCondLst>
                                    <p:cond delay="0"/>
                                  </p:stCondLst>
                                  <p:childTnLst>
                                    <p:set>
                                      <p:cBhvr>
                                        <p:cTn id="56" dur="1" fill="hold">
                                          <p:stCondLst>
                                            <p:cond delay="0"/>
                                          </p:stCondLst>
                                        </p:cTn>
                                        <p:tgtEl>
                                          <p:spTgt spid="233">
                                            <p:txEl>
                                              <p:pRg st="0" end="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37"/>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243"/>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40"/>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41"/>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xit" presetID="1">
                                  <p:stCondLst>
                                    <p:cond delay="0"/>
                                  </p:stCondLst>
                                  <p:childTnLst>
                                    <p:set>
                                      <p:cBhvr>
                                        <p:cTn id="68" dur="1" fill="hold">
                                          <p:stCondLst>
                                            <p:cond delay="0"/>
                                          </p:stCondLst>
                                        </p:cTn>
                                        <p:tgtEl>
                                          <p:spTgt spid="234"/>
                                        </p:tgtEl>
                                        <p:attrNameLst>
                                          <p:attrName>style.visibility</p:attrName>
                                        </p:attrNameLst>
                                      </p:cBhvr>
                                      <p:to>
                                        <p:strVal val="hidden"/>
                                      </p:to>
                                    </p:set>
                                  </p:childTnLst>
                                </p:cTn>
                              </p:par>
                            </p:childTnLst>
                          </p:cTn>
                        </p:par>
                        <p:par>
                          <p:cTn id="69" fill="hold">
                            <p:stCondLst>
                              <p:cond delay="0"/>
                            </p:stCondLst>
                            <p:childTnLst>
                              <p:par>
                                <p:cTn id="70" nodeType="afterEffect" fill="hold" presetClass="entr" presetID="2" presetSubtype="2">
                                  <p:stCondLst>
                                    <p:cond delay="0"/>
                                  </p:stCondLst>
                                  <p:childTnLst>
                                    <p:set>
                                      <p:cBhvr>
                                        <p:cTn id="71" dur="1" fill="hold">
                                          <p:stCondLst>
                                            <p:cond delay="0"/>
                                          </p:stCondLst>
                                        </p:cTn>
                                        <p:tgtEl>
                                          <p:spTgt spid="235"/>
                                        </p:tgtEl>
                                        <p:attrNameLst>
                                          <p:attrName>style.visibility</p:attrName>
                                        </p:attrNameLst>
                                      </p:cBhvr>
                                      <p:to>
                                        <p:strVal val="visible"/>
                                      </p:to>
                                    </p:set>
                                    <p:anim calcmode="lin" valueType="num">
                                      <p:cBhvr additive="base">
                                        <p:cTn id="72" dur="1000" fill="hold"/>
                                        <p:tgtEl>
                                          <p:spTgt spid="235"/>
                                        </p:tgtEl>
                                        <p:attrNameLst>
                                          <p:attrName>ppt_x</p:attrName>
                                        </p:attrNameLst>
                                      </p:cBhvr>
                                      <p:tavLst>
                                        <p:tav tm="0">
                                          <p:val>
                                            <p:strVal val="1+#ppt_w/2"/>
                                          </p:val>
                                        </p:tav>
                                        <p:tav tm="100000">
                                          <p:val>
                                            <p:strVal val="#ppt_x"/>
                                          </p:val>
                                        </p:tav>
                                      </p:tavLst>
                                    </p:anim>
                                    <p:anim calcmode="lin" valueType="num">
                                      <p:cBhvr additive="base">
                                        <p:cTn id="73" dur="1000" fill="hold"/>
                                        <p:tgtEl>
                                          <p:spTgt spid="235"/>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236"/>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xit" presetID="2" presetSubtype="2">
                                  <p:stCondLst>
                                    <p:cond delay="0"/>
                                  </p:stCondLst>
                                  <p:childTnLst>
                                    <p:anim calcmode="lin" valueType="num">
                                      <p:cBhvr additive="base">
                                        <p:cTn id="81" dur="500"/>
                                        <p:tgtEl>
                                          <p:spTgt spid="243"/>
                                        </p:tgtEl>
                                        <p:attrNameLst>
                                          <p:attrName>ppt_x</p:attrName>
                                        </p:attrNameLst>
                                      </p:cBhvr>
                                      <p:tavLst>
                                        <p:tav tm="0">
                                          <p:val>
                                            <p:strVal val="#ppt_x"/>
                                          </p:val>
                                        </p:tav>
                                        <p:tav tm="100000">
                                          <p:val>
                                            <p:strVal val="1+#ppt_w/2"/>
                                          </p:val>
                                        </p:tav>
                                      </p:tavLst>
                                    </p:anim>
                                    <p:anim calcmode="lin" valueType="num">
                                      <p:cBhvr additive="base">
                                        <p:cTn id="82" dur="500"/>
                                        <p:tgtEl>
                                          <p:spTgt spid="243"/>
                                        </p:tgtEl>
                                        <p:attrNameLst>
                                          <p:attrName>ppt_y</p:attrName>
                                        </p:attrNameLst>
                                      </p:cBhvr>
                                      <p:tavLst>
                                        <p:tav tm="0">
                                          <p:val>
                                            <p:strVal val="#ppt_y"/>
                                          </p:val>
                                        </p:tav>
                                        <p:tav tm="100000">
                                          <p:val>
                                            <p:strVal val="#ppt_y"/>
                                          </p:val>
                                        </p:tav>
                                      </p:tavLst>
                                    </p:anim>
                                    <p:set>
                                      <p:cBhvr>
                                        <p:cTn id="83" dur="1" fill="hold">
                                          <p:stCondLst>
                                            <p:cond delay="499"/>
                                          </p:stCondLst>
                                        </p:cTn>
                                        <p:tgtEl>
                                          <p:spTgt spid="243"/>
                                        </p:tgtEl>
                                        <p:attrNameLst>
                                          <p:attrName>style.visibility</p:attrName>
                                        </p:attrNameLst>
                                      </p:cBhvr>
                                      <p:to>
                                        <p:strVal val="hidden"/>
                                      </p:to>
                                    </p:set>
                                  </p:childTnLst>
                                </p:cTn>
                              </p:par>
                            </p:childTnLst>
                          </p:cTn>
                        </p:par>
                        <p:par>
                          <p:cTn id="84" fill="hold">
                            <p:stCondLst>
                              <p:cond delay="500"/>
                            </p:stCondLst>
                            <p:childTnLst>
                              <p:par>
                                <p:cTn id="85" nodeType="afterEffect" fill="hold" presetClass="entr" presetID="2" presetSubtype="2">
                                  <p:stCondLst>
                                    <p:cond delay="0"/>
                                  </p:stCondLst>
                                  <p:childTnLst>
                                    <p:set>
                                      <p:cBhvr>
                                        <p:cTn id="86" dur="1" fill="hold">
                                          <p:stCondLst>
                                            <p:cond delay="0"/>
                                          </p:stCondLst>
                                        </p:cTn>
                                        <p:tgtEl>
                                          <p:spTgt spid="242"/>
                                        </p:tgtEl>
                                        <p:attrNameLst>
                                          <p:attrName>style.visibility</p:attrName>
                                        </p:attrNameLst>
                                      </p:cBhvr>
                                      <p:to>
                                        <p:strVal val="visible"/>
                                      </p:to>
                                    </p:set>
                                    <p:anim calcmode="lin" valueType="num">
                                      <p:cBhvr additive="base">
                                        <p:cTn id="87" dur="500" fill="hold"/>
                                        <p:tgtEl>
                                          <p:spTgt spid="242"/>
                                        </p:tgtEl>
                                        <p:attrNameLst>
                                          <p:attrName>ppt_x</p:attrName>
                                        </p:attrNameLst>
                                      </p:cBhvr>
                                      <p:tavLst>
                                        <p:tav tm="0">
                                          <p:val>
                                            <p:strVal val="1+#ppt_w/2"/>
                                          </p:val>
                                        </p:tav>
                                        <p:tav tm="100000">
                                          <p:val>
                                            <p:strVal val="#ppt_x"/>
                                          </p:val>
                                        </p:tav>
                                      </p:tavLst>
                                    </p:anim>
                                    <p:anim calcmode="lin" valueType="num">
                                      <p:cBhvr additive="base">
                                        <p:cTn id="88" dur="500" fill="hold"/>
                                        <p:tgtEl>
                                          <p:spTgt spid="242"/>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4">
                                  <p:stCondLst>
                                    <p:cond delay="0"/>
                                  </p:stCondLst>
                                  <p:childTnLst>
                                    <p:set>
                                      <p:cBhvr>
                                        <p:cTn id="92" dur="1" fill="hold">
                                          <p:stCondLst>
                                            <p:cond delay="0"/>
                                          </p:stCondLst>
                                        </p:cTn>
                                        <p:tgtEl>
                                          <p:spTgt spid="239"/>
                                        </p:tgtEl>
                                        <p:attrNameLst>
                                          <p:attrName>style.visibility</p:attrName>
                                        </p:attrNameLst>
                                      </p:cBhvr>
                                      <p:to>
                                        <p:strVal val="visible"/>
                                      </p:to>
                                    </p:set>
                                    <p:animEffect filter="wipe(down)" transition="in">
                                      <p:cBhvr additive="repl">
                                        <p:cTn id="93" dur="500"/>
                                        <p:tgtEl>
                                          <p:spTgt spid="239"/>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244"/>
                                        </p:tgtEl>
                                        <p:attrNameLst>
                                          <p:attrName>style.visibility</p:attrName>
                                        </p:attrNameLst>
                                      </p:cBhvr>
                                      <p:to>
                                        <p:strVal val="visible"/>
                                      </p:to>
                                    </p:set>
                                    <p:anim calcmode="lin" valueType="num">
                                      <p:cBhvr additive="base">
                                        <p:cTn id="98" dur="500" fill="hold"/>
                                        <p:tgtEl>
                                          <p:spTgt spid="244"/>
                                        </p:tgtEl>
                                        <p:attrNameLst>
                                          <p:attrName>ppt_x</p:attrName>
                                        </p:attrNameLst>
                                      </p:cBhvr>
                                      <p:tavLst>
                                        <p:tav tm="0">
                                          <p:val>
                                            <p:strVal val="#ppt_x"/>
                                          </p:val>
                                        </p:tav>
                                        <p:tav tm="100000">
                                          <p:val>
                                            <p:strVal val="#ppt_x"/>
                                          </p:val>
                                        </p:tav>
                                      </p:tavLst>
                                    </p:anim>
                                    <p:anim calcmode="lin" valueType="num">
                                      <p:cBhvr additive="base">
                                        <p:cTn id="99" dur="5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rot="5874000">
            <a:off x="2108160" y="177480"/>
            <a:ext cx="5181840" cy="4216320"/>
          </a:xfrm>
          <a:custGeom>
            <a:avLst/>
            <a:gdLst/>
            <a:ahLst/>
            <a:rect l="l" t="t" r="r" b="b"/>
            <a:pathLst>
              <a:path w="3264" h="2656">
                <a:moveTo>
                  <a:pt x="0" y="208"/>
                </a:moveTo>
                <a:cubicBezTo>
                  <a:pt x="64" y="148"/>
                  <a:pt x="128" y="88"/>
                  <a:pt x="192" y="64"/>
                </a:cubicBezTo>
                <a:cubicBezTo>
                  <a:pt x="256" y="40"/>
                  <a:pt x="336" y="48"/>
                  <a:pt x="384" y="64"/>
                </a:cubicBezTo>
                <a:cubicBezTo>
                  <a:pt x="432" y="80"/>
                  <a:pt x="416" y="88"/>
                  <a:pt x="480" y="160"/>
                </a:cubicBezTo>
                <a:cubicBezTo>
                  <a:pt x="544" y="232"/>
                  <a:pt x="640" y="456"/>
                  <a:pt x="768" y="496"/>
                </a:cubicBezTo>
                <a:cubicBezTo>
                  <a:pt x="896" y="536"/>
                  <a:pt x="1120" y="464"/>
                  <a:pt x="1248" y="400"/>
                </a:cubicBezTo>
                <a:cubicBezTo>
                  <a:pt x="1376" y="336"/>
                  <a:pt x="1432" y="176"/>
                  <a:pt x="1536" y="112"/>
                </a:cubicBezTo>
                <a:cubicBezTo>
                  <a:pt x="1640" y="48"/>
                  <a:pt x="1760" y="0"/>
                  <a:pt x="1872" y="16"/>
                </a:cubicBezTo>
                <a:cubicBezTo>
                  <a:pt x="1984" y="32"/>
                  <a:pt x="2128" y="120"/>
                  <a:pt x="2208" y="208"/>
                </a:cubicBezTo>
                <a:cubicBezTo>
                  <a:pt x="2288" y="296"/>
                  <a:pt x="2368" y="400"/>
                  <a:pt x="2352" y="544"/>
                </a:cubicBezTo>
                <a:cubicBezTo>
                  <a:pt x="2336" y="688"/>
                  <a:pt x="2080" y="904"/>
                  <a:pt x="2112" y="1072"/>
                </a:cubicBezTo>
                <a:cubicBezTo>
                  <a:pt x="2144" y="1240"/>
                  <a:pt x="2440" y="1432"/>
                  <a:pt x="2544" y="1552"/>
                </a:cubicBezTo>
                <a:cubicBezTo>
                  <a:pt x="2648" y="1672"/>
                  <a:pt x="2712" y="1688"/>
                  <a:pt x="2736" y="1792"/>
                </a:cubicBezTo>
                <a:cubicBezTo>
                  <a:pt x="2760" y="1896"/>
                  <a:pt x="2600" y="2032"/>
                  <a:pt x="2688" y="2176"/>
                </a:cubicBezTo>
                <a:cubicBezTo>
                  <a:pt x="2776" y="2320"/>
                  <a:pt x="3168" y="2576"/>
                  <a:pt x="3264" y="2656"/>
                </a:cubicBezTo>
              </a:path>
            </a:pathLst>
          </a:custGeom>
          <a:noFill/>
          <a:ln w="25560">
            <a:solidFill>
              <a:srgbClr val="000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6" name="PlaceHolder 1"/>
          <p:cNvSpPr>
            <a:spLocks noGrp="1"/>
          </p:cNvSpPr>
          <p:nvPr>
            <p:ph type="title"/>
          </p:nvPr>
        </p:nvSpPr>
        <p:spPr>
          <a:xfrm>
            <a:off x="114300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80"/>
                </a:solidFill>
                <a:latin typeface="Arial"/>
              </a:rPr>
              <a:t>More Information</a:t>
            </a:r>
            <a:endParaRPr b="0" lang="en-US" sz="3600" spc="-1" strike="noStrike">
              <a:solidFill>
                <a:srgbClr val="000080"/>
              </a:solidFill>
              <a:latin typeface="Arial"/>
            </a:endParaRPr>
          </a:p>
        </p:txBody>
      </p:sp>
      <p:sp>
        <p:nvSpPr>
          <p:cNvPr id="247" name="PlaceHolder 2"/>
          <p:cNvSpPr>
            <a:spLocks noGrp="1"/>
          </p:cNvSpPr>
          <p:nvPr>
            <p:ph type="subTitle"/>
          </p:nvPr>
        </p:nvSpPr>
        <p:spPr>
          <a:xfrm>
            <a:off x="609480" y="1523520"/>
            <a:ext cx="7925040" cy="48006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llow the Thread to:</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w.ctap4.org/cybersafety/</a:t>
            </a:r>
            <a:endParaRPr b="0" lang="en-US" sz="32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ind carefully selected resources for educators,</a:t>
            </a:r>
            <a:br>
              <a:rPr sz="2800"/>
            </a:br>
            <a:r>
              <a:rPr b="0" lang="en-US" sz="2800" spc="-1" strike="noStrike">
                <a:solidFill>
                  <a:srgbClr val="000000"/>
                </a:solidFill>
                <a:latin typeface="Arial"/>
              </a:rPr>
              <a:t>  students and parents.</a:t>
            </a:r>
            <a:endParaRPr b="0" lang="en-US" sz="28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ownload our free Cyber Safety poster</a:t>
            </a:r>
            <a:br>
              <a:rPr sz="2800"/>
            </a:br>
            <a:r>
              <a:rPr b="0" lang="en-US" sz="2800" spc="-1" strike="noStrike">
                <a:solidFill>
                  <a:srgbClr val="000000"/>
                </a:solidFill>
                <a:latin typeface="Arial"/>
              </a:rPr>
              <a:t>  sponsored by AT&amp;T .</a:t>
            </a:r>
            <a:endParaRPr b="0" lang="en-US" sz="28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ownload this presentation to share or modif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18960" y="228240"/>
            <a:ext cx="7848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80"/>
                </a:solidFill>
                <a:latin typeface="Arial"/>
              </a:rPr>
              <a:t>How Are Students Using the Internet?</a:t>
            </a:r>
            <a:endParaRPr b="0" lang="en-US" sz="3600" spc="-1" strike="noStrike">
              <a:solidFill>
                <a:srgbClr val="000080"/>
              </a:solidFill>
              <a:latin typeface="Arial"/>
            </a:endParaRPr>
          </a:p>
        </p:txBody>
      </p:sp>
      <p:sp>
        <p:nvSpPr>
          <p:cNvPr id="65" name=""/>
          <p:cNvSpPr/>
          <p:nvPr/>
        </p:nvSpPr>
        <p:spPr>
          <a:xfrm>
            <a:off x="457200" y="1295280"/>
            <a:ext cx="5389560" cy="4591080"/>
          </a:xfrm>
          <a:prstGeom prst="rect">
            <a:avLst/>
          </a:prstGeom>
          <a:noFill/>
          <a:ln w="0">
            <a:noFill/>
          </a:ln>
        </p:spPr>
        <p:style>
          <a:lnRef idx="0"/>
          <a:fillRef idx="0"/>
          <a:effectRef idx="0"/>
          <a:fontRef idx="minor"/>
        </p:style>
        <p:txBody>
          <a:bodyPr lIns="0" rIns="0" tIns="0" bIns="0" anchor="t">
            <a:normAutofit fontScale="97000"/>
          </a:bodyPr>
          <a:p>
            <a:pPr>
              <a:lnSpc>
                <a:spcPct val="80000"/>
              </a:lnSpc>
              <a:spcBef>
                <a:spcPts val="601"/>
              </a:spcBef>
              <a:buClr>
                <a:srgbClr val="000000"/>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400" spc="-1" strike="noStrike">
                <a:solidFill>
                  <a:srgbClr val="000000"/>
                </a:solidFill>
                <a:latin typeface="Arial"/>
              </a:rPr>
              <a:t>www.myspace.com</a:t>
            </a: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400" spc="-1" strike="noStrike">
                <a:solidFill>
                  <a:srgbClr val="000000"/>
                </a:solidFill>
                <a:latin typeface="Arial"/>
              </a:rPr>
              <a:t>www.xanga.com</a:t>
            </a: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400" spc="-1" strike="noStrike">
                <a:solidFill>
                  <a:srgbClr val="000000"/>
                </a:solidFill>
                <a:latin typeface="Arial"/>
              </a:rPr>
              <a:t>www.google.com</a:t>
            </a: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400" spc="-1" strike="noStrike">
                <a:solidFill>
                  <a:srgbClr val="000000"/>
                </a:solidFill>
                <a:latin typeface="Arial"/>
              </a:rPr>
              <a:t>www.ebaumsworld.com</a:t>
            </a: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400" spc="-1" strike="noStrike">
                <a:solidFill>
                  <a:srgbClr val="000000"/>
                </a:solidFill>
                <a:latin typeface="Arial"/>
              </a:rPr>
              <a:t>www.nbc.com/theoffice</a:t>
            </a: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400" spc="-1" strike="noStrike">
                <a:solidFill>
                  <a:srgbClr val="000000"/>
                </a:solidFill>
                <a:latin typeface="Arial"/>
              </a:rPr>
              <a:t>www.ebay.com</a:t>
            </a: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400" spc="-1" strike="noStrike">
                <a:solidFill>
                  <a:srgbClr val="000000"/>
                </a:solidFill>
                <a:latin typeface="Arial"/>
              </a:rPr>
              <a:t>www.facebook.com</a:t>
            </a: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400" spc="-1" strike="noStrike">
                <a:solidFill>
                  <a:srgbClr val="000000"/>
                </a:solidFill>
                <a:latin typeface="Arial"/>
              </a:rPr>
              <a:t>www.livejournal.com</a:t>
            </a: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400" spc="-1" strike="noStrike">
                <a:solidFill>
                  <a:srgbClr val="000000"/>
                </a:solidFill>
                <a:latin typeface="Arial"/>
              </a:rPr>
              <a:t>www.yahoo.com</a:t>
            </a: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400" spc="-1" strike="noStrike">
                <a:solidFill>
                  <a:srgbClr val="000000"/>
                </a:solidFill>
                <a:latin typeface="Arial"/>
              </a:rPr>
              <a:t>www.bored.com</a:t>
            </a: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400" spc="-1" strike="noStrike">
                <a:solidFill>
                  <a:srgbClr val="000000"/>
                </a:solidFill>
                <a:latin typeface="Arial"/>
              </a:rPr>
              <a:t>www.itunes.com</a:t>
            </a: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400" spc="-1" strike="noStrike">
                <a:solidFill>
                  <a:srgbClr val="000000"/>
                </a:solidFill>
                <a:latin typeface="Arial"/>
              </a:rPr>
              <a:t>www.gamefacts.com</a:t>
            </a: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400" spc="-1" strike="noStrike">
                <a:solidFill>
                  <a:srgbClr val="000000"/>
                </a:solidFill>
                <a:latin typeface="Arial"/>
              </a:rPr>
              <a:t>community.webshots.com</a:t>
            </a:r>
            <a:endParaRPr b="0" lang="en-US" sz="2400" spc="-1" strike="noStrike">
              <a:solidFill>
                <a:srgbClr val="000000"/>
              </a:solidFill>
              <a:latin typeface="Arial"/>
            </a:endParaRPr>
          </a:p>
        </p:txBody>
      </p:sp>
      <p:sp>
        <p:nvSpPr>
          <p:cNvPr id="66" name=""/>
          <p:cNvSpPr/>
          <p:nvPr/>
        </p:nvSpPr>
        <p:spPr>
          <a:xfrm>
            <a:off x="4495680" y="1295280"/>
            <a:ext cx="3943440" cy="4724640"/>
          </a:xfrm>
          <a:prstGeom prst="rect">
            <a:avLst/>
          </a:prstGeom>
          <a:noFill/>
          <a:ln w="0">
            <a:noFill/>
          </a:ln>
        </p:spPr>
        <p:style>
          <a:lnRef idx="0"/>
          <a:fillRef idx="0"/>
          <a:effectRef idx="0"/>
          <a:fontRef idx="minor"/>
        </p:style>
        <p:txBody>
          <a:bodyPr lIns="0" rIns="0" tIns="0" bIns="0" anchor="t">
            <a:normAutofit/>
          </a:bodyPr>
          <a:p>
            <a:pPr>
              <a:lnSpc>
                <a:spcPct val="80000"/>
              </a:lnSpc>
              <a:spcBef>
                <a:spcPts val="601"/>
              </a:spcBef>
              <a:buClr>
                <a:srgbClr val="000000"/>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400" spc="-1" strike="noStrike">
                <a:solidFill>
                  <a:srgbClr val="000000"/>
                </a:solidFill>
                <a:latin typeface="Arial"/>
              </a:rPr>
              <a:t>www.aim.com</a:t>
            </a: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400" spc="-1" strike="noStrike">
                <a:solidFill>
                  <a:srgbClr val="000000"/>
                </a:solidFill>
                <a:latin typeface="Arial"/>
              </a:rPr>
              <a:t>www.smartpunk.com</a:t>
            </a: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400" spc="-1" strike="noStrike">
                <a:solidFill>
                  <a:srgbClr val="000000"/>
                </a:solidFill>
                <a:latin typeface="Arial"/>
              </a:rPr>
              <a:t>www.youtube.com</a:t>
            </a: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400" spc="-1" strike="noStrike">
                <a:solidFill>
                  <a:srgbClr val="000000"/>
                </a:solidFill>
                <a:latin typeface="Arial"/>
              </a:rPr>
              <a:t>www.amazon.com</a:t>
            </a: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400" spc="-1" strike="noStrike">
                <a:solidFill>
                  <a:srgbClr val="000000"/>
                </a:solidFill>
                <a:latin typeface="Arial"/>
              </a:rPr>
              <a:t>www.turnitin.com</a:t>
            </a: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400" spc="-1" strike="noStrike">
                <a:solidFill>
                  <a:srgbClr val="000000"/>
                </a:solidFill>
                <a:latin typeface="Arial"/>
              </a:rPr>
              <a:t>www.addictinggames.com</a:t>
            </a: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400" spc="-1" strike="noStrike">
                <a:solidFill>
                  <a:srgbClr val="000000"/>
                </a:solidFill>
                <a:latin typeface="Arial"/>
              </a:rPr>
              <a:t>www.funnyjokes.com</a:t>
            </a: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400" spc="-1" strike="noStrike">
                <a:solidFill>
                  <a:srgbClr val="000000"/>
                </a:solidFill>
                <a:latin typeface="Arial"/>
              </a:rPr>
              <a:t>www.funnyjunk.com</a:t>
            </a: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400" spc="-1" strike="noStrike">
                <a:solidFill>
                  <a:srgbClr val="000000"/>
                </a:solidFill>
                <a:latin typeface="Arial"/>
              </a:rPr>
              <a:t>www.albinoblacksheep.com</a:t>
            </a: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400" spc="-1" strike="noStrike">
                <a:solidFill>
                  <a:srgbClr val="000000"/>
                </a:solidFill>
                <a:latin typeface="Arial"/>
              </a:rPr>
              <a:t>www.homestarrunner.com</a:t>
            </a: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400" spc="-1" strike="noStrike">
                <a:solidFill>
                  <a:srgbClr val="000000"/>
                </a:solidFill>
                <a:latin typeface="Arial"/>
              </a:rPr>
              <a:t>www.fuse.tv.com</a:t>
            </a: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400" spc="-1" strike="noStrike">
                <a:solidFill>
                  <a:srgbClr val="000000"/>
                </a:solidFill>
                <a:latin typeface="Arial"/>
              </a:rPr>
              <a:t>www.demonoid.com</a:t>
            </a: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47880"/>
                <a:tab algn="l" pos="1895400"/>
                <a:tab algn="l" pos="2843280"/>
                <a:tab algn="l" pos="3790800"/>
                <a:tab algn="l" pos="4738680"/>
                <a:tab algn="l" pos="5686560"/>
                <a:tab algn="l" pos="6634080"/>
                <a:tab algn="l" pos="7581960"/>
                <a:tab algn="l" pos="8529480"/>
                <a:tab algn="l" pos="9477360"/>
                <a:tab algn="l" pos="10425240"/>
              </a:tabLst>
            </a:pPr>
            <a:r>
              <a:rPr b="0" lang="en-US" sz="2400" spc="-1" strike="noStrike">
                <a:solidFill>
                  <a:srgbClr val="000000"/>
                </a:solidFill>
                <a:latin typeface="Arial"/>
              </a:rPr>
              <a:t>en.wikipedia.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218960" y="311040"/>
            <a:ext cx="7848360" cy="52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80"/>
                </a:solidFill>
                <a:latin typeface="Arial"/>
              </a:rPr>
              <a:t>Straight from the Mouths of Teens:</a:t>
            </a:r>
            <a:endParaRPr b="0" lang="en-US" sz="3600" spc="-1" strike="noStrike">
              <a:solidFill>
                <a:srgbClr val="000080"/>
              </a:solidFill>
              <a:latin typeface="Arial"/>
            </a:endParaRPr>
          </a:p>
        </p:txBody>
      </p:sp>
      <p:sp>
        <p:nvSpPr>
          <p:cNvPr id="68" name="PlaceHolder 2"/>
          <p:cNvSpPr>
            <a:spLocks noGrp="1"/>
          </p:cNvSpPr>
          <p:nvPr>
            <p:ph/>
          </p:nvPr>
        </p:nvSpPr>
        <p:spPr>
          <a:xfrm>
            <a:off x="685800" y="1371240"/>
            <a:ext cx="7772400" cy="5181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Doing your homework on the Internet is s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at because it’s like going to the bigges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brary in the world right at your desk, but i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hard because the building that has th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ld’s biggest library also has the world’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ggest game room, the world’s biggest por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e, the world’s biggest casino, the world’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ggest mall and the world’s biggest loung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times I don’t make it to the library.”</a:t>
            </a:r>
            <a:r>
              <a:rPr b="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218960" y="228240"/>
            <a:ext cx="7848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80"/>
                </a:solidFill>
                <a:latin typeface="Arial"/>
              </a:rPr>
              <a:t>Following the </a:t>
            </a:r>
            <a:r>
              <a:rPr b="0" i="1" lang="en-US" sz="4000" spc="-1" strike="noStrike">
                <a:solidFill>
                  <a:srgbClr val="000080"/>
                </a:solidFill>
                <a:latin typeface="Comic Sans MS"/>
              </a:rPr>
              <a:t>Thread</a:t>
            </a:r>
            <a:endParaRPr b="0" lang="en-US" sz="4000" spc="-1" strike="noStrike">
              <a:solidFill>
                <a:srgbClr val="000080"/>
              </a:solidFill>
              <a:latin typeface="Arial"/>
            </a:endParaRPr>
          </a:p>
        </p:txBody>
      </p:sp>
      <p:sp>
        <p:nvSpPr>
          <p:cNvPr id="70"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 Areas Covered Here and on Poster:</a:t>
            </a:r>
            <a:endParaRPr b="0" lang="en-US" sz="28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 </a:t>
            </a:r>
            <a:endParaRPr b="0" lang="en-US" sz="2800" spc="-1" strike="noStrike">
              <a:solidFill>
                <a:srgbClr val="000000"/>
              </a:solidFill>
              <a:latin typeface="Arial"/>
            </a:endParaRPr>
          </a:p>
          <a:p>
            <a:pPr marL="3326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t>
            </a:r>
            <a:endParaRPr b="0" lang="en-US" sz="2800" spc="-1" strike="noStrike">
              <a:solidFill>
                <a:srgbClr val="000000"/>
              </a:solidFill>
              <a:latin typeface="Arial"/>
            </a:endParaRPr>
          </a:p>
          <a:p>
            <a:pPr marL="3326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3. </a:t>
            </a:r>
            <a:endParaRPr b="0" lang="en-US" sz="2800" spc="-1" strike="noStrike">
              <a:solidFill>
                <a:srgbClr val="000000"/>
              </a:solidFill>
              <a:latin typeface="Arial"/>
            </a:endParaRPr>
          </a:p>
          <a:p>
            <a:pPr marL="3326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a:t>
            </a:r>
            <a:endParaRPr b="0" lang="en-US" sz="2800" spc="-1" strike="noStrike">
              <a:solidFill>
                <a:srgbClr val="000000"/>
              </a:solidFill>
              <a:latin typeface="Arial"/>
            </a:endParaRPr>
          </a:p>
          <a:p>
            <a:pPr marL="3326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5. </a:t>
            </a:r>
            <a:endParaRPr b="0" lang="en-US" sz="2800" spc="-1" strike="noStrike">
              <a:solidFill>
                <a:srgbClr val="000000"/>
              </a:solidFill>
              <a:latin typeface="Arial"/>
            </a:endParaRPr>
          </a:p>
          <a:p>
            <a:pPr marL="3326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a:t>
            </a:r>
            <a:endParaRPr b="0" lang="en-US" sz="2800" spc="-1" strike="noStrike">
              <a:solidFill>
                <a:srgbClr val="000000"/>
              </a:solidFill>
              <a:latin typeface="Arial"/>
            </a:endParaRPr>
          </a:p>
        </p:txBody>
      </p:sp>
      <p:sp>
        <p:nvSpPr>
          <p:cNvPr id="71" name=""/>
          <p:cNvSpPr/>
          <p:nvPr/>
        </p:nvSpPr>
        <p:spPr>
          <a:xfrm>
            <a:off x="838080" y="685800"/>
            <a:ext cx="6821640" cy="5257800"/>
          </a:xfrm>
          <a:custGeom>
            <a:avLst/>
            <a:gdLst/>
            <a:ahLst/>
            <a:rect l="l" t="t" r="r" b="b"/>
            <a:pathLst>
              <a:path w="4297" h="3312">
                <a:moveTo>
                  <a:pt x="3131" y="0"/>
                </a:moveTo>
                <a:cubicBezTo>
                  <a:pt x="3179" y="61"/>
                  <a:pt x="3314" y="373"/>
                  <a:pt x="3421" y="382"/>
                </a:cubicBezTo>
                <a:cubicBezTo>
                  <a:pt x="3528" y="391"/>
                  <a:pt x="3686" y="101"/>
                  <a:pt x="3773" y="54"/>
                </a:cubicBezTo>
                <a:cubicBezTo>
                  <a:pt x="3860" y="7"/>
                  <a:pt x="3914" y="35"/>
                  <a:pt x="3945" y="102"/>
                </a:cubicBezTo>
                <a:cubicBezTo>
                  <a:pt x="3976" y="169"/>
                  <a:pt x="3912" y="375"/>
                  <a:pt x="3959" y="455"/>
                </a:cubicBezTo>
                <a:cubicBezTo>
                  <a:pt x="4004" y="534"/>
                  <a:pt x="4170" y="497"/>
                  <a:pt x="4222" y="578"/>
                </a:cubicBezTo>
                <a:cubicBezTo>
                  <a:pt x="4273" y="659"/>
                  <a:pt x="4280" y="835"/>
                  <a:pt x="4269" y="940"/>
                </a:cubicBezTo>
                <a:cubicBezTo>
                  <a:pt x="4258" y="1045"/>
                  <a:pt x="4202" y="1113"/>
                  <a:pt x="4157" y="1208"/>
                </a:cubicBezTo>
                <a:cubicBezTo>
                  <a:pt x="4111" y="1303"/>
                  <a:pt x="3989" y="1385"/>
                  <a:pt x="3997" y="1512"/>
                </a:cubicBezTo>
                <a:cubicBezTo>
                  <a:pt x="4005" y="1639"/>
                  <a:pt x="4297" y="1771"/>
                  <a:pt x="4204" y="1969"/>
                </a:cubicBezTo>
                <a:cubicBezTo>
                  <a:pt x="4111" y="2167"/>
                  <a:pt x="3681" y="2637"/>
                  <a:pt x="3440" y="2702"/>
                </a:cubicBezTo>
                <a:cubicBezTo>
                  <a:pt x="3198" y="2767"/>
                  <a:pt x="2940" y="2362"/>
                  <a:pt x="2754" y="2360"/>
                </a:cubicBezTo>
                <a:cubicBezTo>
                  <a:pt x="2568" y="2358"/>
                  <a:pt x="2528" y="2546"/>
                  <a:pt x="2327" y="2689"/>
                </a:cubicBezTo>
                <a:cubicBezTo>
                  <a:pt x="2125" y="2832"/>
                  <a:pt x="1705" y="3312"/>
                  <a:pt x="1545" y="3218"/>
                </a:cubicBezTo>
                <a:cubicBezTo>
                  <a:pt x="1386" y="3123"/>
                  <a:pt x="1519" y="2271"/>
                  <a:pt x="1369" y="2121"/>
                </a:cubicBezTo>
                <a:cubicBezTo>
                  <a:pt x="1219" y="1971"/>
                  <a:pt x="821" y="2259"/>
                  <a:pt x="644" y="2317"/>
                </a:cubicBezTo>
                <a:cubicBezTo>
                  <a:pt x="466" y="2375"/>
                  <a:pt x="400" y="2498"/>
                  <a:pt x="303" y="2471"/>
                </a:cubicBezTo>
                <a:cubicBezTo>
                  <a:pt x="205" y="2443"/>
                  <a:pt x="0" y="2353"/>
                  <a:pt x="56" y="2152"/>
                </a:cubicBezTo>
                <a:cubicBezTo>
                  <a:pt x="113" y="1952"/>
                  <a:pt x="536" y="1414"/>
                  <a:pt x="640" y="1269"/>
                </a:cubicBezTo>
              </a:path>
            </a:pathLst>
          </a:custGeom>
          <a:noFill/>
          <a:ln w="25560">
            <a:solidFill>
              <a:srgbClr val="000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72" name="" descr="">
            <a:hlinkClick r:id="rId1" action="ppaction://hlinksldjump"/>
          </p:cNvPr>
          <p:cNvPicPr/>
          <p:nvPr/>
        </p:nvPicPr>
        <p:blipFill>
          <a:blip r:embed="rId2"/>
          <a:stretch/>
        </p:blipFill>
        <p:spPr>
          <a:xfrm>
            <a:off x="1066680" y="4254480"/>
            <a:ext cx="3048120" cy="698400"/>
          </a:xfrm>
          <a:prstGeom prst="rect">
            <a:avLst/>
          </a:prstGeom>
          <a:ln w="0">
            <a:noFill/>
          </a:ln>
        </p:spPr>
      </p:pic>
      <p:pic>
        <p:nvPicPr>
          <p:cNvPr id="73" name="" descr="">
            <a:hlinkClick r:id="rId3" action="ppaction://hlinksldjump"/>
          </p:cNvPr>
          <p:cNvPicPr/>
          <p:nvPr/>
        </p:nvPicPr>
        <p:blipFill>
          <a:blip r:embed="rId4"/>
          <a:stretch/>
        </p:blipFill>
        <p:spPr>
          <a:xfrm>
            <a:off x="990720" y="2895480"/>
            <a:ext cx="3429000" cy="679680"/>
          </a:xfrm>
          <a:prstGeom prst="rect">
            <a:avLst/>
          </a:prstGeom>
          <a:ln w="0">
            <a:noFill/>
          </a:ln>
        </p:spPr>
      </p:pic>
      <p:pic>
        <p:nvPicPr>
          <p:cNvPr id="74" name="" descr="">
            <a:hlinkClick r:id="rId5" action="ppaction://hlinksldjump"/>
          </p:cNvPr>
          <p:cNvPicPr/>
          <p:nvPr/>
        </p:nvPicPr>
        <p:blipFill>
          <a:blip r:embed="rId6"/>
          <a:stretch/>
        </p:blipFill>
        <p:spPr>
          <a:xfrm>
            <a:off x="4800600" y="2281320"/>
            <a:ext cx="3429000" cy="690480"/>
          </a:xfrm>
          <a:prstGeom prst="rect">
            <a:avLst/>
          </a:prstGeom>
          <a:ln w="0">
            <a:noFill/>
          </a:ln>
        </p:spPr>
      </p:pic>
      <p:pic>
        <p:nvPicPr>
          <p:cNvPr id="75" name="" descr="">
            <a:hlinkClick r:id="rId7" action="ppaction://hlinksldjump"/>
          </p:cNvPr>
          <p:cNvPicPr/>
          <p:nvPr/>
        </p:nvPicPr>
        <p:blipFill>
          <a:blip r:embed="rId8"/>
          <a:stretch/>
        </p:blipFill>
        <p:spPr>
          <a:xfrm>
            <a:off x="4800600" y="3560760"/>
            <a:ext cx="2438280" cy="658800"/>
          </a:xfrm>
          <a:prstGeom prst="rect">
            <a:avLst/>
          </a:prstGeom>
          <a:ln w="0">
            <a:noFill/>
          </a:ln>
        </p:spPr>
      </p:pic>
      <p:pic>
        <p:nvPicPr>
          <p:cNvPr id="76" name="" descr="">
            <a:hlinkClick r:id="rId9" action="ppaction://hlinksldjump"/>
          </p:cNvPr>
          <p:cNvPicPr/>
          <p:nvPr/>
        </p:nvPicPr>
        <p:blipFill>
          <a:blip r:embed="rId10"/>
          <a:stretch/>
        </p:blipFill>
        <p:spPr>
          <a:xfrm>
            <a:off x="990720" y="5446800"/>
            <a:ext cx="2971800" cy="801720"/>
          </a:xfrm>
          <a:prstGeom prst="rect">
            <a:avLst/>
          </a:prstGeom>
          <a:ln w="0">
            <a:noFill/>
          </a:ln>
        </p:spPr>
      </p:pic>
      <p:pic>
        <p:nvPicPr>
          <p:cNvPr id="77" name="" descr="">
            <a:hlinkClick r:id="rId11" action="ppaction://hlinksldjump"/>
          </p:cNvPr>
          <p:cNvPicPr/>
          <p:nvPr/>
        </p:nvPicPr>
        <p:blipFill>
          <a:blip r:embed="rId12"/>
          <a:stretch/>
        </p:blipFill>
        <p:spPr>
          <a:xfrm>
            <a:off x="4724280" y="4952880"/>
            <a:ext cx="3214800" cy="598680"/>
          </a:xfrm>
          <a:prstGeom prst="rect">
            <a:avLst/>
          </a:prstGeom>
          <a:ln w="0">
            <a:noFill/>
          </a:ln>
        </p:spPr>
      </p:pic>
      <p:sp>
        <p:nvSpPr>
          <p:cNvPr id="78" name="">
            <a:hlinkClick r:id="rId13" action="ppaction://hlinksldjump"/>
          </p:cNvPr>
          <p:cNvSpPr/>
          <p:nvPr/>
        </p:nvSpPr>
        <p:spPr>
          <a:xfrm>
            <a:off x="6858000" y="5791320"/>
            <a:ext cx="1447920" cy="459720"/>
          </a:xfrm>
          <a:prstGeom prst="rect">
            <a:avLst/>
          </a:prstGeom>
          <a:solidFill>
            <a:srgbClr val="000080"/>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los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rot="5080200">
            <a:off x="2399400" y="1459440"/>
            <a:ext cx="5361120" cy="4216320"/>
          </a:xfrm>
          <a:custGeom>
            <a:avLst/>
            <a:gdLst/>
            <a:ahLst/>
            <a:rect l="l" t="t" r="r" b="b"/>
            <a:pathLst>
              <a:path w="3377" h="2656">
                <a:moveTo>
                  <a:pt x="0" y="243"/>
                </a:moveTo>
                <a:cubicBezTo>
                  <a:pt x="51" y="215"/>
                  <a:pt x="222" y="94"/>
                  <a:pt x="305" y="64"/>
                </a:cubicBezTo>
                <a:cubicBezTo>
                  <a:pt x="388" y="34"/>
                  <a:pt x="449" y="48"/>
                  <a:pt x="497" y="64"/>
                </a:cubicBezTo>
                <a:cubicBezTo>
                  <a:pt x="545" y="80"/>
                  <a:pt x="529" y="88"/>
                  <a:pt x="593" y="160"/>
                </a:cubicBezTo>
                <a:cubicBezTo>
                  <a:pt x="657" y="232"/>
                  <a:pt x="753" y="456"/>
                  <a:pt x="881" y="496"/>
                </a:cubicBezTo>
                <a:cubicBezTo>
                  <a:pt x="1009" y="536"/>
                  <a:pt x="1233" y="464"/>
                  <a:pt x="1361" y="400"/>
                </a:cubicBezTo>
                <a:cubicBezTo>
                  <a:pt x="1489" y="336"/>
                  <a:pt x="1545" y="176"/>
                  <a:pt x="1649" y="112"/>
                </a:cubicBezTo>
                <a:cubicBezTo>
                  <a:pt x="1753" y="48"/>
                  <a:pt x="1873" y="0"/>
                  <a:pt x="1985" y="16"/>
                </a:cubicBezTo>
                <a:cubicBezTo>
                  <a:pt x="2097" y="32"/>
                  <a:pt x="2241" y="120"/>
                  <a:pt x="2321" y="208"/>
                </a:cubicBezTo>
                <a:cubicBezTo>
                  <a:pt x="2401" y="296"/>
                  <a:pt x="2481" y="400"/>
                  <a:pt x="2465" y="544"/>
                </a:cubicBezTo>
                <a:cubicBezTo>
                  <a:pt x="2449" y="688"/>
                  <a:pt x="2193" y="904"/>
                  <a:pt x="2225" y="1072"/>
                </a:cubicBezTo>
                <a:cubicBezTo>
                  <a:pt x="2257" y="1240"/>
                  <a:pt x="2553" y="1432"/>
                  <a:pt x="2657" y="1552"/>
                </a:cubicBezTo>
                <a:cubicBezTo>
                  <a:pt x="2761" y="1672"/>
                  <a:pt x="2825" y="1688"/>
                  <a:pt x="2849" y="1792"/>
                </a:cubicBezTo>
                <a:cubicBezTo>
                  <a:pt x="2873" y="1896"/>
                  <a:pt x="2713" y="2032"/>
                  <a:pt x="2801" y="2176"/>
                </a:cubicBezTo>
                <a:cubicBezTo>
                  <a:pt x="2889" y="2320"/>
                  <a:pt x="3281" y="2576"/>
                  <a:pt x="3377" y="2656"/>
                </a:cubicBezTo>
              </a:path>
            </a:pathLst>
          </a:custGeom>
          <a:noFill/>
          <a:ln w="25560">
            <a:solidFill>
              <a:srgbClr val="800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 name="PlaceHolder 1"/>
          <p:cNvSpPr>
            <a:spLocks noGrp="1"/>
          </p:cNvSpPr>
          <p:nvPr>
            <p:ph/>
          </p:nvPr>
        </p:nvSpPr>
        <p:spPr>
          <a:xfrm>
            <a:off x="685800" y="1447560"/>
            <a:ext cx="777240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 </a:t>
            </a:r>
            <a:r>
              <a:rPr b="1" lang="en-US" sz="2800" spc="-1" strike="noStrike">
                <a:solidFill>
                  <a:srgbClr val="000000"/>
                </a:solidFill>
                <a:latin typeface="Arial"/>
              </a:rPr>
              <a:t>Personal information</a:t>
            </a:r>
            <a:r>
              <a:rPr b="0" lang="en-US" sz="2800" spc="-1" strike="noStrike">
                <a:solidFill>
                  <a:srgbClr val="000000"/>
                </a:solidFill>
                <a:latin typeface="Arial"/>
              </a:rPr>
              <a:t> identifies you,</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location or your financial asset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Obvious</a:t>
            </a:r>
            <a:r>
              <a:rPr b="0" lang="en-US" sz="2800" spc="-1" strike="noStrike">
                <a:solidFill>
                  <a:srgbClr val="000000"/>
                </a:solidFill>
                <a:latin typeface="Arial"/>
              </a:rPr>
              <a:t>: name, age, sex, picture, phone number, addres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Less obvious</a:t>
            </a:r>
            <a:r>
              <a:rPr b="0" lang="en-US" sz="2800" spc="-1" strike="noStrike">
                <a:solidFill>
                  <a:srgbClr val="000000"/>
                </a:solidFill>
                <a:latin typeface="Arial"/>
              </a:rPr>
              <a:t>: hobbies, interests, school mascot, gaming identit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for phishing scams  </a:t>
            </a:r>
            <a:endParaRPr b="0" lang="en-US" sz="2800" spc="-1" strike="noStrike">
              <a:solidFill>
                <a:srgbClr val="000000"/>
              </a:solidFill>
              <a:latin typeface="Arial"/>
            </a:endParaRPr>
          </a:p>
        </p:txBody>
      </p:sp>
      <p:pic>
        <p:nvPicPr>
          <p:cNvPr id="81" name="" descr=""/>
          <p:cNvPicPr/>
          <p:nvPr/>
        </p:nvPicPr>
        <p:blipFill>
          <a:blip r:embed="rId1"/>
          <a:stretch/>
        </p:blipFill>
        <p:spPr>
          <a:xfrm>
            <a:off x="2320920" y="228600"/>
            <a:ext cx="4495680" cy="905040"/>
          </a:xfrm>
          <a:prstGeom prst="rect">
            <a:avLst/>
          </a:prstGeom>
          <a:ln w="0">
            <a:noFill/>
          </a:ln>
        </p:spPr>
      </p:pic>
      <p:sp>
        <p:nvSpPr>
          <p:cNvPr id="82" name="">
            <a:hlinkClick r:id="rId2" action="ppaction://hlinksldjump"/>
          </p:cNvPr>
          <p:cNvSpPr/>
          <p:nvPr/>
        </p:nvSpPr>
        <p:spPr>
          <a:xfrm>
            <a:off x="6858000" y="5791320"/>
            <a:ext cx="1515960" cy="459720"/>
          </a:xfrm>
          <a:prstGeom prst="rect">
            <a:avLst/>
          </a:prstGeom>
          <a:solidFill>
            <a:srgbClr val="000080"/>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rea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6553080" y="552600"/>
            <a:ext cx="2156040" cy="4591080"/>
          </a:xfrm>
          <a:custGeom>
            <a:avLst/>
            <a:gdLst/>
            <a:ahLst/>
            <a:rect l="l" t="t" r="r" b="b"/>
            <a:pathLst>
              <a:path w="1358" h="2892">
                <a:moveTo>
                  <a:pt x="0" y="36"/>
                </a:moveTo>
                <a:cubicBezTo>
                  <a:pt x="109" y="19"/>
                  <a:pt x="216" y="0"/>
                  <a:pt x="326" y="36"/>
                </a:cubicBezTo>
                <a:cubicBezTo>
                  <a:pt x="379" y="114"/>
                  <a:pt x="342" y="202"/>
                  <a:pt x="326" y="288"/>
                </a:cubicBezTo>
                <a:cubicBezTo>
                  <a:pt x="332" y="334"/>
                  <a:pt x="334" y="381"/>
                  <a:pt x="345" y="427"/>
                </a:cubicBezTo>
                <a:cubicBezTo>
                  <a:pt x="367" y="531"/>
                  <a:pt x="412" y="519"/>
                  <a:pt x="512" y="529"/>
                </a:cubicBezTo>
                <a:cubicBezTo>
                  <a:pt x="552" y="532"/>
                  <a:pt x="592" y="535"/>
                  <a:pt x="633" y="539"/>
                </a:cubicBezTo>
                <a:cubicBezTo>
                  <a:pt x="729" y="535"/>
                  <a:pt x="826" y="546"/>
                  <a:pt x="921" y="529"/>
                </a:cubicBezTo>
                <a:cubicBezTo>
                  <a:pt x="938" y="525"/>
                  <a:pt x="898" y="502"/>
                  <a:pt x="884" y="492"/>
                </a:cubicBezTo>
                <a:cubicBezTo>
                  <a:pt x="875" y="486"/>
                  <a:pt x="865" y="486"/>
                  <a:pt x="856" y="483"/>
                </a:cubicBezTo>
                <a:cubicBezTo>
                  <a:pt x="815" y="465"/>
                  <a:pt x="776" y="450"/>
                  <a:pt x="735" y="436"/>
                </a:cubicBezTo>
                <a:cubicBezTo>
                  <a:pt x="691" y="440"/>
                  <a:pt x="640" y="429"/>
                  <a:pt x="605" y="455"/>
                </a:cubicBezTo>
                <a:cubicBezTo>
                  <a:pt x="583" y="470"/>
                  <a:pt x="549" y="511"/>
                  <a:pt x="549" y="511"/>
                </a:cubicBezTo>
                <a:cubicBezTo>
                  <a:pt x="552" y="551"/>
                  <a:pt x="550" y="592"/>
                  <a:pt x="559" y="632"/>
                </a:cubicBezTo>
                <a:cubicBezTo>
                  <a:pt x="573" y="699"/>
                  <a:pt x="663" y="810"/>
                  <a:pt x="726" y="846"/>
                </a:cubicBezTo>
                <a:cubicBezTo>
                  <a:pt x="765" y="868"/>
                  <a:pt x="831" y="876"/>
                  <a:pt x="875" y="883"/>
                </a:cubicBezTo>
                <a:cubicBezTo>
                  <a:pt x="892" y="894"/>
                  <a:pt x="941" y="926"/>
                  <a:pt x="949" y="939"/>
                </a:cubicBezTo>
                <a:cubicBezTo>
                  <a:pt x="1017" y="1048"/>
                  <a:pt x="962" y="1042"/>
                  <a:pt x="1061" y="1106"/>
                </a:cubicBezTo>
                <a:cubicBezTo>
                  <a:pt x="1053" y="1180"/>
                  <a:pt x="1049" y="1305"/>
                  <a:pt x="959" y="1339"/>
                </a:cubicBezTo>
                <a:cubicBezTo>
                  <a:pt x="874" y="1370"/>
                  <a:pt x="909" y="1358"/>
                  <a:pt x="856" y="1376"/>
                </a:cubicBezTo>
                <a:cubicBezTo>
                  <a:pt x="797" y="1370"/>
                  <a:pt x="714" y="1386"/>
                  <a:pt x="763" y="1311"/>
                </a:cubicBezTo>
                <a:cubicBezTo>
                  <a:pt x="822" y="1345"/>
                  <a:pt x="887" y="1369"/>
                  <a:pt x="940" y="1413"/>
                </a:cubicBezTo>
                <a:cubicBezTo>
                  <a:pt x="1007" y="1470"/>
                  <a:pt x="972" y="1455"/>
                  <a:pt x="1042" y="1469"/>
                </a:cubicBezTo>
                <a:cubicBezTo>
                  <a:pt x="1048" y="1456"/>
                  <a:pt x="1066" y="1444"/>
                  <a:pt x="1061" y="1432"/>
                </a:cubicBezTo>
                <a:cubicBezTo>
                  <a:pt x="1051" y="1407"/>
                  <a:pt x="1005" y="1376"/>
                  <a:pt x="1005" y="1376"/>
                </a:cubicBezTo>
                <a:cubicBezTo>
                  <a:pt x="1002" y="1351"/>
                  <a:pt x="1005" y="1325"/>
                  <a:pt x="996" y="1302"/>
                </a:cubicBezTo>
                <a:cubicBezTo>
                  <a:pt x="971" y="1240"/>
                  <a:pt x="961" y="1304"/>
                  <a:pt x="959" y="1311"/>
                </a:cubicBezTo>
                <a:cubicBezTo>
                  <a:pt x="955" y="1332"/>
                  <a:pt x="964" y="1360"/>
                  <a:pt x="949" y="1376"/>
                </a:cubicBezTo>
                <a:cubicBezTo>
                  <a:pt x="930" y="1394"/>
                  <a:pt x="899" y="1388"/>
                  <a:pt x="875" y="1395"/>
                </a:cubicBezTo>
                <a:cubicBezTo>
                  <a:pt x="856" y="1400"/>
                  <a:pt x="819" y="1413"/>
                  <a:pt x="819" y="1413"/>
                </a:cubicBezTo>
                <a:cubicBezTo>
                  <a:pt x="876" y="1483"/>
                  <a:pt x="940" y="1538"/>
                  <a:pt x="996" y="1609"/>
                </a:cubicBezTo>
                <a:cubicBezTo>
                  <a:pt x="999" y="1618"/>
                  <a:pt x="1005" y="1626"/>
                  <a:pt x="1005" y="1636"/>
                </a:cubicBezTo>
                <a:cubicBezTo>
                  <a:pt x="1005" y="1679"/>
                  <a:pt x="1005" y="1724"/>
                  <a:pt x="996" y="1767"/>
                </a:cubicBezTo>
                <a:cubicBezTo>
                  <a:pt x="984" y="1817"/>
                  <a:pt x="868" y="1826"/>
                  <a:pt x="847" y="1832"/>
                </a:cubicBezTo>
                <a:cubicBezTo>
                  <a:pt x="680" y="1878"/>
                  <a:pt x="850" y="1847"/>
                  <a:pt x="717" y="1869"/>
                </a:cubicBezTo>
                <a:cubicBezTo>
                  <a:pt x="684" y="1933"/>
                  <a:pt x="678" y="1982"/>
                  <a:pt x="670" y="2055"/>
                </a:cubicBezTo>
                <a:cubicBezTo>
                  <a:pt x="695" y="2164"/>
                  <a:pt x="709" y="2261"/>
                  <a:pt x="791" y="2343"/>
                </a:cubicBezTo>
                <a:cubicBezTo>
                  <a:pt x="846" y="2398"/>
                  <a:pt x="1014" y="2418"/>
                  <a:pt x="1014" y="2418"/>
                </a:cubicBezTo>
                <a:cubicBezTo>
                  <a:pt x="1054" y="2457"/>
                  <a:pt x="1064" y="2460"/>
                  <a:pt x="1117" y="2474"/>
                </a:cubicBezTo>
                <a:cubicBezTo>
                  <a:pt x="1109" y="2510"/>
                  <a:pt x="1078" y="2568"/>
                  <a:pt x="1052" y="2595"/>
                </a:cubicBezTo>
                <a:cubicBezTo>
                  <a:pt x="1031" y="2615"/>
                  <a:pt x="996" y="2608"/>
                  <a:pt x="968" y="2613"/>
                </a:cubicBezTo>
                <a:cubicBezTo>
                  <a:pt x="913" y="2650"/>
                  <a:pt x="915" y="2636"/>
                  <a:pt x="949" y="2753"/>
                </a:cubicBezTo>
                <a:cubicBezTo>
                  <a:pt x="955" y="2775"/>
                  <a:pt x="1030" y="2818"/>
                  <a:pt x="1042" y="2827"/>
                </a:cubicBezTo>
                <a:cubicBezTo>
                  <a:pt x="1117" y="2881"/>
                  <a:pt x="1148" y="2874"/>
                  <a:pt x="1238" y="2892"/>
                </a:cubicBezTo>
                <a:cubicBezTo>
                  <a:pt x="1333" y="2871"/>
                  <a:pt x="1292" y="2874"/>
                  <a:pt x="1358" y="2874"/>
                </a:cubicBezTo>
              </a:path>
            </a:pathLst>
          </a:custGeom>
          <a:noFill/>
          <a:ln w="25560">
            <a:solidFill>
              <a:srgbClr val="800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84" name="" descr=""/>
          <p:cNvPicPr/>
          <p:nvPr/>
        </p:nvPicPr>
        <p:blipFill>
          <a:blip r:embed="rId1"/>
          <a:stretch/>
        </p:blipFill>
        <p:spPr>
          <a:xfrm>
            <a:off x="2320920" y="228600"/>
            <a:ext cx="4495680" cy="905040"/>
          </a:xfrm>
          <a:prstGeom prst="rect">
            <a:avLst/>
          </a:prstGeom>
          <a:ln w="0">
            <a:noFill/>
          </a:ln>
        </p:spPr>
      </p:pic>
      <p:sp>
        <p:nvSpPr>
          <p:cNvPr id="85" name="PlaceHolder 1"/>
          <p:cNvSpPr>
            <a:spLocks noGrp="1"/>
          </p:cNvSpPr>
          <p:nvPr>
            <p:ph/>
          </p:nvPr>
        </p:nvSpPr>
        <p:spPr>
          <a:xfrm>
            <a:off x="609120" y="1371240"/>
            <a:ext cx="8001000" cy="4876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raveling the facts…</a:t>
            </a: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ty thieves are clever, posing as friends, relatives and banks, to get people to reveal personal information. </a:t>
            </a:r>
            <a:endParaRPr b="0" lang="en-US" sz="2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ens are just as likely as adults to become victims of identity theft -- when applying for a driver's license they may find one already has been issued using their name and S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2817720" y="738360"/>
            <a:ext cx="4467240" cy="5224320"/>
          </a:xfrm>
          <a:custGeom>
            <a:avLst/>
            <a:gdLst/>
            <a:ahLst/>
            <a:rect l="l" t="t" r="r" b="b"/>
            <a:pathLst>
              <a:path w="2814" h="3291">
                <a:moveTo>
                  <a:pt x="2348" y="0"/>
                </a:moveTo>
                <a:cubicBezTo>
                  <a:pt x="2415" y="41"/>
                  <a:pt x="2688" y="149"/>
                  <a:pt x="2751" y="247"/>
                </a:cubicBezTo>
                <a:cubicBezTo>
                  <a:pt x="2814" y="345"/>
                  <a:pt x="2776" y="503"/>
                  <a:pt x="2729" y="587"/>
                </a:cubicBezTo>
                <a:cubicBezTo>
                  <a:pt x="2682" y="671"/>
                  <a:pt x="2548" y="665"/>
                  <a:pt x="2466" y="751"/>
                </a:cubicBezTo>
                <a:cubicBezTo>
                  <a:pt x="2384" y="837"/>
                  <a:pt x="2261" y="999"/>
                  <a:pt x="2236" y="1102"/>
                </a:cubicBezTo>
                <a:cubicBezTo>
                  <a:pt x="2211" y="1205"/>
                  <a:pt x="2252" y="1282"/>
                  <a:pt x="2318" y="1370"/>
                </a:cubicBezTo>
                <a:cubicBezTo>
                  <a:pt x="2384" y="1458"/>
                  <a:pt x="2558" y="1532"/>
                  <a:pt x="2632" y="1630"/>
                </a:cubicBezTo>
                <a:cubicBezTo>
                  <a:pt x="2705" y="1727"/>
                  <a:pt x="2764" y="1842"/>
                  <a:pt x="2758" y="1955"/>
                </a:cubicBezTo>
                <a:cubicBezTo>
                  <a:pt x="2753" y="2068"/>
                  <a:pt x="2701" y="2244"/>
                  <a:pt x="2598" y="2308"/>
                </a:cubicBezTo>
                <a:cubicBezTo>
                  <a:pt x="2495" y="2372"/>
                  <a:pt x="2387" y="2473"/>
                  <a:pt x="2137" y="2340"/>
                </a:cubicBezTo>
                <a:cubicBezTo>
                  <a:pt x="1887" y="2207"/>
                  <a:pt x="1375" y="1569"/>
                  <a:pt x="1096" y="1507"/>
                </a:cubicBezTo>
                <a:cubicBezTo>
                  <a:pt x="817" y="1445"/>
                  <a:pt x="465" y="1722"/>
                  <a:pt x="461" y="1968"/>
                </a:cubicBezTo>
                <a:cubicBezTo>
                  <a:pt x="457" y="2214"/>
                  <a:pt x="1026" y="2767"/>
                  <a:pt x="1070" y="2981"/>
                </a:cubicBezTo>
                <a:cubicBezTo>
                  <a:pt x="1114" y="3195"/>
                  <a:pt x="902" y="3291"/>
                  <a:pt x="724" y="3250"/>
                </a:cubicBezTo>
                <a:cubicBezTo>
                  <a:pt x="546" y="3209"/>
                  <a:pt x="151" y="2842"/>
                  <a:pt x="0" y="2735"/>
                </a:cubicBezTo>
              </a:path>
            </a:pathLst>
          </a:custGeom>
          <a:noFill/>
          <a:ln w="25560">
            <a:solidFill>
              <a:srgbClr val="800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7" name="PlaceHolder 1"/>
          <p:cNvSpPr>
            <a:spLocks noGrp="1"/>
          </p:cNvSpPr>
          <p:nvPr>
            <p:ph/>
          </p:nvPr>
        </p:nvSpPr>
        <p:spPr>
          <a:xfrm>
            <a:off x="685800" y="1447920"/>
            <a:ext cx="7772400" cy="1676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s found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ctap4.org/cybersafety/pi.htm</a:t>
            </a:r>
            <a:endParaRPr b="0" lang="en-US" sz="2800" spc="-1" strike="noStrike">
              <a:solidFill>
                <a:srgbClr val="000000"/>
              </a:solidFill>
              <a:latin typeface="Arial"/>
            </a:endParaRPr>
          </a:p>
        </p:txBody>
      </p:sp>
      <p:pic>
        <p:nvPicPr>
          <p:cNvPr id="88" name="" descr=""/>
          <p:cNvPicPr/>
          <p:nvPr/>
        </p:nvPicPr>
        <p:blipFill>
          <a:blip r:embed="rId1"/>
          <a:stretch/>
        </p:blipFill>
        <p:spPr>
          <a:xfrm>
            <a:off x="2320920" y="228600"/>
            <a:ext cx="4495680" cy="905040"/>
          </a:xfrm>
          <a:prstGeom prst="rect">
            <a:avLst/>
          </a:prstGeom>
          <a:ln w="0">
            <a:noFill/>
          </a:ln>
        </p:spPr>
      </p:pic>
      <p:sp>
        <p:nvSpPr>
          <p:cNvPr id="89" name="">
            <a:hlinkClick r:id="rId2"/>
          </p:cNvPr>
          <p:cNvSpPr/>
          <p:nvPr/>
        </p:nvSpPr>
        <p:spPr>
          <a:xfrm>
            <a:off x="1295280" y="3276720"/>
            <a:ext cx="2887920" cy="459720"/>
          </a:xfrm>
          <a:prstGeom prst="rect">
            <a:avLst/>
          </a:prstGeom>
          <a:solidFill>
            <a:srgbClr val="800080"/>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K-6 Rap Lesson </a:t>
            </a:r>
            <a:endParaRPr b="0" lang="en-US" sz="2400" spc="-1" strike="noStrike">
              <a:solidFill>
                <a:srgbClr val="000000"/>
              </a:solidFill>
              <a:latin typeface="Arial"/>
            </a:endParaRPr>
          </a:p>
        </p:txBody>
      </p:sp>
      <p:sp>
        <p:nvSpPr>
          <p:cNvPr id="90" name="">
            <a:hlinkClick r:id="rId3"/>
          </p:cNvPr>
          <p:cNvSpPr/>
          <p:nvPr/>
        </p:nvSpPr>
        <p:spPr>
          <a:xfrm>
            <a:off x="1311480" y="4089240"/>
            <a:ext cx="2853720" cy="459720"/>
          </a:xfrm>
          <a:prstGeom prst="rect">
            <a:avLst/>
          </a:prstGeom>
          <a:solidFill>
            <a:srgbClr val="800080"/>
          </a:solidFill>
          <a:ln w="255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12 Real-life Video</a:t>
            </a:r>
            <a:endParaRPr b="0" lang="en-US" sz="2400" spc="-1" strike="noStrike">
              <a:solidFill>
                <a:srgbClr val="000000"/>
              </a:solidFill>
              <a:latin typeface="Arial"/>
            </a:endParaRPr>
          </a:p>
        </p:txBody>
      </p:sp>
      <p:sp>
        <p:nvSpPr>
          <p:cNvPr id="91" name="">
            <a:hlinkClick r:id="rId4"/>
          </p:cNvPr>
          <p:cNvSpPr/>
          <p:nvPr/>
        </p:nvSpPr>
        <p:spPr>
          <a:xfrm>
            <a:off x="1303200" y="4876920"/>
            <a:ext cx="2887920" cy="459720"/>
          </a:xfrm>
          <a:prstGeom prst="rect">
            <a:avLst/>
          </a:prstGeom>
          <a:solidFill>
            <a:srgbClr val="800080"/>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arent Vide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9T22:08:10Z</dcterms:created>
  <dc:creator>Adrienne DeWolfe</dc:creator>
  <dc:description/>
  <dc:language>en-US</dc:language>
  <cp:lastModifiedBy>jeff.whipple</cp:lastModifiedBy>
  <cp:lastPrinted>2007-01-18T05:12:57Z</cp:lastPrinted>
  <dcterms:modified xsi:type="dcterms:W3CDTF">2007-02-22T18:16:21Z</dcterms:modified>
  <cp:revision>85</cp:revision>
  <dc:subject/>
  <dc:title>CyberSafety Unraveled</dc:title>
</cp:coreProperties>
</file>